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2484C-8A9A-4A63-873D-3BBB4FF2E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149C6-C1CE-4804-BC37-0124DD843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73B97-0030-4820-AE36-2F47CDECD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F616F-E7AF-47E1-BDEA-362D86C91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E8D1C-DFBD-41CD-9173-A348CDD25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8BBC4-0A5B-4B5A-9047-F11E862D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AE5AE-2413-4F10-B980-B086854D1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E4A99-339D-415B-821F-4567C0378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E92A0-ED76-4720-AACB-252AF8263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7A2E-7078-43FA-BB85-9C4C94B5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13293-2008-4A3E-A650-9AFDADB67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2847-E113-429E-85FF-DE635D4AD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C15F-1A07-4C69-801B-99D6F6E38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41.xml"/><Relationship Id="rId3" Type="http://schemas.openxmlformats.org/officeDocument/2006/relationships/slide" Target="slide35.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7.xml"/><Relationship Id="rId3" Type="http://schemas.openxmlformats.org/officeDocument/2006/relationships/slide" Target="slide38.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17.xml"/><Relationship Id="rId10" Type="http://schemas.openxmlformats.org/officeDocument/2006/relationships/slide" Target="slide17.xml"/><Relationship Id="rId11" Type="http://schemas.openxmlformats.org/officeDocument/2006/relationships/slide" Target="slide17.xml"/><Relationship Id="rId12" Type="http://schemas.openxmlformats.org/officeDocument/2006/relationships/slide" Target="slide21.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609480"/>
            <a:ext cx="8915400" cy="457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it-IT" sz="4400" spc="-1" strike="noStrike">
                <a:solidFill>
                  <a:srgbClr val="000000"/>
                </a:solidFill>
                <a:latin typeface="Comic Sans MS"/>
              </a:rPr>
              <a:t>LA BORSA VALORI S.p.A</a:t>
            </a:r>
            <a:r>
              <a:rPr b="0" lang="it-IT" sz="4400" spc="-1" strike="noStrike">
                <a:solidFill>
                  <a:srgbClr val="000000"/>
                </a:solidFill>
                <a:latin typeface="Comic Sans MS"/>
              </a:rPr>
              <a:t>.</a:t>
            </a:r>
            <a:br>
              <a:rPr sz="4800"/>
            </a:br>
            <a:endParaRPr b="0" lang="en-US" sz="4400" spc="-1" strike="noStrike">
              <a:solidFill>
                <a:srgbClr val="000000"/>
              </a:solidFill>
              <a:latin typeface="Times New Roman"/>
            </a:endParaRPr>
          </a:p>
        </p:txBody>
      </p:sp>
      <p:sp>
        <p:nvSpPr>
          <p:cNvPr id="42" name="">
            <a:hlinkClick r:id="" action="ppaction://hlinkshowjump?jump=nextslide"/>
          </p:cNvPr>
          <p:cNvSpPr/>
          <p:nvPr/>
        </p:nvSpPr>
        <p:spPr>
          <a:xfrm>
            <a:off x="7543800" y="579132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 fill="darken" w="38395" h="21600">
                <a:moveTo>
                  <a:pt x="12191" y="3794"/>
                </a:moveTo>
                <a:lnTo>
                  <a:pt x="26204" y="10800"/>
                </a:lnTo>
                <a:lnTo>
                  <a:pt x="12191"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1000"/>
                                  </p:stCondLst>
                                  <p:iterate type="wd">
                                    <p:tmAbs val="300"/>
                                  </p:iterate>
                                  <p:childTnLst>
                                    <p:set>
                                      <p:cBhvr>
                                        <p:cTn id="6" dur="1" fill="hold">
                                          <p:stCondLst>
                                            <p:cond delay="0"/>
                                          </p:stCondLst>
                                        </p:cTn>
                                        <p:tgtEl>
                                          <p:spTgt spid="41"/>
                                        </p:tgtEl>
                                        <p:attrNameLst>
                                          <p:attrName>style.visibility</p:attrName>
                                        </p:attrNameLst>
                                      </p:cBhvr>
                                      <p:to>
                                        <p:strVal val="visible"/>
                                      </p:to>
                                    </p:set>
                                    <p:anim calcmode="lin" valueType="num">
                                      <p:cBhvr additive="base">
                                        <p:cTn id="7" dur="300" fill="hold"/>
                                        <p:tgtEl>
                                          <p:spTgt spid="41"/>
                                        </p:tgtEl>
                                        <p:attrNameLst>
                                          <p:attrName>ppt_x</p:attrName>
                                        </p:attrNameLst>
                                      </p:cBhvr>
                                      <p:tavLst>
                                        <p:tav tm="0">
                                          <p:val>
                                            <p:strVal val="0-#ppt_w/2"/>
                                          </p:val>
                                        </p:tav>
                                        <p:tav tm="100000">
                                          <p:val>
                                            <p:strVal val="#ppt_x"/>
                                          </p:val>
                                        </p:tav>
                                      </p:tavLst>
                                    </p:anim>
                                    <p:anim calcmode="lin" valueType="num">
                                      <p:cBhvr additive="base">
                                        <p:cTn id="8" dur="300" fill="hold"/>
                                        <p:tgtEl>
                                          <p:spTgt spid="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38080" y="533520"/>
            <a:ext cx="7620120" cy="61365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ncentrazione</a:t>
            </a:r>
            <a:r>
              <a:rPr b="0" lang="it-IT" sz="2400" spc="-1" strike="noStrike">
                <a:solidFill>
                  <a:srgbClr val="000000"/>
                </a:solidFill>
                <a:latin typeface="Times New Roman"/>
              </a:rPr>
              <a:t>, in quanto</a:t>
            </a:r>
            <a:r>
              <a:rPr b="1" lang="it-IT" sz="2400" spc="-1" strike="noStrike">
                <a:solidFill>
                  <a:srgbClr val="000000"/>
                </a:solidFill>
                <a:latin typeface="Times New Roman"/>
              </a:rPr>
              <a:t> </a:t>
            </a:r>
            <a:r>
              <a:rPr b="0" lang="it-IT" sz="2400" spc="-1" strike="noStrike">
                <a:solidFill>
                  <a:srgbClr val="000000"/>
                </a:solidFill>
                <a:latin typeface="Times New Roman"/>
              </a:rPr>
              <a:t>le operazioni sui titoli quotati devono affluire in borsa.;</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apidità</a:t>
            </a:r>
            <a:r>
              <a:rPr b="0" lang="it-IT" sz="2400" spc="-1" strike="noStrike">
                <a:solidFill>
                  <a:srgbClr val="000000"/>
                </a:solidFill>
                <a:latin typeface="Times New Roman"/>
              </a:rPr>
              <a:t>, perché l’utilizzo delle più moderne apparecchiature informatiche e telematiche consentono un veloce abbinamento delle proposte;</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Omogeneità, </a:t>
            </a:r>
            <a:r>
              <a:rPr b="0" lang="it-IT" sz="2400" spc="-1" strike="noStrike">
                <a:solidFill>
                  <a:srgbClr val="000000"/>
                </a:solidFill>
                <a:latin typeface="Times New Roman"/>
              </a:rPr>
              <a:t>perché i contratti vengono stipulati a condizioni uniformi, secondo regole standarizzate e per quantitativi non inferiori ai minimi di contrattazione stabiliti; questa omogeneità delle operazioni rende confrontabili le quotazioni di borsa;</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rasparenza, </a:t>
            </a:r>
            <a:r>
              <a:rPr b="0" lang="it-IT" sz="2400" spc="-1" strike="noStrike">
                <a:solidFill>
                  <a:srgbClr val="000000"/>
                </a:solidFill>
                <a:latin typeface="Times New Roman"/>
              </a:rPr>
              <a:t>in quanto esistono numerosi servizi che consentono la rilevazione e la diffusione in tempo reale, di tutte le informazioni riguardanti l’andamento del mercato, i quantitativi trattati e i relativi prezz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ccccff"/>
            </a:gs>
            <a:gs pos="100000">
              <a:srgbClr val="ccffff"/>
            </a:gs>
          </a:gsLst>
          <a:lin ang="8100000"/>
        </a:gradFill>
      </p:bgPr>
    </p:bg>
    <p:spTree>
      <p:nvGrpSpPr>
        <p:cNvPr id="1" name=""/>
        <p:cNvGrpSpPr/>
        <p:nvPr/>
      </p:nvGrpSpPr>
      <p:grpSpPr>
        <a:xfrm>
          <a:off x="0" y="0"/>
          <a:ext cx="0" cy="0"/>
          <a:chOff x="0" y="0"/>
          <a:chExt cx="0" cy="0"/>
        </a:xfrm>
      </p:grpSpPr>
      <p:sp>
        <p:nvSpPr>
          <p:cNvPr id="70" name=""/>
          <p:cNvSpPr/>
          <p:nvPr/>
        </p:nvSpPr>
        <p:spPr>
          <a:xfrm>
            <a:off x="609480" y="380880"/>
            <a:ext cx="7696440" cy="67136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borsa deve offrire agli investitori istituzionali e ai risparmiatori ampie possibilità di scelta; pertanto è opportuno uno sviluppo quantitativo e qualitativo dei titoli trattati, sia per quanto riguarda i valori a reddito fisso o predeterminato sia per quanto riguarda i valori azionari.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ella borsa valori italiana sono quotate poche centinaia di titoli contro le migliaia delle maggiori borse del mondo Per quanto concerne i titoli a reddito fisso o predeterminato prevalgono nettamente i titoli di Stato, seguiti da quelle di società risultanti dalle trasformazioni dei precedenti enti pubblici economici mentre nel settore dei titoli azionari quelli delle imprese industriali sono meno numerosi rispetto a quelli delle imprese finanziarie. Si ricordano inoltre i presupposti necessari per un funzionamento efficiente del mercato di borsa, che sono i seguent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Times New Roman"/>
              </a:rPr>
              <a:t>L’AMPIEZZA</a:t>
            </a:r>
            <a:r>
              <a:rPr b="0" lang="it-IT" sz="2200" spc="-1" strike="noStrike">
                <a:solidFill>
                  <a:srgbClr val="000000"/>
                </a:solidFill>
                <a:latin typeface="Times New Roman"/>
              </a:rPr>
              <a:t>: consiste nella presenza costante sul mercato di numerosi acquirenti e venditori, che effettuano un intenso e ininterrotto volume giornaliero di scambi.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a:hlinkClick r:id="" action="ppaction://hlinkshowjump?jump=nextslide"/>
          </p:cNvPr>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ffff"/>
            </a:gs>
            <a:gs pos="100000">
              <a:srgbClr val="ccccff"/>
            </a:gs>
          </a:gsLst>
          <a:lin ang="8100000"/>
        </a:gradFill>
      </p:bgPr>
    </p:bg>
    <p:spTree>
      <p:nvGrpSpPr>
        <p:cNvPr id="1" name=""/>
        <p:cNvGrpSpPr/>
        <p:nvPr/>
      </p:nvGrpSpPr>
      <p:grpSpPr>
        <a:xfrm>
          <a:off x="0" y="0"/>
          <a:ext cx="0" cy="0"/>
          <a:chOff x="0" y="0"/>
          <a:chExt cx="0" cy="0"/>
        </a:xfrm>
      </p:grpSpPr>
      <p:sp>
        <p:nvSpPr>
          <p:cNvPr id="72" name=""/>
          <p:cNvSpPr/>
          <p:nvPr/>
        </p:nvSpPr>
        <p:spPr>
          <a:xfrm>
            <a:off x="914400" y="457200"/>
            <a:ext cx="7467480" cy="512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Times New Roman"/>
              </a:rPr>
              <a:t>L’ELASTICITA’</a:t>
            </a:r>
            <a:r>
              <a:rPr b="0" lang="it-IT" sz="2200" spc="-1" strike="noStrike">
                <a:solidFill>
                  <a:srgbClr val="000000"/>
                </a:solidFill>
                <a:latin typeface="Times New Roman"/>
              </a:rPr>
              <a:t>: consiste nella prontezza con la quale la domanda e l’offerta reagiscono ad ogni variazione dei prezz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Times New Roman"/>
              </a:rPr>
              <a:t>LO SPESSORE</a:t>
            </a:r>
            <a:r>
              <a:rPr b="0" lang="it-IT" sz="2200" spc="-1" strike="noStrike">
                <a:solidFill>
                  <a:srgbClr val="000000"/>
                </a:solidFill>
                <a:latin typeface="Times New Roman"/>
              </a:rPr>
              <a:t>: è dato dalla presenza di richieste e di offerte non solo al prezzo espresso dal mercato ma anche a livelli superiori e inferiori a tale prezzo;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ttuale impianto giuridico della borsa valori italiana e degli altri mercati regolamentati di strumenti finanziari è stabilito dal Testo unico delle disposizioni in materia di intermediazione finanziaria nel quale sono state trasferite varie disposizioni contenute nel decreto di recepimento della direttiva europea sui servizi di investimento. Queste nuove norme hanno cancellato il carattere pubblicistico dei mercati degli strumenti finanziari, attribuendo loro una natura privata e aprendoli alla concorrenza internazionale, che ora può svilupparsi sia tra i mercati sia tra intermediari.</a:t>
            </a:r>
            <a:endParaRPr b="0" lang="en-US" sz="2200" spc="-1" strike="noStrike">
              <a:solidFill>
                <a:srgbClr val="000000"/>
              </a:solidFill>
              <a:latin typeface="Times New Roman"/>
            </a:endParaRPr>
          </a:p>
        </p:txBody>
      </p:sp>
      <p:sp>
        <p:nvSpPr>
          <p:cNvPr id="73" name="">
            <a:hlinkClick r:id="rId1" action="ppaction://hlinksldjump"/>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99ffcc"/>
            </a:gs>
            <a:gs pos="100000">
              <a:srgbClr val="99ccff"/>
            </a:gs>
          </a:gsLst>
          <a:lin ang="8100000"/>
        </a:gradFill>
      </p:bgPr>
    </p:bg>
    <p:spTree>
      <p:nvGrpSpPr>
        <p:cNvPr id="1" name=""/>
        <p:cNvGrpSpPr/>
        <p:nvPr/>
      </p:nvGrpSpPr>
      <p:grpSpPr>
        <a:xfrm>
          <a:off x="0" y="0"/>
          <a:ext cx="0" cy="0"/>
          <a:chOff x="0" y="0"/>
          <a:chExt cx="0" cy="0"/>
        </a:xfrm>
      </p:grpSpPr>
      <p:sp>
        <p:nvSpPr>
          <p:cNvPr id="74" name=""/>
          <p:cNvSpPr/>
          <p:nvPr/>
        </p:nvSpPr>
        <p:spPr>
          <a:xfrm>
            <a:off x="533520" y="380880"/>
            <a:ext cx="7924680" cy="672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Il Mercato Azionario (M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Il Mercato Azionario è dal 1991 un mercato telematico (MTA).</a:t>
            </a:r>
            <a:r>
              <a:rPr b="1" lang="it-IT" sz="2100" spc="-1" strike="noStrike">
                <a:solidFill>
                  <a:srgbClr val="000000"/>
                </a:solidFill>
                <a:latin typeface="Times New Roman"/>
              </a:rPr>
              <a:t> </a:t>
            </a:r>
            <a:r>
              <a:rPr b="0" lang="it-IT" sz="2100" spc="-1" strike="noStrike">
                <a:solidFill>
                  <a:srgbClr val="000000"/>
                </a:solidFill>
                <a:latin typeface="Times New Roman"/>
              </a:rPr>
              <a:t>La contrattazione di tutti i titoli avviene cioè attraverso il Sistema Telematico che provvede al matching automatico degli ordini in acquisto e in vendita. La capitalizzazione totale della Borsa è cresciuta raggiungendo il 55,6% del PIL e gli scambi azionari sono aumentati fino a portare la Borsa Italiana al quinto posto in Europa per volume di scambi. Oggi un gran numero di scambi</a:t>
            </a:r>
            <a:r>
              <a:rPr b="1" lang="it-IT" sz="2100" spc="-1" strike="noStrike">
                <a:solidFill>
                  <a:srgbClr val="000000"/>
                </a:solidFill>
                <a:latin typeface="Times New Roman"/>
              </a:rPr>
              <a:t> </a:t>
            </a:r>
            <a:r>
              <a:rPr b="0" lang="it-IT" sz="2100" spc="-1" strike="noStrike">
                <a:solidFill>
                  <a:srgbClr val="000000"/>
                </a:solidFill>
                <a:latin typeface="Times New Roman"/>
              </a:rPr>
              <a:t>sono realizzati da investitori stranieri.I</a:t>
            </a:r>
            <a:r>
              <a:rPr b="1" lang="it-IT" sz="2100" spc="-1" strike="noStrike">
                <a:solidFill>
                  <a:srgbClr val="000000"/>
                </a:solidFill>
                <a:latin typeface="Times New Roman"/>
              </a:rPr>
              <a:t> </a:t>
            </a:r>
            <a:r>
              <a:rPr b="0" lang="it-IT" sz="2100" spc="-1" strike="noStrike">
                <a:solidFill>
                  <a:srgbClr val="000000"/>
                </a:solidFill>
                <a:latin typeface="Times New Roman"/>
              </a:rPr>
              <a:t>prodotti</a:t>
            </a:r>
            <a:r>
              <a:rPr b="1" lang="it-IT" sz="2100" spc="-1" strike="noStrike">
                <a:solidFill>
                  <a:srgbClr val="000000"/>
                </a:solidFill>
                <a:latin typeface="Times New Roman"/>
              </a:rPr>
              <a:t> </a:t>
            </a:r>
            <a:r>
              <a:rPr b="0" lang="it-IT" sz="2100" spc="-1" strike="noStrike">
                <a:solidFill>
                  <a:srgbClr val="000000"/>
                </a:solidFill>
                <a:latin typeface="Times New Roman"/>
              </a:rPr>
              <a:t>negoziati all'interno dell'MTA sono</a:t>
            </a:r>
            <a:r>
              <a:rPr b="1" lang="it-IT" sz="2100" spc="-1" strike="noStrike">
                <a:solidFill>
                  <a:srgbClr val="000000"/>
                </a:solidFill>
                <a:latin typeface="Times New Roman"/>
              </a:rPr>
              <a:t>:</a:t>
            </a:r>
            <a:r>
              <a:rPr b="0" lang="it-IT" sz="2100" spc="-1" strike="noStrike">
                <a:solidFill>
                  <a:srgbClr val="000000"/>
                </a:solidFill>
                <a:latin typeface="Times New Roman"/>
              </a:rPr>
              <a:t> </a:t>
            </a:r>
            <a:endParaRPr b="0" lang="en-US" sz="21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azioni ordinarie </a:t>
            </a:r>
            <a:endParaRPr b="0" lang="en-US" sz="21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azioni privilegiate </a:t>
            </a:r>
            <a:endParaRPr b="0" lang="en-US" sz="21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azioni di risparmio </a:t>
            </a:r>
            <a:endParaRPr b="0" lang="en-US" sz="21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Obbligazioni convertibili </a:t>
            </a:r>
            <a:endParaRPr b="0" lang="en-US" sz="21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diritti di opzione </a:t>
            </a:r>
            <a:endParaRPr b="0" lang="en-US" sz="21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Warrant </a:t>
            </a:r>
            <a:endParaRPr b="0" lang="en-US" sz="21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Covered Warrant </a:t>
            </a:r>
            <a:endParaRPr b="0" lang="en-US" sz="21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certificati rappresentativi di quote di fondi mobiliari e fondi immobiliari chiusi.</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5" name="">
            <a:hlinkClick r:id="rId1" action="ppaction://hlinksldjump"/>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ccffff"/>
            </a:gs>
            <a:gs pos="100000">
              <a:srgbClr val="99ff99"/>
            </a:gs>
          </a:gsLst>
          <a:lin ang="8100000"/>
        </a:gradFill>
      </p:bgPr>
    </p:bg>
    <p:spTree>
      <p:nvGrpSpPr>
        <p:cNvPr id="1" name=""/>
        <p:cNvGrpSpPr/>
        <p:nvPr/>
      </p:nvGrpSpPr>
      <p:grpSpPr>
        <a:xfrm>
          <a:off x="0" y="0"/>
          <a:ext cx="0" cy="0"/>
          <a:chOff x="0" y="0"/>
          <a:chExt cx="0" cy="0"/>
        </a:xfrm>
      </p:grpSpPr>
      <p:sp>
        <p:nvSpPr>
          <p:cNvPr id="76" name=""/>
          <p:cNvSpPr/>
          <p:nvPr/>
        </p:nvSpPr>
        <p:spPr>
          <a:xfrm>
            <a:off x="685800" y="762120"/>
            <a:ext cx="7391520" cy="478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rPr>
              <a:t>Mercato obbligazionario e dei titoli di stato (MO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Il MOT è nato come mercato al dettaglio </a:t>
            </a:r>
            <a:r>
              <a:rPr b="0" lang="it-IT" sz="2200" spc="-1" strike="noStrike">
                <a:solidFill>
                  <a:srgbClr val="000000"/>
                </a:solidFill>
                <a:latin typeface="Times New Roman"/>
              </a:rPr>
              <a:t>nel luglio del 1994 dall'unificazione in un unico mercato telematico delle 10 borse valori italiane. Tutte le transazioni vengono effettuate da banche, imprese di investimento ed agenti di cambio autorizzati ai sensi del Testo Unico della Finanza.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l </a:t>
            </a:r>
            <a:r>
              <a:rPr b="1" lang="it-IT" sz="2200" spc="-1" strike="noStrike">
                <a:solidFill>
                  <a:srgbClr val="000000"/>
                </a:solidFill>
                <a:latin typeface="Times New Roman"/>
              </a:rPr>
              <a:t>MOT</a:t>
            </a:r>
            <a:r>
              <a:rPr b="0" lang="it-IT" sz="2200" spc="-1" strike="noStrike">
                <a:solidFill>
                  <a:srgbClr val="000000"/>
                </a:solidFill>
                <a:latin typeface="Times New Roman"/>
              </a:rPr>
              <a:t> è un comparto del mercato di Borsa dove vengono negoziati contratti di compravendita relativi a titoli di Stato e obbligazioni non convertibili.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Borsa Italiana stabilisce i quantitativi minimi negoziabili tenendo conto sia delle esigenze di funzionalità del mercato, di agevole accesso al mercato da parte degli investitori istituzionali sia dell'economicità nell'esecuzione degli ordini. </a:t>
            </a:r>
            <a:endParaRPr b="0" lang="en-US" sz="2200" spc="-1" strike="noStrike">
              <a:solidFill>
                <a:srgbClr val="000000"/>
              </a:solidFill>
              <a:latin typeface="Times New Roman"/>
            </a:endParaRPr>
          </a:p>
        </p:txBody>
      </p:sp>
      <p:sp>
        <p:nvSpPr>
          <p:cNvPr id="77" name="">
            <a:hlinkClick r:id="" action="ppaction://hlinkshowjump?jump=nextslide"/>
          </p:cNvPr>
          <p:cNvSpPr/>
          <p:nvPr/>
        </p:nvSpPr>
        <p:spPr>
          <a:xfrm>
            <a:off x="800100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3794"/>
                </a:moveTo>
                <a:lnTo>
                  <a:pt x="23201" y="10800"/>
                </a:lnTo>
                <a:lnTo>
                  <a:pt x="9188"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99ffcc"/>
            </a:gs>
            <a:gs pos="100000">
              <a:srgbClr val="ccffff"/>
            </a:gs>
          </a:gsLst>
          <a:lin ang="13500000"/>
        </a:gradFill>
      </p:bgPr>
    </p:bg>
    <p:spTree>
      <p:nvGrpSpPr>
        <p:cNvPr id="1" name=""/>
        <p:cNvGrpSpPr/>
        <p:nvPr/>
      </p:nvGrpSpPr>
      <p:grpSpPr>
        <a:xfrm>
          <a:off x="0" y="0"/>
          <a:ext cx="0" cy="0"/>
          <a:chOff x="0" y="0"/>
          <a:chExt cx="0" cy="0"/>
        </a:xfrm>
      </p:grpSpPr>
      <p:sp>
        <p:nvSpPr>
          <p:cNvPr id="78" name=""/>
          <p:cNvSpPr/>
          <p:nvPr/>
        </p:nvSpPr>
        <p:spPr>
          <a:xfrm>
            <a:off x="457200" y="685800"/>
            <a:ext cx="7848720" cy="745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e categorie di valori mobiliari negoziati nel MOT si differenziano in base alla natura dell'emittente (ente pubblico o privato) e alla modalità di remunerazione :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100" spc="-1" strike="noStrike">
                <a:solidFill>
                  <a:srgbClr val="000000"/>
                </a:solidFill>
                <a:latin typeface="Times New Roman"/>
              </a:rPr>
              <a:t>a tasso fisso: BTP (Buoni del Tesoro Poliennali)</a:t>
            </a:r>
            <a:endParaRPr b="0" lang="en-US" sz="2100" spc="-1" strike="noStrike">
              <a:solidFill>
                <a:srgbClr val="000000"/>
              </a:solidFill>
              <a:latin typeface="Times New Roman"/>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Titoli di Stato:    </a:t>
            </a:r>
            <a:r>
              <a:rPr b="0" lang="it-IT" sz="2100" spc="-1" strike="noStrike">
                <a:solidFill>
                  <a:srgbClr val="000000"/>
                </a:solidFill>
                <a:latin typeface="Times New Roman"/>
              </a:rPr>
              <a:t>a tasso variabile: CCT (Certificati di credito del                      </a:t>
            </a:r>
            <a:r>
              <a:rPr b="0" lang="it-IT" sz="2000" spc="-1" strike="noStrike">
                <a:solidFill>
                  <a:srgbClr val="000000"/>
                </a:solidFill>
                <a:latin typeface="Times New Roman"/>
              </a:rPr>
              <a:t>(emessi dallo stato)</a:t>
            </a:r>
            <a:r>
              <a:rPr b="0" lang="it-IT" sz="2200" spc="-1" strike="noStrike">
                <a:solidFill>
                  <a:srgbClr val="000000"/>
                </a:solidFill>
                <a:latin typeface="Times New Roman"/>
              </a:rPr>
              <a:t> </a:t>
            </a:r>
            <a:r>
              <a:rPr b="0" lang="it-IT" sz="2100" spc="-1" strike="noStrike">
                <a:solidFill>
                  <a:srgbClr val="000000"/>
                </a:solidFill>
                <a:latin typeface="Times New Roman"/>
              </a:rPr>
              <a:t>                                       tesoro)</a:t>
            </a:r>
            <a:endParaRPr b="0" lang="en-US" sz="2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                               </a:t>
            </a:r>
            <a:r>
              <a:rPr b="0" lang="it-IT" sz="2100" spc="-1" strike="noStrike">
                <a:solidFill>
                  <a:srgbClr val="000000"/>
                </a:solidFill>
                <a:latin typeface="Times New Roman"/>
              </a:rPr>
              <a:t>di puro sconto: BOT (Buoni Ordinari del                                              </a:t>
            </a:r>
            <a:endParaRPr b="0" lang="en-US" sz="2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                                                                   </a:t>
            </a:r>
            <a:r>
              <a:rPr b="0" lang="it-IT" sz="2100" spc="-1" strike="noStrike">
                <a:solidFill>
                  <a:srgbClr val="000000"/>
                </a:solidFill>
                <a:latin typeface="Times New Roman"/>
              </a:rPr>
              <a:t>Tesoro) </a:t>
            </a:r>
            <a:endParaRPr b="0" lang="en-US" sz="2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                                                        </a:t>
            </a:r>
            <a:r>
              <a:rPr b="0" lang="it-IT" sz="2100" spc="-1" strike="noStrike">
                <a:solidFill>
                  <a:srgbClr val="000000"/>
                </a:solidFill>
                <a:latin typeface="Times New Roman"/>
              </a:rPr>
              <a:t>CTZ (Certificati di Credito del                                                                                                       </a:t>
            </a:r>
            <a:endParaRPr b="0" lang="en-US" sz="2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                                                                  </a:t>
            </a:r>
            <a:r>
              <a:rPr b="0" lang="it-IT" sz="2100" spc="-1" strike="noStrike">
                <a:solidFill>
                  <a:srgbClr val="000000"/>
                </a:solidFill>
                <a:latin typeface="Times New Roman"/>
              </a:rPr>
              <a:t>Tesoro Zero Coupon)</a:t>
            </a:r>
            <a:endParaRPr b="0" lang="en-US" sz="2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a tasso fisso</a:t>
            </a:r>
            <a:endParaRPr b="0" lang="en-US" sz="2200" spc="-1" strike="noStrike">
              <a:solidFill>
                <a:srgbClr val="000000"/>
              </a:solidFill>
              <a:latin typeface="Times New Roman"/>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Obbligazioni                                      a tasso variabile</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messi da società o ente pubblico)</a:t>
            </a:r>
            <a:r>
              <a:rPr b="0" lang="it-IT" sz="2200" spc="-1" strike="noStrike">
                <a:solidFill>
                  <a:srgbClr val="000000"/>
                </a:solidFill>
                <a:latin typeface="Times New Roman"/>
              </a:rPr>
              <a:t>               indicizzate</a:t>
            </a:r>
            <a:endParaRPr b="0" lang="en-US" sz="2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8381880" y="64008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10800"/>
                </a:moveTo>
                <a:lnTo>
                  <a:pt x="25004" y="3794"/>
                </a:lnTo>
                <a:lnTo>
                  <a:pt x="2500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99ffcc"/>
            </a:gs>
            <a:gs pos="100000">
              <a:srgbClr val="009999"/>
            </a:gs>
          </a:gsLst>
          <a:lin ang="8100000"/>
        </a:gradFill>
      </p:bgPr>
    </p:bg>
    <p:spTree>
      <p:nvGrpSpPr>
        <p:cNvPr id="1" name=""/>
        <p:cNvGrpSpPr/>
        <p:nvPr/>
      </p:nvGrpSpPr>
      <p:grpSpPr>
        <a:xfrm>
          <a:off x="0" y="0"/>
          <a:ext cx="0" cy="0"/>
          <a:chOff x="0" y="0"/>
          <a:chExt cx="0" cy="0"/>
        </a:xfrm>
      </p:grpSpPr>
      <p:sp>
        <p:nvSpPr>
          <p:cNvPr id="80" name=""/>
          <p:cNvSpPr/>
          <p:nvPr/>
        </p:nvSpPr>
        <p:spPr>
          <a:xfrm>
            <a:off x="914400" y="457200"/>
            <a:ext cx="7162920" cy="70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80"/>
                </a:solidFill>
                <a:latin typeface="Comic Sans MS"/>
              </a:rPr>
              <a:t>IL NUOVO MERCATO</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Obiettivo del Nuovo Mercato è di rispondere alle esigenze delle piccole e medie imprese (PMI) che vogliono crescere e realizzare gli investimenti strategici necessari allo sviluppo e al rafforzamento competitivo funzionale al successo futuro.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 soggetti ai quali è rivolto il Nuovo Mercato sono le imprese innovative, operanti in settori ad alto contenuto tecnologico o considerati "tradizionali", ma caratterizzate da un approccio innovativo di prodotto, processo o servizio e da ambiziosi programmi di espansione. Il Nuovo Mercato fornisce l'accesso al capitale di rischio adeguato e flessibile in funzione dei bisogni specifici delle fasi di sviluppo e consolidamento delle attività produttive, quando gli investimenti necessari alla crescita non sono reperibili sui canali tradizionali di finanziamento a condizioni vantaggiose o semplici da soddisfare.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380880" y="193680"/>
            <a:ext cx="8153640" cy="66776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80"/>
                </a:solidFill>
                <a:latin typeface="Times New Roman"/>
              </a:rPr>
              <a:t>IL MERCATO RISTRET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mercato ristretto si tiene nel tardo pomeriggio nelle stesse sedi della Borsa valori e riguarda le azioni di società che attendono di acquisire i requisiti e la diffusione tra il pubblico che sono richiesti per la quotazione al mercato principal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80"/>
                </a:solidFill>
                <a:latin typeface="Times New Roman"/>
              </a:rPr>
              <a:t>IL MERCATO DEI DERIVAT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Borsa Italiana organizza, gestisce e sviluppa i mercati dei derivati</a:t>
            </a:r>
            <a:r>
              <a:rPr b="1" lang="it-IT" sz="2400" spc="-1" strike="noStrike">
                <a:solidFill>
                  <a:srgbClr val="000000"/>
                </a:solidFill>
                <a:latin typeface="Times New Roman"/>
              </a:rPr>
              <a:t> </a:t>
            </a:r>
            <a:r>
              <a:rPr b="0" lang="it-IT" sz="2400" spc="-1" strike="noStrike">
                <a:solidFill>
                  <a:srgbClr val="000000"/>
                </a:solidFill>
                <a:latin typeface="Times New Roman"/>
              </a:rPr>
              <a:t>contribuendo all'allocazione ottimale dei rischi di mercato tra i diversi attori e all'attuazione delle strategie di rischio e rendimento ricercate da ciascun investito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li operatori italiani ed esteri, nonché gli investitori privati hanno la possibilità di investire in prodotti derivati sul mercato azionario italiano (mercato IDEM) e su tassi d'interesse europei (mercato MIF), ai prezzi espressivi della domanda e dell'offerta competitiva fra i partecipanti al merca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
            <a:hlinkClick r:id="" action="ppaction://hlinkshowjump?jump=next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99ff99"/>
            </a:gs>
            <a:gs pos="100000">
              <a:srgbClr val="99ccff"/>
            </a:gs>
          </a:gsLst>
          <a:lin ang="8100000"/>
        </a:gradFill>
      </p:bgPr>
    </p:bg>
    <p:spTree>
      <p:nvGrpSpPr>
        <p:cNvPr id="1" name=""/>
        <p:cNvGrpSpPr/>
        <p:nvPr/>
      </p:nvGrpSpPr>
      <p:grpSpPr>
        <a:xfrm>
          <a:off x="0" y="0"/>
          <a:ext cx="0" cy="0"/>
          <a:chOff x="0" y="0"/>
          <a:chExt cx="0" cy="0"/>
        </a:xfrm>
      </p:grpSpPr>
      <p:sp>
        <p:nvSpPr>
          <p:cNvPr id="84" name=""/>
          <p:cNvSpPr/>
          <p:nvPr/>
        </p:nvSpPr>
        <p:spPr>
          <a:xfrm>
            <a:off x="838080" y="609480"/>
            <a:ext cx="7848720" cy="705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Mercato Italiano dei Derivati (IDEM) </a:t>
            </a:r>
            <a:r>
              <a:rPr b="0" lang="it-IT" sz="2400" spc="-1" strike="noStrike">
                <a:solidFill>
                  <a:srgbClr val="000000"/>
                </a:solidFill>
                <a:latin typeface="Times New Roman"/>
              </a:rPr>
              <a:t>è nato il 28 novembre 1994 con l'inizio della negoziazione in via telematica del contratto future sull'indice MIB 30. Nel novembre 1995 ha avuto inizio la contrattazione delle opzioni sull'indice MIB 30.Nel febbraio 1996 sono stati introdotti i primi 5 contratti di opzione su singoli titoli azionari, portati oggi a 26. Dal marzo 1998, inoltre, viene quotato sull'IDEM il contratto future su Midex. Nell’ambito di tale mercato è possibile distinguere: il </a:t>
            </a:r>
            <a:r>
              <a:rPr b="1" i="1" lang="it-IT" sz="2400" spc="-1" strike="noStrike">
                <a:solidFill>
                  <a:srgbClr val="000000"/>
                </a:solidFill>
                <a:latin typeface="Times New Roman"/>
              </a:rPr>
              <a:t>MIF</a:t>
            </a:r>
            <a:r>
              <a:rPr b="1" i="1" lang="it-IT" sz="2400" spc="-1" strike="noStrike" u="sng">
                <a:solidFill>
                  <a:srgbClr val="ccccff"/>
                </a:solidFill>
                <a:uFillTx/>
                <a:latin typeface="Times New Roman"/>
                <a:hlinkClick r:id="rId1" action="ppaction://hlinksldjump"/>
              </a:rPr>
              <a:t> </a:t>
            </a:r>
            <a:r>
              <a:rPr b="0" lang="it-IT" sz="2400" spc="-1" strike="noStrike">
                <a:solidFill>
                  <a:srgbClr val="000000"/>
                </a:solidFill>
                <a:latin typeface="Times New Roman"/>
              </a:rPr>
              <a:t>e </a:t>
            </a:r>
            <a:r>
              <a:rPr b="0" lang="it-IT" sz="2400" spc="-1" strike="noStrike" u="sng">
                <a:solidFill>
                  <a:srgbClr val="ccccff"/>
                </a:solidFill>
                <a:uFillTx/>
                <a:latin typeface="Times New Roman"/>
                <a:hlinkClick r:id="rId2" action="ppaction://hlinksldjump"/>
              </a:rPr>
              <a:t>l'</a:t>
            </a:r>
            <a:r>
              <a:rPr b="1" i="1" lang="it-IT" sz="2400" spc="-1" strike="noStrike">
                <a:solidFill>
                  <a:srgbClr val="000000"/>
                </a:solidFill>
                <a:latin typeface="Times New Roman"/>
              </a:rPr>
              <a:t>M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tratto future: consiste in un impegno che dovrà essere eseguito alla scadenza stabilita ma nel quale il prezzo viene prefissato allatto della stipulazione pagamento e consegna. Option: è un contratto che contro pagamento di un premio, attribuisce il diritto, ma non lobbligo di acquistare o vendere un bene a un prezzo e a una scadenza prestabiliti in contrat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10800"/>
                </a:moveTo>
                <a:lnTo>
                  <a:pt x="25511" y="3794"/>
                </a:lnTo>
                <a:lnTo>
                  <a:pt x="25511"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838080"/>
            <a:ext cx="8305920" cy="4483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MIF: </a:t>
            </a:r>
            <a:r>
              <a:rPr b="0" lang="it-IT" sz="2400" spc="-1" strike="noStrike">
                <a:solidFill>
                  <a:srgbClr val="000000"/>
                </a:solidFill>
                <a:latin typeface="Times New Roman"/>
              </a:rPr>
              <a:t>è il mercato italiano dei futures. Rappresenta il primo mercato regolamentato di strumenti derivati creato in Italia. Oggi è uno dei circuiti telematici più raffinati, innovativi e tecnologicamente avanzati in ambito europeo, che garantisce la massima trasparenza ed efficienza delle negoziazioni dei prodotti trattati. Nato nel 1992 è gestito da Borsa Italiana dal maggio del 1998. Sul MIF sono negoziati i contratti future sul BTP a 30 anni e sul BTP a 10 anni e il contratto future sul tasso EURIBOR a 1 mese. Nel giugno 1998 il mercato MIF è entrato a far parte dell'</a:t>
            </a:r>
            <a:r>
              <a:rPr b="1" lang="it-IT" sz="2400" spc="-1" strike="noStrike">
                <a:solidFill>
                  <a:srgbClr val="000000"/>
                </a:solidFill>
                <a:latin typeface="Times New Roman"/>
              </a:rPr>
              <a:t>Alleanza </a:t>
            </a:r>
            <a:r>
              <a:rPr b="0" lang="it-IT" sz="2400" spc="-1" strike="noStrike">
                <a:solidFill>
                  <a:srgbClr val="000000"/>
                </a:solidFill>
                <a:latin typeface="Times New Roman"/>
              </a:rPr>
              <a:t>Euro-GLOBEX (fra Francia, Italia, Portogallo e Spagna) offrendo ai propri aderenti l'accesso a mercati e prodotti internazionali. </a:t>
            </a:r>
            <a:endParaRPr b="0" lang="en-US" sz="2400" spc="-1" strike="noStrike">
              <a:solidFill>
                <a:srgbClr val="000000"/>
              </a:solidFill>
              <a:latin typeface="Times New Roman"/>
            </a:endParaRPr>
          </a:p>
        </p:txBody>
      </p:sp>
      <p:sp>
        <p:nvSpPr>
          <p:cNvPr id="87" name=""/>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100000">
              <a:srgbClr val="3333cc"/>
            </a:gs>
          </a:gsLst>
          <a:lin ang="8100000"/>
        </a:gradFill>
      </p:bgPr>
    </p:bg>
    <p:spTree>
      <p:nvGrpSpPr>
        <p:cNvPr id="1" name=""/>
        <p:cNvGrpSpPr/>
        <p:nvPr/>
      </p:nvGrpSpPr>
      <p:grpSpPr>
        <a:xfrm>
          <a:off x="0" y="0"/>
          <a:ext cx="0" cy="0"/>
          <a:chOff x="0" y="0"/>
          <a:chExt cx="0" cy="0"/>
        </a:xfrm>
      </p:grpSpPr>
      <p:sp>
        <p:nvSpPr>
          <p:cNvPr id="43" name=""/>
          <p:cNvSpPr/>
          <p:nvPr/>
        </p:nvSpPr>
        <p:spPr>
          <a:xfrm>
            <a:off x="533520" y="457200"/>
            <a:ext cx="8153280" cy="960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BORSA ITALIANA S.P.A.         THE LONDON STOCK EX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r>
              <a:rPr b="0" lang="it-IT" sz="1800" spc="-1" strike="noStrike">
                <a:solidFill>
                  <a:srgbClr val="000000"/>
                </a:solidFill>
                <a:latin typeface="MS Sans Serif"/>
              </a:rPr>
              <a:t>(</a:t>
            </a:r>
            <a:r>
              <a:rPr b="0" i="1" lang="it-IT" sz="1800" spc="-1" strike="noStrike">
                <a:solidFill>
                  <a:srgbClr val="000000"/>
                </a:solidFill>
                <a:latin typeface="MS Sans Serif"/>
              </a:rPr>
              <a:t>Definizione</a:t>
            </a:r>
            <a:r>
              <a:rPr b="0" lang="it-IT" sz="1800" spc="-1" strike="noStrike">
                <a:solidFill>
                  <a:srgbClr val="000000"/>
                </a:solidFill>
                <a:latin typeface="MS Sans Serif"/>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r>
              <a:rPr b="1" lang="it-IT" sz="1800" spc="-1" strike="noStrike">
                <a:solidFill>
                  <a:srgbClr val="000000"/>
                </a:solidFill>
                <a:latin typeface="Comic Sans MS"/>
              </a:rPr>
              <a:t>STORIA:                                      INGLE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r>
              <a:rPr b="0" lang="it-IT" sz="1800" spc="-1" strike="noStrike">
                <a:solidFill>
                  <a:srgbClr val="000000"/>
                </a:solidFill>
                <a:latin typeface="Times New Roman"/>
              </a:rPr>
              <a:t>Origini ed evoluzione in Ital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risi del 192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r>
              <a:rPr b="0" lang="it-IT" sz="1800" spc="-1" strike="noStrike" u="sng">
                <a:solidFill>
                  <a:srgbClr val="ccccff"/>
                </a:solidFill>
                <a:uFillTx/>
                <a:latin typeface="MS Sans Serif"/>
                <a:hlinkClick r:id="rId1" action="ppaction://hlinksldjump"/>
              </a:rPr>
              <a:t>Origini ed evoluzione</a:t>
            </a:r>
            <a:r>
              <a:rPr b="0" lang="it-IT" sz="1800" spc="-1" strike="noStrike">
                <a:solidFill>
                  <a:srgbClr val="000000"/>
                </a:solidFill>
                <a:latin typeface="Times New Roman"/>
              </a:rPr>
              <a:t> 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ghilter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        </a:t>
            </a:r>
            <a:r>
              <a:rPr b="1" lang="it-IT" sz="1800" spc="-1" strike="noStrike">
                <a:solidFill>
                  <a:srgbClr val="000000"/>
                </a:solidFill>
                <a:latin typeface="Comic Sans MS"/>
              </a:rPr>
              <a:t>TECNIC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aratteristiche; caratteri; mercat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dici; cambiamenti, negoziazion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ordini, tipi di titoli trattati…….</a:t>
            </a:r>
            <a:r>
              <a:rPr b="0" lang="it-IT" sz="1800" spc="-1" strike="noStrike">
                <a:solidFill>
                  <a:srgbClr val="000000"/>
                </a:solidFill>
                <a:latin typeface="Times New Roman"/>
              </a:rPr>
              <a:t>	</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u="sng">
                <a:solidFill>
                  <a:srgbClr val="ccccff"/>
                </a:solidFill>
                <a:uFillTx/>
                <a:latin typeface="Times New Roman"/>
                <a:hlinkClick r:id="rId2" action="ppaction://hlinksldjump"/>
              </a:rPr>
              <a:t> Funzioni </a:t>
            </a:r>
            <a:r>
              <a:rPr b="0" lang="it-IT" sz="1800" spc="-1" strike="noStrike">
                <a:solidFill>
                  <a:srgbClr val="000000"/>
                </a:solidFill>
                <a:latin typeface="Times New Roman"/>
              </a:rPr>
              <a:t> di London Stock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Exchan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r>
              <a:rPr b="1" lang="it-IT" sz="1800" spc="-1" strike="noStrike">
                <a:solidFill>
                  <a:srgbClr val="000000"/>
                </a:solidFill>
                <a:latin typeface="Comic Sans MS"/>
              </a:rPr>
              <a:t>INFORMATICA</a:t>
            </a:r>
            <a:r>
              <a:rPr b="0" lang="it-IT" sz="1800" spc="-1" strike="noStrike">
                <a:solidFill>
                  <a:srgbClr val="000000"/>
                </a:solidFill>
                <a:latin typeface="Times New Roman"/>
              </a:rPr>
              <a:t>:                           </a:t>
            </a:r>
            <a:r>
              <a:rPr b="1" lang="it-IT" sz="1800" spc="-1" strike="noStrike">
                <a:solidFill>
                  <a:srgbClr val="000000"/>
                </a:solidFill>
                <a:latin typeface="Comic Sans MS"/>
              </a:rPr>
              <a:t>FINANZE</a:t>
            </a:r>
            <a:r>
              <a:rPr b="0" lang="it-IT" sz="1800" spc="-1" strike="noStrike">
                <a:solidFill>
                  <a:srgbClr val="000000"/>
                </a:solidFill>
                <a:latin typeface="MS Sans Serif"/>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ccccff"/>
                </a:solidFill>
                <a:uFillTx/>
                <a:latin typeface="Times New Roman"/>
                <a:hlinkClick r:id="rId3" action="ppaction://hlinksldjump"/>
              </a:rPr>
              <a:t>Sistema telematico</a:t>
            </a:r>
            <a:r>
              <a:rPr b="0" lang="it-IT" sz="1800" spc="-1" strike="noStrike">
                <a:solidFill>
                  <a:srgbClr val="000000"/>
                </a:solidFill>
                <a:latin typeface="Times New Roman"/>
              </a:rPr>
              <a:t>                           la privatizzazi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Organi di vigilanza               </a:t>
            </a:r>
            <a:r>
              <a:rPr b="0" lang="it-IT" sz="1800" spc="-1" strike="noStrike" u="sng">
                <a:solidFill>
                  <a:srgbClr val="ccccff"/>
                </a:solidFill>
                <a:uFillTx/>
                <a:latin typeface="Times New Roman"/>
                <a:hlinkClick r:id="rId4" action="ppaction://hlinksldjump"/>
              </a:rPr>
              <a:t>composizi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della Borsa Valor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S Sans Serif"/>
              </a:rPr>
              <a:t>                                                                       </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
          <p:cNvSpPr/>
          <p:nvPr/>
        </p:nvSpPr>
        <p:spPr>
          <a:xfrm>
            <a:off x="1981080" y="1143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629400" y="990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934320" y="33526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981080" y="2743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81680" y="2209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0866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1752120" y="4648320"/>
            <a:ext cx="228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352680" y="4800600"/>
            <a:ext cx="990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88" name=""/>
          <p:cNvSpPr/>
          <p:nvPr/>
        </p:nvSpPr>
        <p:spPr>
          <a:xfrm>
            <a:off x="533520" y="376200"/>
            <a:ext cx="8001000" cy="65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MTO: </a:t>
            </a:r>
            <a:r>
              <a:rPr b="0" lang="it-IT" sz="2400" spc="-1" strike="noStrike">
                <a:solidFill>
                  <a:srgbClr val="000000"/>
                </a:solidFill>
                <a:latin typeface="Times New Roman"/>
              </a:rPr>
              <a:t>la volontà di completare il nostro mercato mobiliare con nuovi tipi di contratti ha portato anche all'istituzione del mercato dei contratti uniformi a termine di opzioni sui contratti futures in titoli di Stato, denominato comunemente </a:t>
            </a:r>
            <a:r>
              <a:rPr b="1" lang="it-IT" sz="2400" spc="-1" strike="noStrike">
                <a:solidFill>
                  <a:srgbClr val="000000"/>
                </a:solidFill>
                <a:latin typeface="Times New Roman"/>
              </a:rPr>
              <a:t>mercato telematico delle opzioni</a:t>
            </a:r>
            <a:r>
              <a:rPr b="0" lang="it-IT" sz="2400" spc="-1" strike="noStrike">
                <a:solidFill>
                  <a:srgbClr val="000000"/>
                </a:solidFill>
                <a:latin typeface="Times New Roman"/>
              </a:rPr>
              <a:t>. L'MTO si avvale dello stesso circuito telematico, della stessa organizzazione, delle stesse categorie di soggetti aderenti e della medesima Cassa di composizione e garanzia utilizzati dal MIF. In questo mercato sono attualmente quotati le opzioni call e put su BTP futures a dieci anni ; pertanto:</a:t>
            </a: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 l'acquisto di un opzione call il compratore si riserva il diritto di acquistare a un prezzo prefissato un contratto da euro 100 000 000 di futures su BTP decennali;</a:t>
            </a: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 l'acquisto di un opzione put il compratore si riserva il diritto di vendere a un prezzo prefissato un contratto da euro 100 000 di futures su BTP decennal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6699"/>
            </a:gs>
            <a:gs pos="100000">
              <a:srgbClr val="99ccff"/>
            </a:gs>
          </a:gsLst>
          <a:lin ang="13500000"/>
        </a:gradFill>
      </p:bgPr>
    </p:bg>
    <p:spTree>
      <p:nvGrpSpPr>
        <p:cNvPr id="1" name=""/>
        <p:cNvGrpSpPr/>
        <p:nvPr/>
      </p:nvGrpSpPr>
      <p:grpSpPr>
        <a:xfrm>
          <a:off x="0" y="0"/>
          <a:ext cx="0" cy="0"/>
          <a:chOff x="0" y="0"/>
          <a:chExt cx="0" cy="0"/>
        </a:xfrm>
      </p:grpSpPr>
      <p:sp>
        <p:nvSpPr>
          <p:cNvPr id="90" name=""/>
          <p:cNvSpPr/>
          <p:nvPr/>
        </p:nvSpPr>
        <p:spPr>
          <a:xfrm>
            <a:off x="533520" y="380880"/>
            <a:ext cx="7772400" cy="671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Lucida Casual"/>
              </a:rPr>
              <a:t>L’INTERMEDIAZIONE MOBILIA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questi ultimi anni la borsa valori italiana ha subito un profondo rinnovamento attraverso provvedimenti di riforma che la hanno allineata alle più grandi borse del mond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ltre a diversi provvedimenti integrativi, quelli con effetti più dirompenti sono stati i seguenti:</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iforma dell’intermediazione avviata con l’istituzione delle SIM e con il decreto legislativo contenente il testo unico delle disposizioni in materia di intermediazione finanziaria.</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iforma delle contrattazioni, indicata come “Big Bang” della borsa italiana, che ha trasformato il mercato facendolo passare dal vecchio sistema della chiamata al moderno sistema ad asta continua Attualmente l’esercizio professionale di servizi di investimento nei confronti del pubblico è riservato alle banche ed alle imprese di investimen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servizi di investimento dì si intendono le seguenti attività:</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Comic Sans MS"/>
              </a:rPr>
              <a:t>Negoziazione per conto proprio;</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Comic Sans MS"/>
              </a:rPr>
              <a:t>Negoziazione per conto di terzi;</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Comic Sans MS"/>
              </a:rPr>
              <a:t>Ricezione e trasmissione di ordini nonché mediazioni;</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r>
              <a:rPr b="0" lang="it-IT" sz="2000" spc="-1" strike="noStrike">
                <a:solidFill>
                  <a:srgbClr val="000000"/>
                </a:solidFill>
                <a:latin typeface="Comic Sans MS"/>
              </a:rPr>
              <a:t>Gestione su base individuale di portafogli di investimento per conto di terz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a:hlinkClick r:id="" action="ppaction://hlinkshowjump?jump=nextslide"/>
          </p:cNvPr>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3794"/>
                </a:moveTo>
                <a:lnTo>
                  <a:pt x="25511" y="10800"/>
                </a:lnTo>
                <a:lnTo>
                  <a:pt x="11498"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99ccff"/>
            </a:gs>
            <a:gs pos="100000">
              <a:srgbClr val="ff6699"/>
            </a:gs>
          </a:gsLst>
          <a:lin ang="8100000"/>
        </a:gradFill>
      </p:bgPr>
    </p:bg>
    <p:spTree>
      <p:nvGrpSpPr>
        <p:cNvPr id="1" name=""/>
        <p:cNvGrpSpPr/>
        <p:nvPr/>
      </p:nvGrpSpPr>
      <p:grpSpPr>
        <a:xfrm>
          <a:off x="0" y="0"/>
          <a:ext cx="0" cy="0"/>
          <a:chOff x="0" y="0"/>
          <a:chExt cx="0" cy="0"/>
        </a:xfrm>
      </p:grpSpPr>
      <p:sp>
        <p:nvSpPr>
          <p:cNvPr id="92" name=""/>
          <p:cNvSpPr/>
          <p:nvPr/>
        </p:nvSpPr>
        <p:spPr>
          <a:xfrm>
            <a:off x="380880" y="380880"/>
            <a:ext cx="8229600" cy="6982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hi vuole  acquistare o vendere un titolo deve rivolgersi a Sim, banche o agenti di cambio ma solo con contratto scritto. Quando il cliente conferisce l'ordine deve specificare alcune condizioni; ci sono infatti diverse possibilità:</a:t>
            </a:r>
            <a:endParaRPr b="0" lang="en-US" sz="2000" spc="-1" strike="noStrike">
              <a:solidFill>
                <a:srgbClr val="000000"/>
              </a:solidFill>
              <a:latin typeface="Times New Roman"/>
            </a:endParaRPr>
          </a:p>
          <a:p>
            <a:pPr lvl="2" marL="914400" algn="just">
              <a:lnSpc>
                <a:spcPct val="9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rdine a prezzo limitato</a:t>
            </a:r>
            <a:r>
              <a:rPr b="0" lang="it-IT" sz="2000" spc="-1" strike="noStrike">
                <a:solidFill>
                  <a:srgbClr val="000000"/>
                </a:solidFill>
                <a:latin typeface="Times New Roman"/>
              </a:rPr>
              <a:t>: l'investitore fissa un prezzo e  l'ordine viene eseguito solo se il mercato offre prezzi più vantaggiosi o uguali;</a:t>
            </a:r>
            <a:endParaRPr b="0" lang="en-US" sz="2000" spc="-1" strike="noStrike">
              <a:solidFill>
                <a:srgbClr val="000000"/>
              </a:solidFill>
              <a:latin typeface="Times New Roman"/>
            </a:endParaRPr>
          </a:p>
          <a:p>
            <a:pPr lvl="2" marL="914400" algn="just">
              <a:lnSpc>
                <a:spcPct val="9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rdine a prezzo di mercato</a:t>
            </a:r>
            <a:r>
              <a:rPr b="0" lang="it-IT" sz="2000" spc="-1" strike="noStrike">
                <a:solidFill>
                  <a:srgbClr val="000000"/>
                </a:solidFill>
                <a:latin typeface="Times New Roman"/>
              </a:rPr>
              <a:t>: l'investitore non fissa alcun prezzo. L'ordine viene comunque eseguito e il prezzo assegnato è il migliore che può essere spuntato sul mercato in quel momento;</a:t>
            </a:r>
            <a:endParaRPr b="0" lang="en-US" sz="2000" spc="-1" strike="noStrike">
              <a:solidFill>
                <a:srgbClr val="000000"/>
              </a:solidFill>
              <a:latin typeface="Times New Roman"/>
            </a:endParaRPr>
          </a:p>
          <a:p>
            <a:pPr lvl="2" marL="914400" algn="just">
              <a:lnSpc>
                <a:spcPct val="9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rdini "curando"</a:t>
            </a:r>
            <a:r>
              <a:rPr b="0" lang="it-IT" sz="2000" spc="-1" strike="noStrike">
                <a:solidFill>
                  <a:srgbClr val="000000"/>
                </a:solidFill>
                <a:latin typeface="Times New Roman"/>
              </a:rPr>
              <a:t> : sarà cura dell'intermediario eseguire in tutto o in parte, o non eseguire, secondo una sua valutazione nell'interesse del cliente.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ordini possono essere ulteriormente specificati:</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on riferimento al tempo</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ido sino all'orario/data specificata</a:t>
            </a:r>
            <a:r>
              <a:rPr b="0" lang="it-IT" sz="2000" spc="-1" strike="noStrike">
                <a:solidFill>
                  <a:srgbClr val="000000"/>
                </a:solidFill>
                <a:latin typeface="Times New Roman"/>
              </a:rPr>
              <a:t>: l'investitore specifica l'ora /la data di scadenza dell'ordin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on riferimento alla quantità</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esegui e cancella</a:t>
            </a:r>
            <a:r>
              <a:rPr b="0" lang="it-IT" sz="2000" spc="-1" strike="noStrike">
                <a:solidFill>
                  <a:srgbClr val="000000"/>
                </a:solidFill>
                <a:latin typeface="Times New Roman"/>
              </a:rPr>
              <a:t>: l'esecuzione totale o parziale deve essere immediata. Ogni eventuale quantità dell'ordine non eseguita sarà cancellata;</a:t>
            </a:r>
            <a:endParaRPr b="0" lang="en-US" sz="2000" spc="-1" strike="noStrike">
              <a:solidFill>
                <a:srgbClr val="000000"/>
              </a:solidFill>
              <a:latin typeface="Times New Roman"/>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esegui quantità minima</a:t>
            </a:r>
            <a:r>
              <a:rPr b="0" lang="it-IT" sz="2000" spc="-1" strike="noStrike">
                <a:solidFill>
                  <a:srgbClr val="000000"/>
                </a:solidFill>
                <a:latin typeface="Times New Roman"/>
              </a:rPr>
              <a:t>: si desidera che venga eseguita almeno una certa quantità dell'ordine, altrimenti si rinuncia all'esecuzione;</a:t>
            </a:r>
            <a:endParaRPr b="0" lang="en-US" sz="2000" spc="-1" strike="noStrike">
              <a:solidFill>
                <a:srgbClr val="000000"/>
              </a:solidFill>
              <a:latin typeface="Times New Roman"/>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esegui tutto o niente</a:t>
            </a:r>
            <a:r>
              <a:rPr b="0" lang="it-IT" sz="2000" spc="-1" strike="noStrike">
                <a:solidFill>
                  <a:srgbClr val="000000"/>
                </a:solidFill>
                <a:latin typeface="Times New Roman"/>
              </a:rPr>
              <a:t>: la proposta deve essere eseguita per l'intero quantitativo indicato al momento dell'inserimento e alle condizioni indicate. Se non c'è esecuzione immediata l'ordine è cancellato.</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a:hlinkClick r:id="" action="ppaction://hlinkshowjump?jump=nextslide"/>
          </p:cNvPr>
          <p:cNvSpPr/>
          <p:nvPr/>
        </p:nvSpPr>
        <p:spPr>
          <a:xfrm>
            <a:off x="8229600" y="64008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6699"/>
            </a:gs>
            <a:gs pos="100000">
              <a:srgbClr val="ccccff"/>
            </a:gs>
          </a:gsLst>
          <a:lin ang="8100000"/>
        </a:gradFill>
      </p:bgPr>
    </p:bg>
    <p:spTree>
      <p:nvGrpSpPr>
        <p:cNvPr id="1" name=""/>
        <p:cNvGrpSpPr/>
        <p:nvPr/>
      </p:nvGrpSpPr>
      <p:grpSpPr>
        <a:xfrm>
          <a:off x="0" y="0"/>
          <a:ext cx="0" cy="0"/>
          <a:chOff x="0" y="0"/>
          <a:chExt cx="0" cy="0"/>
        </a:xfrm>
      </p:grpSpPr>
      <p:sp>
        <p:nvSpPr>
          <p:cNvPr id="94" name=""/>
          <p:cNvSpPr/>
          <p:nvPr/>
        </p:nvSpPr>
        <p:spPr>
          <a:xfrm>
            <a:off x="609480" y="380880"/>
            <a:ext cx="7925040" cy="711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Lucida Casual"/>
              </a:rPr>
              <a:t>COME AVVIENE LA NEGOZIAZION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orsa Italiana gestisce il servizio di riscontro e rettifica giornalieri </a:t>
            </a:r>
            <a:r>
              <a:rPr b="0" lang="it-IT" sz="2000" spc="-1" strike="noStrike">
                <a:solidFill>
                  <a:srgbClr val="000000"/>
                </a:solidFill>
                <a:latin typeface="Times New Roman"/>
              </a:rPr>
              <a:t>(RRG) che provvede alla raccolta dei dati relativi ai contratti di compravendita conclusi, alla verifica della loro corrispondenza biunivoca e alla determinazione dei saldi bilaterali ai fini della loro presentazione al servizio di compensazione e liquidazione degli strumenti finanziari gestito da Banca Italia. </a:t>
            </a:r>
            <a:r>
              <a:rPr b="1" lang="it-IT" sz="2000" spc="-1" strike="noStrike">
                <a:solidFill>
                  <a:srgbClr val="000000"/>
                </a:solidFill>
                <a:latin typeface="Times New Roman"/>
              </a:rPr>
              <a:t>Gli orari di negoziazione sono diversi per ciascun segmento. </a:t>
            </a:r>
            <a:r>
              <a:rPr b="0" lang="it-IT" sz="2000" spc="-1" strike="noStrike">
                <a:solidFill>
                  <a:srgbClr val="000000"/>
                </a:solidFill>
                <a:latin typeface="Times New Roman"/>
              </a:rPr>
              <a:t>La</a:t>
            </a:r>
            <a:r>
              <a:rPr b="1" lang="it-IT" sz="2000" spc="-1" strike="noStrike">
                <a:solidFill>
                  <a:srgbClr val="000000"/>
                </a:solidFill>
                <a:latin typeface="Times New Roman"/>
              </a:rPr>
              <a:t> </a:t>
            </a:r>
            <a:r>
              <a:rPr b="0" lang="it-IT" sz="2000" spc="-1" strike="noStrike">
                <a:solidFill>
                  <a:srgbClr val="000000"/>
                </a:solidFill>
                <a:latin typeface="Times New Roman"/>
              </a:rPr>
              <a:t>Borsa Italiana stabilisce limiti alle variazioni massime di prezzo e altri condizioni di negoziazioni necessarie per assicurare l'ordinato svolgimento delle negoziazioni nei mercati.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Le negoziazioni si svolgono in due fasi successive:</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L'asta di apertura</a:t>
            </a:r>
            <a:r>
              <a:rPr b="0" lang="it-IT" sz="2000" spc="-1" strike="noStrike">
                <a:solidFill>
                  <a:srgbClr val="000000"/>
                </a:solidFill>
                <a:latin typeface="Times New Roman"/>
              </a:rPr>
              <a:t> che ha l'obiettivo di selezionare gli strumenti finanziari negoziabili e di determinare un prezzo iniziale trasparente denominato prezzo di apertura. Questa fase è articolata in tre fasi:</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eterminazione del prezzo teorico di apertura </a:t>
            </a:r>
            <a:r>
              <a:rPr b="1" lang="it-IT" sz="2000" spc="-1" strike="noStrike">
                <a:solidFill>
                  <a:srgbClr val="000000"/>
                </a:solidFill>
                <a:latin typeface="Times New Roman"/>
              </a:rPr>
              <a:t>(preapertura)</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alidazione del prezzo teorico di apertura (</a:t>
            </a:r>
            <a:r>
              <a:rPr b="1" lang="it-IT" sz="2000" spc="-1" strike="noStrike">
                <a:solidFill>
                  <a:srgbClr val="000000"/>
                </a:solidFill>
                <a:latin typeface="Times New Roman"/>
              </a:rPr>
              <a:t>validazione</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clusione dei contratti (</a:t>
            </a:r>
            <a:r>
              <a:rPr b="1" lang="it-IT" sz="2000" spc="-1" strike="noStrike">
                <a:solidFill>
                  <a:srgbClr val="000000"/>
                </a:solidFill>
                <a:latin typeface="Times New Roman"/>
              </a:rPr>
              <a:t>apertura</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La negoziazione continua</a:t>
            </a:r>
            <a:r>
              <a:rPr b="0" lang="it-IT" sz="2000" spc="-1" strike="noStrike">
                <a:solidFill>
                  <a:srgbClr val="000000"/>
                </a:solidFill>
                <a:latin typeface="Times New Roman"/>
              </a:rPr>
              <a:t> che ha il compito di rendere rapido ed efficiente lo svolgersi delle transazioni.</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a:hlinkClick r:id="" action="ppaction://hlinkshowjump?jump=nextslide"/>
          </p:cNvPr>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457200" y="304920"/>
            <a:ext cx="8153280" cy="6253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Lucida Casual"/>
              </a:rPr>
              <a:t>IL LISTINO DI BORS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ragioni di trasparenza dei mercati il nuovo regolamento della Borsa Italiana S.p.A. stabilisce i seguenti principi generali:</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agevolare le decisioni di investimento e la verifica delle condizioni di esecuzione delle operazioni nei mercati la Borsa Italiana S.p.A. provvede, attraverso strutture telematiche di supporto, alle negoziazioni e alla diffusione tempestiva al pubblico di informazioni riguardanti le condizioni di mercato e le operazioni effettuate per singoli strumenti finanziari.</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gni giorno, al termine delle negoziazioni, la Borsa Italiana S.p.A. provvede a diffondere mediante supporto informatico </a:t>
            </a:r>
            <a:r>
              <a:rPr b="1" lang="it-IT" sz="2000" spc="-1" strike="noStrike">
                <a:solidFill>
                  <a:srgbClr val="000000"/>
                </a:solidFill>
                <a:latin typeface="Times New Roman"/>
              </a:rPr>
              <a:t>il listino ufficiale</a:t>
            </a:r>
            <a:r>
              <a:rPr b="0" lang="it-IT" sz="2000" spc="-1" strike="noStrike">
                <a:solidFill>
                  <a:srgbClr val="000000"/>
                </a:solidFill>
                <a:latin typeface="Times New Roman"/>
              </a:rPr>
              <a:t> contenente le informazioni relative ai contratti conclusi per ciascun strumento finanziario.</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Borsa Italiana S.p.A. non diffonde al pubblico informazioni relative all’identità degli operatori contraenti.</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empimento a tali principi la </a:t>
            </a:r>
            <a:r>
              <a:rPr b="1" lang="it-IT" sz="2000" spc="-1" strike="noStrike">
                <a:solidFill>
                  <a:srgbClr val="000000"/>
                </a:solidFill>
                <a:latin typeface="Times New Roman"/>
              </a:rPr>
              <a:t>Borsa Italiana diffonde al pubblico </a:t>
            </a:r>
            <a:r>
              <a:rPr b="0" lang="it-IT" sz="2000" spc="-1" strike="noStrike">
                <a:solidFill>
                  <a:srgbClr val="000000"/>
                </a:solidFill>
                <a:latin typeface="Times New Roman"/>
              </a:rPr>
              <a:t>in tempo reale informazioni relative all'andamento delle contrattazioni e ogni giorno, al termine delle negoziazioni, redige il </a:t>
            </a:r>
            <a:r>
              <a:rPr b="1" lang="it-IT" sz="2000" spc="-1" strike="noStrike">
                <a:solidFill>
                  <a:srgbClr val="000000"/>
                </a:solidFill>
                <a:latin typeface="Times New Roman"/>
              </a:rPr>
              <a:t>Listino Ufficiale </a:t>
            </a:r>
            <a:r>
              <a:rPr b="0" lang="it-IT" sz="2000" spc="-1" strike="noStrike">
                <a:solidFill>
                  <a:srgbClr val="000000"/>
                </a:solidFill>
                <a:latin typeface="Times New Roman"/>
              </a:rPr>
              <a:t>che riporta l’elenco di tutti gli strumenti finanziari quotati, con l’indicazione delle loro caratteristiche principali, dei loro prezzi e dei loro quantitativi trattati</a:t>
            </a:r>
            <a:endParaRPr b="0" lang="en-US" sz="2000" spc="-1" strike="noStrike">
              <a:solidFill>
                <a:srgbClr val="000000"/>
              </a:solidFill>
              <a:latin typeface="Times New Roman"/>
            </a:endParaRPr>
          </a:p>
        </p:txBody>
      </p:sp>
      <p:sp>
        <p:nvSpPr>
          <p:cNvPr id="97" name="">
            <a:hlinkClick r:id="" action="ppaction://hlinkshowjump?jump=nextslide"/>
          </p:cNvPr>
          <p:cNvSpPr/>
          <p:nvPr/>
        </p:nvSpPr>
        <p:spPr>
          <a:xfrm>
            <a:off x="82296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3794"/>
                </a:moveTo>
                <a:lnTo>
                  <a:pt x="25511" y="10800"/>
                </a:lnTo>
                <a:lnTo>
                  <a:pt x="11498"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685800" y="914400"/>
            <a:ext cx="800100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indici di Borsa, che possono essere rappresentativi di tutto il mercato oppure fare riferimento soltanto a un gruppo di titoli, offrono una serie di numeri confrontabili tra di loro che permettono di analizzare la situazione del mercato mobiliare. </a:t>
            </a:r>
            <a:r>
              <a:rPr b="1" lang="it-IT" sz="2000" spc="-1" strike="noStrike">
                <a:solidFill>
                  <a:srgbClr val="000000"/>
                </a:solidFill>
                <a:latin typeface="Times New Roman"/>
              </a:rPr>
              <a:t>L’indice delle quotazioni</a:t>
            </a:r>
            <a:r>
              <a:rPr b="0" lang="it-IT" sz="2000" spc="-1" strike="noStrike">
                <a:solidFill>
                  <a:srgbClr val="000000"/>
                </a:solidFill>
                <a:latin typeface="Times New Roman"/>
              </a:rPr>
              <a:t> esprime infatti sinteticamente le variazioni avvenute in media nelle quotazioni dei titoli in successivi momenti e fornisce quindi un’indicazione immediata sull’andamento del mercato.. Due sono le ragioni per fare attenzione agli indici. La performance passata dell'indice può aiutare a capire il momento in cui entrare o uscire dal mercato. In secondo luogo è utile confrontare la performance della singola azione con l'indice generale e soprattutto con quello settoria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ra gli indici che segnalano le variazioni delle quotazioni nella borsa, il più famoso è l'indice MIB (sigla di Milano indice borsa). E' un indice generale che comprende tutti i titoli azionari quotati alla Borsa Italiana, riflette pertanto l'andamento dell'intero mercato. E' calcolato quotidianamente utilizzando i prezzi ufficiali di ogni titolo. </a:t>
            </a:r>
            <a:endParaRPr b="0" lang="en-US" sz="2000" spc="-1" strike="noStrike">
              <a:solidFill>
                <a:srgbClr val="000000"/>
              </a:solidFill>
              <a:latin typeface="Times New Roman"/>
            </a:endParaRPr>
          </a:p>
        </p:txBody>
      </p:sp>
      <p:sp>
        <p:nvSpPr>
          <p:cNvPr id="99" name=""/>
          <p:cNvSpPr txBox="1"/>
          <p:nvPr/>
        </p:nvSpPr>
        <p:spPr>
          <a:xfrm>
            <a:off x="2971800" y="228600"/>
            <a:ext cx="2362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li indici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0" name="">
            <a:hlinkClick r:id="" action="ppaction://hlinkshowjump?jump=nex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ccccff"/>
            </a:gs>
            <a:gs pos="100000">
              <a:srgbClr val="ff6699"/>
            </a:gs>
          </a:gsLst>
          <a:lin ang="8100000"/>
        </a:gradFill>
      </p:bgPr>
    </p:bg>
    <p:spTree>
      <p:nvGrpSpPr>
        <p:cNvPr id="1" name=""/>
        <p:cNvGrpSpPr/>
        <p:nvPr/>
      </p:nvGrpSpPr>
      <p:grpSpPr>
        <a:xfrm>
          <a:off x="0" y="0"/>
          <a:ext cx="0" cy="0"/>
          <a:chOff x="0" y="0"/>
          <a:chExt cx="0" cy="0"/>
        </a:xfrm>
      </p:grpSpPr>
      <p:sp>
        <p:nvSpPr>
          <p:cNvPr id="101" name=""/>
          <p:cNvSpPr/>
          <p:nvPr/>
        </p:nvSpPr>
        <p:spPr>
          <a:xfrm>
            <a:off x="533520" y="380880"/>
            <a:ext cx="8076960" cy="7114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IB storico</a:t>
            </a:r>
            <a:r>
              <a:rPr b="0" lang="it-IT" sz="2000" spc="-1" strike="noStrike">
                <a:solidFill>
                  <a:srgbClr val="000000"/>
                </a:solidFill>
                <a:latin typeface="Times New Roman"/>
              </a:rPr>
              <a:t>: è un indice di lungo periodo che ha come base le quotazioni all'inizio del 1975 fatte uguali a mil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IB corrente</a:t>
            </a:r>
            <a:r>
              <a:rPr b="0" lang="it-IT" sz="2000" spc="-1" strike="noStrike">
                <a:solidFill>
                  <a:srgbClr val="000000"/>
                </a:solidFill>
                <a:latin typeface="Times New Roman"/>
              </a:rPr>
              <a:t>: è un indice di breve periodo che ha come base le quotazioni ufficiali di tutti i titoli quotati all'inizio dell'anno in corso fatte uguali a mille; </a:t>
            </a:r>
            <a:r>
              <a:rPr b="1" lang="it-IT" sz="2000" spc="-1" strike="noStrike">
                <a:solidFill>
                  <a:srgbClr val="000000"/>
                </a:solidFill>
                <a:latin typeface="Times New Roman"/>
              </a:rPr>
              <a:t>MIB 30</a:t>
            </a:r>
            <a:r>
              <a:rPr b="0" lang="it-IT" sz="2000" spc="-1" strike="noStrike">
                <a:solidFill>
                  <a:srgbClr val="000000"/>
                </a:solidFill>
                <a:latin typeface="Times New Roman"/>
              </a:rPr>
              <a:t>: è anch'esso un indice momentaneo ma viene calcolato in base a un paniere costituito da trenta tra i titoli più capitalizzati e  scambiati del listino che sono stati selezionati secondo due criteri: grado di liquidità e livello di capitalizzazion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IBTEL</a:t>
            </a:r>
            <a:r>
              <a:rPr b="0" lang="it-IT" sz="2000" spc="-1" strike="noStrike">
                <a:solidFill>
                  <a:srgbClr val="000000"/>
                </a:solidFill>
                <a:latin typeface="Times New Roman"/>
              </a:rPr>
              <a:t> che letteralmente significa (Mercato Italiano della Borsa Telematica): è l'indice momentaneo che, lungo l'intera durata di ogni seduta di borsa, esprime il dinamismo delle quotazioni delle azioni negoziate in continua mediante il sistema telematico, è un indice a base aperta pertanto in ogni giorno dell’anno è possibile inserire nuovi titoli o escludere quelli che ne perdono i requisiti per farne par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IB rnc:</a:t>
            </a:r>
            <a:r>
              <a:rPr b="0" lang="it-IT" sz="2000" spc="-1" strike="noStrike">
                <a:solidFill>
                  <a:srgbClr val="000000"/>
                </a:solidFill>
                <a:latin typeface="Times New Roman"/>
              </a:rPr>
              <a:t> è l'indice calcolato sulle quotazioni delle sole azioni di risparmio non convertibili in azioni ordinarie. Calcolato al termine di ogni giornata di borsa sulla base dei prezzi ufficiali della giornat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IDEX</a:t>
            </a:r>
            <a:r>
              <a:rPr b="0" lang="it-IT" sz="2000" spc="-1" strike="noStrike">
                <a:solidFill>
                  <a:srgbClr val="000000"/>
                </a:solidFill>
                <a:latin typeface="Times New Roman"/>
              </a:rPr>
              <a:t> è l’indice borsistico che viene calcolato sulle quotazioni di 25 azioni a media capitalizzazione. La composizione viene aggiornata due volte l'anno, contestualmente alla revisione semestrale effettuata per il MIB 30;</a:t>
            </a:r>
            <a:endParaRPr b="0" lang="en-US" sz="20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8153280" y="64771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10800"/>
                </a:moveTo>
                <a:lnTo>
                  <a:pt x="35082" y="3794"/>
                </a:lnTo>
                <a:lnTo>
                  <a:pt x="35082"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ffffcc"/>
            </a:gs>
            <a:gs pos="100000">
              <a:srgbClr val="ff6600"/>
            </a:gs>
          </a:gsLst>
          <a:lin ang="8100000"/>
        </a:gradFill>
      </p:bgPr>
    </p:bg>
    <p:spTree>
      <p:nvGrpSpPr>
        <p:cNvPr id="1" name=""/>
        <p:cNvGrpSpPr/>
        <p:nvPr/>
      </p:nvGrpSpPr>
      <p:grpSpPr>
        <a:xfrm>
          <a:off x="0" y="0"/>
          <a:ext cx="0" cy="0"/>
          <a:chOff x="0" y="0"/>
          <a:chExt cx="0" cy="0"/>
        </a:xfrm>
      </p:grpSpPr>
      <p:sp>
        <p:nvSpPr>
          <p:cNvPr id="103" name=""/>
          <p:cNvSpPr/>
          <p:nvPr/>
        </p:nvSpPr>
        <p:spPr>
          <a:xfrm>
            <a:off x="304920" y="685800"/>
            <a:ext cx="8305560" cy="5906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INTRODUZION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Stati Uniti già prima della Grande Guerra erano da considerare fra le massime potenze economico-politico mondiali. Ma la guerra indebolendo gli Stati europei, rafforzò ulteriormente gli Stati Uniti che durante il conflitto consolidarono e accrebbero la propria potenza produttiva e finanziaria. L’enorme differenza fra la crescita dei profitti e della produzione da una parte, e la crescita dei salari dall’altra, accentuò lo squilibrio fra la distribuzione dei redditi Allo squilibrio dei redditi fra le classi sociali si aggiunse lo squilibrio dei redditi percepiti dai diversi settori della produzione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SVILUPPO DELLA BORSA IN AMERICA</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a qui deriva che la crescita della capacità d’acquisto della popolazione non cresceva in misura proporzionale al crescere della produzione, e poiché questa si orienta in modo da soddisfare la domanda ne segue che cresceva maggiormente la produzione di beni durevoli rispetto a quella dei beni di consumo non durevoli, alimentari e vestiario. A questi squilibri oggettivi si aggiunse un fattore soggettivo: la convinzione, largamente avvallata dalla propaganda, che si aprissero per tutti prospettive d’arricchimento. Naturalmente arricchimento che non derivava da attività produttive ma che arrivava da rischiose e fortunate attività speculative tutto questo era possibile grazie al buon andamento della borsa di Wall Street, infatti, a partire dal1924 gli indici aumentarono progressivamente fino a raggiungere nel 1929 452 punti. La popolazione che acquistava era sempre crescente proprio per questo aumentavano le quotazioni ed erano disposte a subire tassi altissimi pur di partecipare alla festa dei rapidi guadagni. </a:t>
            </a:r>
            <a:endParaRPr b="0" lang="en-US" sz="1800" spc="-1" strike="noStrike">
              <a:solidFill>
                <a:srgbClr val="000000"/>
              </a:solidFill>
              <a:latin typeface="Times New Roman"/>
            </a:endParaRPr>
          </a:p>
        </p:txBody>
      </p:sp>
      <p:sp>
        <p:nvSpPr>
          <p:cNvPr id="104" name=""/>
          <p:cNvSpPr txBox="1"/>
          <p:nvPr/>
        </p:nvSpPr>
        <p:spPr>
          <a:xfrm>
            <a:off x="3581280" y="228600"/>
            <a:ext cx="1752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l 1929</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5" name="">
            <a:hlinkClick r:id="" action="ppaction://hlinkshowjump?jump=nextslide"/>
          </p:cNvPr>
          <p:cNvSpPr/>
          <p:nvPr/>
        </p:nvSpPr>
        <p:spPr>
          <a:xfrm>
            <a:off x="845820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3794"/>
                </a:moveTo>
                <a:lnTo>
                  <a:pt x="26444" y="10800"/>
                </a:lnTo>
                <a:lnTo>
                  <a:pt x="12431"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57200" y="762120"/>
            <a:ext cx="7924680" cy="669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NASCONO I PRIMI PROBLEMI IN AMERIC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nsufficienza della domanda statunitense interna, dovuta alla squilibrata distribuzione dei redditi fu per qualche anno compensata dalla domanda dall’estero, ossia dalle esportazioniMa il rimedio temporaneo era destinato ad accrescere il disavanzo europe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LA CRISI COLPISCE ANCHE LA BOR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partire dal giugno del 1929 grazie all’insufficienza della domanda interna americana, la crisi di sovrapproduzione cominciò a colpire le industrie e  le attività agricole, infatti, nel 29 il raccolto fu particolarmente abbondante sia in America che in Europa, e per ciò i prezzi dei cereali precipitarono, mettendo nelle più gravi difficoltà gli agricoltori statunitensi. Nel giro di pochi mesi la crisi dell’economia reale si ripercuote sull’andamento borsa. All’inizio del settembre del 1929 la corsa agli acquisti cessa e inizia un periodo di fluttuazioni, prevalentemente orientate verso la vendita. Il 24 ottobre 1929 (giovedì nero) quasi tredici milioni di azioni vengono contrattate a New York a prezzi che ovviamente precipitano.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a:hlinkClick r:id="" action="ppaction://hlinkshowjump?jump=nextslide"/>
          </p:cNvPr>
          <p:cNvSpPr/>
          <p:nvPr/>
        </p:nvSpPr>
        <p:spPr>
          <a:xfrm>
            <a:off x="83818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108" name=""/>
          <p:cNvSpPr/>
          <p:nvPr/>
        </p:nvSpPr>
        <p:spPr>
          <a:xfrm>
            <a:off x="457200" y="685800"/>
            <a:ext cx="7924680" cy="574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crollo della borsa se non fu la causa della crisi partecipò senz’altro ad inasprirla, in quanto portò alla rovina centinaia di migliaia d’americani e privò di capacità d’acquisto e d’investimento anche una parte indicativa delle classi abbienti.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LA CRISI SI PROPAGA IN TUTTI I CAMPI</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Times New Roman"/>
              </a:rPr>
              <a:t>INDUSTRI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Times New Roman"/>
              </a:rPr>
              <a:t>AGRICOLTUR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Times New Roman"/>
              </a:rPr>
              <a:t>ECONOMI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Times New Roman"/>
              </a:rPr>
              <a:t>LAVOR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NUOVO PROGETTO PER AFFRONTARE LA CRISI</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gli Stati Uniti fu eletto come nuovo presidente Roosevelt che propose un programma per ricostruire l’economia del paese chiamato ”</a:t>
            </a:r>
            <a:r>
              <a:rPr b="1" i="1" lang="it-IT" sz="2000" spc="-1" strike="noStrike">
                <a:solidFill>
                  <a:srgbClr val="000000"/>
                </a:solidFill>
                <a:latin typeface="Times New Roman"/>
              </a:rPr>
              <a:t>new deal</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INTERVENTI DEL GOVER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Times New Roman"/>
              </a:rPr>
              <a:t>CREAZIONE DI NUOVI POSTI DI LAVOR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Times New Roman"/>
              </a:rPr>
              <a:t>RIPRESA INDUSTRIA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Times New Roman"/>
              </a:rPr>
              <a:t>INTRODUZIONE DI LEGGI SULLA SICUREZZA SOCIA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FINE DELLA CRISI E RIPRESA INDUSTRIA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8153280" y="617220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10800"/>
                </a:moveTo>
                <a:lnTo>
                  <a:pt x="22606" y="3794"/>
                </a:lnTo>
                <a:lnTo>
                  <a:pt x="226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50000">
              <a:srgbClr val="cc99ff"/>
            </a:gs>
            <a:gs pos="100000">
              <a:srgbClr val="ff66f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599840"/>
            <a:ext cx="8382240" cy="4724280"/>
          </a:xfrm>
          <a:prstGeom prst="rect">
            <a:avLst/>
          </a:prstGeom>
          <a:noFill/>
          <a:ln w="0">
            <a:noFill/>
          </a:ln>
        </p:spPr>
        <p:txBody>
          <a:bodyPr lIns="90000" rIns="90000" tIns="46800" bIns="46800" anchor="t">
            <a:normAutofit fontScale="98000"/>
          </a:bodyPr>
          <a:p>
            <a:pPr marL="335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Italia la costituzione della borsa viene fatta risalire al 1807, anno della pubblicazione del codice di commercio napoleonico che conteneva un’apposita sezione riservata alla disciplina delle borse di commercio, degli agenti di cambio e dei mediatori di borsa. Le prime borse furono costituite da Camere di Commercio italiane, su modello delle borse francesi. Le borse in Italia nacquero più tardi rispetto ad altri paesi europei per motivi di ordine politico ed economico. Non esisteva un grande stato unitario che immettesse sul mercato una grande quantità di titoli pubblici e non esistevano iniziative coloniali, che in altri paesi costituivano il centro di cospicui interessi finanziari e fonte di ingenti emissioni di valori mobiliari. Inoltre non era ancora iniziato lo sviluppo industriale che cominciò ad assumere proporzioni di rilievo solamente con l’unità d’Italia. A Milano la 1° borsa sorse nel 1808 grazie al decreto del Vice re Eugeneo Napoleone, a Napoli nel 1808 grazie a Giuseppe Bonaparte </a:t>
            </a:r>
            <a:endParaRPr b="0" lang="en-US" sz="2000" spc="-1" strike="noStrike">
              <a:solidFill>
                <a:srgbClr val="000000"/>
              </a:solidFill>
              <a:latin typeface="Times New Roman"/>
            </a:endParaRPr>
          </a:p>
          <a:p>
            <a:pPr lvl="1" marL="72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txBox="1"/>
          <p:nvPr/>
        </p:nvSpPr>
        <p:spPr>
          <a:xfrm>
            <a:off x="457200" y="533520"/>
            <a:ext cx="7981920" cy="861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3333cc"/>
                    </a:gs>
                  </a:gsLst>
                  <a:lin ang="13500000"/>
                </a:gradFill>
                <a:effectLst>
                  <a:outerShdw dist="53966" dir="2700000" blurRad="0" rotWithShape="0">
                    <a:srgbClr val="c0c0c0"/>
                  </a:outerShdw>
                </a:effectLst>
                <a:latin typeface="Comic Sans MS"/>
              </a:rPr>
              <a:t>ORIGINI DELLA BORSA IN ITALIA</a:t>
            </a:r>
            <a:endParaRPr b="0" lang="en-US" sz="2400" spc="1" strike="noStrike">
              <a:ln w="0">
                <a:noFill/>
              </a:ln>
              <a:gradFill rotWithShape="0">
                <a:gsLst>
                  <a:gs pos="0">
                    <a:srgbClr val="ccccff"/>
                  </a:gs>
                  <a:gs pos="100000">
                    <a:srgbClr val="3333cc"/>
                  </a:gs>
                </a:gsLst>
                <a:lin ang="13500000"/>
              </a:gradFill>
              <a:effectLst>
                <a:outerShdw dist="53966" dir="2700000" blurRad="0" rotWithShape="0">
                  <a:srgbClr val="c0c0c0"/>
                </a:outerShdw>
              </a:effectLst>
              <a:latin typeface="Comic Sans MS"/>
              <a:ea typeface="Comic Sans MS"/>
            </a:endParaRPr>
          </a:p>
        </p:txBody>
      </p:sp>
      <p:sp>
        <p:nvSpPr>
          <p:cNvPr id="54" name="">
            <a:hlinkClick r:id="" action="ppaction://hlinkshowjump?jump=nextslide"/>
          </p:cNvPr>
          <p:cNvSpPr/>
          <p:nvPr/>
        </p:nvSpPr>
        <p:spPr>
          <a:xfrm>
            <a:off x="830592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8100000"/>
        </a:gradFill>
      </p:bgPr>
    </p:bg>
    <p:spTree>
      <p:nvGrpSpPr>
        <p:cNvPr id="1" name=""/>
        <p:cNvGrpSpPr/>
        <p:nvPr/>
      </p:nvGrpSpPr>
      <p:grpSpPr>
        <a:xfrm>
          <a:off x="0" y="0"/>
          <a:ext cx="0" cy="0"/>
          <a:chOff x="0" y="0"/>
          <a:chExt cx="0" cy="0"/>
        </a:xfrm>
      </p:grpSpPr>
      <p:sp>
        <p:nvSpPr>
          <p:cNvPr id="110" name=""/>
          <p:cNvSpPr/>
          <p:nvPr/>
        </p:nvSpPr>
        <p:spPr>
          <a:xfrm>
            <a:off x="609480" y="426960"/>
            <a:ext cx="7696440" cy="86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304920" y="304920"/>
            <a:ext cx="8534160" cy="6192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Lucida Casual"/>
              </a:rPr>
              <a:t>IL PROCESSO DI PRIVATIZZAZIONE</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esto processo si è svolto nel corso del 1996 e del 1997. La procedura della privatizzazione è state specificate dallo stesso D.Lgs. n. 415/96 che ha imposto un preciso percorso da seguire per portare a compimento il processo in questione. Il decreto Eurosim entra in vigore il 1 settembre 1996. Come previsto dal primo comma dell'articolo 56 "il Consiglio di Borsa, entro sessanta giorni dall'entrata in vigore del decreto, presenta alla Consob un progetto concernente la costituzione di una o più società per azioni aventi ad oggetto la gestione della Borsa Valori, del mercato ristretto e del mercato dei derivati su titoli azionari". In questa prima fase vengono analizzate diverse problematiche inerenti aspetti principali del processo di privatizzazione. Gli operatori di mercato e le autorità competenti effettuano studi e approfondimenti su:</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alore d’avviamento della Borsa Valori;</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rganizzazione dei mercati borsistici (compresi il MTS e il MIF);</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cedura di cessione delle azioni della costituenda società di gestione della Borsa;</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peratori/istituzioni meglio indicati a partecipare al capitale della società di gestione.</a:t>
            </a:r>
            <a:endParaRPr b="0" lang="en-US" sz="2000" spc="-1" strike="noStrike">
              <a:solidFill>
                <a:srgbClr val="000000"/>
              </a:solidFill>
              <a:latin typeface="Times New Roman"/>
            </a:endParaRPr>
          </a:p>
        </p:txBody>
      </p:sp>
      <p:sp>
        <p:nvSpPr>
          <p:cNvPr id="112" name="">
            <a:hlinkClick r:id="" action="ppaction://hlinkshowjump?jump=nextslide"/>
          </p:cNvPr>
          <p:cNvSpPr/>
          <p:nvPr/>
        </p:nvSpPr>
        <p:spPr>
          <a:xfrm>
            <a:off x="8381880" y="64008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3794"/>
                </a:moveTo>
                <a:lnTo>
                  <a:pt x="25004" y="10800"/>
                </a:lnTo>
                <a:lnTo>
                  <a:pt x="10991"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457200" y="106668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0" y="533520"/>
            <a:ext cx="8763120" cy="5948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procedimento per  la cessione delle azioni della Borsa S.p.A., viene avviato dal Consiglio di Borsa: in base al comma 5 dell’articolo 56 del decreto Eurosim, “il Consiglio di Borsa promuove la vendita delle azioni della società secondo le modalità e le condizioni poste dal Ministero del Tesoro”.Altra questione rilevante riguarda i futuri proprietari della Borsa privatizzata: dove fu  fissato per legge che il 51% delle azioni doveva essere detenuto da intermediari finanziari, mentre il resto si lasciava ad altre tipologie di operatori come gli stessi emittenti di azioni/obbligazioni sul mercato borsistico, o figure istituzionali estere quali altre Borse valori già operanti come società per azioni</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chi giorni dopo l’entrata in vigore del decreto Eurosim (il 19/9/1996) , si costituisce la Società di intermediari negoziatori S.p.A. (SINT), avente come obiettivo l’acquisto e la</a:t>
            </a:r>
            <a:r>
              <a:rPr b="0" lang="it-IT" sz="2400" spc="-1" strike="noStrike">
                <a:solidFill>
                  <a:srgbClr val="000000"/>
                </a:solidFill>
                <a:latin typeface="Times New Roman"/>
              </a:rPr>
              <a:t> </a:t>
            </a:r>
            <a:r>
              <a:rPr b="0" lang="it-IT" sz="2000" spc="-1" strike="noStrike">
                <a:solidFill>
                  <a:srgbClr val="000000"/>
                </a:solidFill>
                <a:latin typeface="Times New Roman"/>
              </a:rPr>
              <a:t>riorganizzazione della società risultanti dalla trasformazione dei mercati borsistici. A fine gennaio del 1997 la Consob approva il progetto del Consiglio di Borsa riguardante la costituzione della società per azioni denominata Borsa S.p.A. . Il 7 febbraio 1997 viene siglata, la nascita di tale società, con capitale di 200 milioni, interamente partecipata dal Consiglio di Borsa, che nomina l’amministratore delegato provvisorio. Il Consiglio di Borsa rimarrà l’unico azionista fino al completamento della procedura di collocamento delle azioni in asta. </a:t>
            </a:r>
            <a:endParaRPr b="0" lang="en-US" sz="2000" spc="-1" strike="noStrike">
              <a:solidFill>
                <a:srgbClr val="000000"/>
              </a:solidFill>
              <a:latin typeface="Times New Roman"/>
            </a:endParaRPr>
          </a:p>
        </p:txBody>
      </p:sp>
      <p:sp>
        <p:nvSpPr>
          <p:cNvPr id="115" name="">
            <a:hlinkClick r:id="" action="ppaction://hlinkshowjump?jump=nextslide"/>
          </p:cNvPr>
          <p:cNvSpPr/>
          <p:nvPr/>
        </p:nvSpPr>
        <p:spPr>
          <a:xfrm>
            <a:off x="8153280" y="63244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3794"/>
                </a:moveTo>
                <a:lnTo>
                  <a:pt x="27055" y="10800"/>
                </a:lnTo>
                <a:lnTo>
                  <a:pt x="13042"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838080" y="10666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0" y="304920"/>
            <a:ext cx="8686800" cy="7423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questa fase iniziano a essere elaborati, da parte del Consiglio di Borsa i regolamenti dei mercati di borsa: in particolare i lavori si concentrano sul codice di comportamento che deve essere rispettato dagli intermediari ammessi alle quotazioni, sulle procedure di ammissione dei titoli alle quotazioni e sulle procedure di mercato. La vera e propria procedura di collocamento delle azioni parte il 21 luglio del 1997, dopo che il Ministero del Tesoro ha fissato, con decreto, le modalità di vendita. Questa fase si  conclude il 26 agosto. Dopo l’aggiudicazione dei pacchetti azionari, viene lasciata libertà di trasferimento degli stessi, purché i successivi acquirenti si impegnino a sottoscrivere l’aumento di capitale sociale che deve essere elevato da due miliardi a dieci miliardi di lire. Gli intermediari soci della SINT acquistano oltre il 90% delle azioni. Dalla privatizzazione risultano esclusi, invece, gli intermediari esteri e le società emittenti. Il progetto della SINT, a questo punto prevedeva il riacquisto delle azioni, a un unico prezzo dai soci, ma non tutti tuttavia, aderiscono a tale proposta dalla Caboto SIM riuscendo così ad aggiudicarsi a fine anno il MTS ed il MIF: quest'ultimo mercato è stato successivamente venduto, nel corso del 1998, alla Borsa S.p.A. stessa. L'amministratore provvisorio nominato dal Consiglio di Borsa, dopo l'aggiudicazione in sede d'asta, convoca l'assemblea ordinaria della società che, oltre alla nomina del nuovo consiglio di amministrazione, delibera i regolamenti dei mercati; il regolamento del mercato, deliberatol'11/12/1997 viene approvato dalla Consob il 12/12/1997. Con la chiusura del processo di privatizzazione viene messo in liquidazione il Consiglio di Borsa.</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nextslide"/>
          </p:cNvPr>
          <p:cNvSpPr/>
          <p:nvPr/>
        </p:nvSpPr>
        <p:spPr>
          <a:xfrm>
            <a:off x="8458200" y="65530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3794"/>
                </a:moveTo>
                <a:lnTo>
                  <a:pt x="31281" y="10800"/>
                </a:lnTo>
                <a:lnTo>
                  <a:pt x="17268"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457200" y="380880"/>
            <a:ext cx="8229600" cy="6894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LA CONSOB</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onsob è l’organismo di “ alta vigilanza ” dei mercati. La Consob mantiene la responsabilità riguardante l’organizzazione, le strutture e le procedure di cui i mercati si dotano, per consentire la trasparenza, l’ordinato svolgimento delle contrattazioni e la tutela degli investitori. Alla Consob sono inoltre conferiti i poteri di autorizzazione nella fase costitutiva dei mercati e ogni qualvolta la società di gestione modifichi il proprio statuto o il proprio regolamento, nonché poteri di controllo sul funzionamento dei mercati paralleli a quelli della società di gestione. </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L MINISTERO DEL TESORO  </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inistero del tesoro è l’autorità di vertice della struttura istituzionale dei mercati finanziari e degli intermediari mobiliari; il Ministero dispone di poteri di portata generale su tutti i mercati, e di poteri specifici nei confronti dei mercati all’ingrosso dei titoli di Stato. </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LA BANCA D’ITALIA</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Banca d’Italia è l’autorità preposta al controllo del processo di liquidazione delle operazioni: la Banca d’Italia gode, quindi, di potestà regolamentari e di controllo in materia di compensazione, liquidazione e garanzia delle operazioni aventi per oggetto strumenti finanziari. </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LA SOCIETA’ DI GESTIONE</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società di gestione, svolge anch’essa un ruolo di vigilanza e di sorveglianza del comportamento degli operatori al fine di assicurare il buon funzionamento del mercato. In particolare verifica il rispetto del regolamento di mercato da parte delle società quotate e degli intermediari e assume le necessarie iniziative in presenza di violazioni di regolamento.</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8229600" y="64771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09480" y="457200"/>
            <a:ext cx="7696440" cy="692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Lucida Casual"/>
              </a:rPr>
              <a:t>I SISTEMI TELEMATICI ALL'INTERNO DELLA BORS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sistema telematico che è operativo all'interno dei mercati gestiti dalla Borsa Italiana S.p.A., è gestito da una società specializzata: la S.I.A., nata nel 1999 dalla fusione tra SIA, Società Interbancaria per l'Automazione e Cedborsa. Oltre a fornire numerosi servizi all'interno di tutto il sistema economico - finanziario, provvede all'automazione dei mercati mobiliari di borsa, realizzando i mercati all'ingrosso degli strumenti di debito e sviluppando molti dei sistemi informatici che consentono oggi agli operatori di competere sul mercato che si è allargato all'ambìto europeo. Analizziamo brevemente i sistemi telematici gestiti da questa società per quanto riguarda i mercati di borsa:</a:t>
            </a:r>
            <a:endParaRPr b="0" lang="en-US" sz="20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FF per il mercato azionario;</a:t>
            </a:r>
            <a:endParaRPr b="0" lang="en-US" sz="20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ccccff"/>
                </a:solidFill>
                <a:uFillTx/>
                <a:latin typeface="Times New Roman"/>
                <a:hlinkClick r:id="rId2" action="ppaction://hlinksldjump"/>
              </a:rPr>
              <a:t>il DER</a:t>
            </a:r>
            <a:r>
              <a:rPr b="0" lang="it-IT" sz="2000" spc="-1" strike="noStrike">
                <a:solidFill>
                  <a:srgbClr val="000000"/>
                </a:solidFill>
                <a:latin typeface="Times New Roman"/>
              </a:rPr>
              <a:t> per il mercato degli strumenti derivati;</a:t>
            </a:r>
            <a:endParaRPr b="0" lang="en-US" sz="20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MRF per il mercato delle obbligazioni private e dei titoli di stato (MOT);</a:t>
            </a:r>
            <a:endParaRPr b="0" lang="en-US" sz="20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MPR per il mercato dei premi;</a:t>
            </a:r>
            <a:endParaRPr b="0" lang="en-US" sz="20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DDM per la diffusione dei dati nei mercati.</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a:hlinkClick r:id="rId3"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3794"/>
                </a:moveTo>
                <a:lnTo>
                  <a:pt x="20203" y="10800"/>
                </a:lnTo>
                <a:lnTo>
                  <a:pt x="6190"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123" name=""/>
          <p:cNvSpPr/>
          <p:nvPr/>
        </p:nvSpPr>
        <p:spPr>
          <a:xfrm>
            <a:off x="533520" y="609480"/>
            <a:ext cx="8229600" cy="45648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AFF - Mercato azionario</a:t>
            </a:r>
            <a:r>
              <a:rPr b="0" lang="it-IT" sz="2000" spc="-1" strike="noStrike">
                <a:solidFill>
                  <a:srgbClr val="000080"/>
                </a:solidFill>
                <a:latin typeface="Comic Sans MS"/>
              </a:rPr>
              <a:t> </a:t>
            </a:r>
            <a:endParaRPr b="0" lang="en-US" sz="2000" spc="-1" strike="noStrike">
              <a:solidFill>
                <a:srgbClr val="000000"/>
              </a:solidFill>
              <a:latin typeface="Times New Roman"/>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esto servizio consente di negoziare valori mobiliari quotati in Borsa e nel Mercato ristretto, di comunicare contratti di quantitativi rilevanti e contratti effettuati fuori mercato. Il servizio svolge inoltre funzioni di controllo su entrambi i mercati. Tale servizio è supportato dal sistema telematico, la cui architettura prevede tre classi di sistemi hardware: </a:t>
            </a:r>
            <a:endParaRPr b="0" lang="en-US" sz="2000" spc="-1" strike="noStrike">
              <a:solidFill>
                <a:srgbClr val="000000"/>
              </a:solidFill>
              <a:latin typeface="Times New Roman"/>
            </a:endParaRPr>
          </a:p>
          <a:p>
            <a:pPr lvl="1" marL="457200" algn="just">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stemi centrali di erogazione, per l'elaborazione delle proposte e la distribuzione delle informazioni relative alle contrattazioni; </a:t>
            </a:r>
            <a:endParaRPr b="0" lang="en-US" sz="2000" spc="-1" strike="noStrike">
              <a:solidFill>
                <a:srgbClr val="000000"/>
              </a:solidFill>
              <a:latin typeface="Times New Roman"/>
            </a:endParaRPr>
          </a:p>
          <a:p>
            <a:pPr lvl="1" marL="457200" algn="just">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stemi di trasporto, per l'interconnessione e la gestione delle comunicazioni tra i sistemi periferici ed i sistemi centrali; </a:t>
            </a:r>
            <a:endParaRPr b="0" lang="en-US" sz="2000" spc="-1" strike="noStrike">
              <a:solidFill>
                <a:srgbClr val="000000"/>
              </a:solidFill>
              <a:latin typeface="Times New Roman"/>
            </a:endParaRPr>
          </a:p>
          <a:p>
            <a:pPr lvl="1" marL="457200" algn="just">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stemi periferici, dislocati presso gli utenti del servizio, per l'interazione manuale (connessione diretta) o automatica (connessione indiretta) con i sistemi centrali. </a:t>
            </a:r>
            <a:endParaRPr b="0" lang="en-US" sz="2000" spc="-1" strike="noStrike">
              <a:solidFill>
                <a:srgbClr val="000000"/>
              </a:solidFill>
              <a:latin typeface="Times New Roman"/>
            </a:endParaRPr>
          </a:p>
        </p:txBody>
      </p:sp>
      <p:sp>
        <p:nvSpPr>
          <p:cNvPr id="124" name="">
            <a:hlinkClick r:id="" action="ppaction://hlinkshowjump?jump=nextslide"/>
          </p:cNvPr>
          <p:cNvSpPr/>
          <p:nvPr/>
        </p:nvSpPr>
        <p:spPr>
          <a:xfrm>
            <a:off x="792468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3794"/>
                </a:moveTo>
                <a:lnTo>
                  <a:pt x="25511" y="10800"/>
                </a:lnTo>
                <a:lnTo>
                  <a:pt x="11498"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380880"/>
            <a:ext cx="9144000" cy="6028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80"/>
                </a:solidFill>
                <a:latin typeface="Comic Sans MS"/>
              </a:rPr>
              <a:t>I SISTEMI CENTRALI DI EROGAZIONE</a:t>
            </a:r>
            <a:endParaRPr b="0" lang="en-US" sz="1600" spc="-1" strike="noStrike">
              <a:solidFill>
                <a:srgbClr val="000000"/>
              </a:solidFill>
              <a:latin typeface="Times New Roman"/>
            </a:endParaRPr>
          </a:p>
          <a:p>
            <a:pPr lvl="1" marL="4572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un sistema a due livelli: livello di </a:t>
            </a:r>
            <a:r>
              <a:rPr b="0" i="1" lang="it-IT" sz="1800" spc="-1" strike="noStrike">
                <a:solidFill>
                  <a:srgbClr val="000000"/>
                </a:solidFill>
                <a:latin typeface="Times New Roman"/>
              </a:rPr>
              <a:t>back-end</a:t>
            </a:r>
            <a:r>
              <a:rPr b="0" lang="it-IT" sz="1800" spc="-1" strike="noStrike">
                <a:solidFill>
                  <a:srgbClr val="000000"/>
                </a:solidFill>
                <a:latin typeface="Times New Roman"/>
              </a:rPr>
              <a:t> e livello di </a:t>
            </a:r>
            <a:r>
              <a:rPr b="0" i="1" lang="it-IT" sz="1800" spc="-1" strike="noStrike">
                <a:solidFill>
                  <a:srgbClr val="000000"/>
                </a:solidFill>
                <a:latin typeface="Times New Roman"/>
              </a:rPr>
              <a:t>front-end</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lvl="1" marL="4572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imo elabora le richieste relative alle funzioni disponibili per gli utenti ed esegue le funzioni del servizio come l'abbinamento automatico delle proposte di negoziazione o la gestione delle fasi di negoziazione. Il secondo gestisce l'interazione con i sistemi periferici sia per quanto riguarda la ricezione delle richieste di funzioni da parte degli utenti, sia per la distribuzione a tutti gli utenti delle informazioni prodotte al livello precedente </a:t>
            </a:r>
            <a:endParaRPr b="0" lang="en-US" sz="1800" spc="-1" strike="noStrike">
              <a:solidFill>
                <a:srgbClr val="000000"/>
              </a:solidFill>
              <a:latin typeface="Times New Roman"/>
            </a:endParaRPr>
          </a:p>
          <a:p>
            <a:pPr lvl="1" marL="4572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80"/>
                </a:solidFill>
                <a:latin typeface="Comic Sans MS"/>
              </a:rPr>
              <a:t>I SISTEMI DI TRASPORTO</a:t>
            </a:r>
            <a:endParaRPr b="0" lang="en-US" sz="1600" spc="-1" strike="noStrike">
              <a:solidFill>
                <a:srgbClr val="000000"/>
              </a:solidFill>
              <a:latin typeface="Times New Roman"/>
            </a:endParaRPr>
          </a:p>
          <a:p>
            <a:pPr lvl="1" marL="4572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rete di trasporto è la Rete Nazionale Interbancaria (RNI), anch'essa gestita dalla Società Interbancaria per l'Automazione (SIA).  La RNI interconnette le sedi degli utenti ai sistemi centrali di erogazione. La rete è costituita da un'infrastruttura primaria di nodi collegati tra loro e da un'infrastruttura di accesso realizzata da collegamenti che raggiungono i sistemi periferici degli utenti. Ogni collegamento, consente di integrare, in un'unica struttura di trasporto opportunamente dimensionata, l'accesso a più servizi di mercato gestiti da SIA. </a:t>
            </a:r>
            <a:endParaRPr b="0" lang="en-US" sz="1800" spc="-1" strike="noStrike">
              <a:solidFill>
                <a:srgbClr val="000000"/>
              </a:solidFill>
              <a:latin typeface="Times New Roman"/>
            </a:endParaRPr>
          </a:p>
          <a:p>
            <a:pPr lvl="2" marL="914400" algn="just">
              <a:lnSpc>
                <a:spcPct val="8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80"/>
                </a:solidFill>
                <a:latin typeface="Comic Sans MS"/>
              </a:rPr>
              <a:t>I SISTEMI PERIFERICI</a:t>
            </a:r>
            <a:endParaRPr b="0" lang="en-US" sz="16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ONNESSIONE DIRETTA</a:t>
            </a:r>
            <a:r>
              <a:rPr b="1" lang="it-IT" sz="1800" spc="-1" strike="noStrike">
                <a:solidFill>
                  <a:srgbClr val="000000"/>
                </a:solidFill>
                <a:latin typeface="Comic Sans MS"/>
              </a:rPr>
              <a:t> </a:t>
            </a:r>
            <a:r>
              <a:rPr b="0" lang="it-IT" sz="1800" spc="-1" strike="noStrike">
                <a:solidFill>
                  <a:srgbClr val="000000"/>
                </a:solidFill>
                <a:latin typeface="Times New Roman"/>
              </a:rPr>
              <a:t>Questa modalità di connessione permette ad un operatore autorizzato di operare in maniera interattiva sul mercato; </a:t>
            </a:r>
            <a:endParaRPr b="0" lang="en-US" sz="1800" spc="-1" strike="noStrike">
              <a:solidFill>
                <a:srgbClr val="000000"/>
              </a:solidFill>
              <a:latin typeface="Times New Roman"/>
            </a:endParaRPr>
          </a:p>
          <a:p>
            <a:pPr lvl="1" marL="4572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ONNESSIONE INDIRETTA</a:t>
            </a:r>
            <a:r>
              <a:rPr b="1" lang="it-IT" sz="1800" spc="-1" strike="noStrike">
                <a:solidFill>
                  <a:srgbClr val="000000"/>
                </a:solidFill>
                <a:latin typeface="Comic Sans MS"/>
              </a:rPr>
              <a:t> </a:t>
            </a:r>
            <a:r>
              <a:rPr b="0" lang="it-IT" sz="1800" spc="-1" strike="noStrike">
                <a:solidFill>
                  <a:srgbClr val="000000"/>
                </a:solidFill>
                <a:latin typeface="Times New Roman"/>
              </a:rPr>
              <a:t>La modalità di connessione indiretta è ottenuta attraverso il collegamento dei sistemi utente con i sistemi centrali. Essa consente alle applicazioni utente di interagire on-line con il servizio. Questa modalità di connessione indiretta consente l'apertura di due tipologie di flussi informativi: il primo per l'invio delle richieste di immissione e di cancellazione delle proposte, il secondo per la ricezione delle notifiche.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
          <p:cNvSpPr/>
          <p:nvPr/>
        </p:nvSpPr>
        <p:spPr>
          <a:xfrm>
            <a:off x="8153280" y="6248520"/>
            <a:ext cx="990720" cy="609480"/>
          </a:xfrm>
          <a:custGeom>
            <a:avLst/>
            <a:gdLst>
              <a:gd name="textAreaLeft" fmla="*/ 39240 w 990720"/>
              <a:gd name="textAreaRight" fmla="*/ 951480 w 990720"/>
              <a:gd name="textAreaTop" fmla="*/ 39240 h 609480"/>
              <a:gd name="textAreaBottom" fmla="*/ 570240 h 609480"/>
            </a:gdLst>
            <a:ahLst/>
            <a:rect l="textAreaLeft" t="textAreaTop" r="textAreaRight" b="textAreaBottom"/>
            <a:pathLst>
              <a:path w="35103" h="21600">
                <a:moveTo>
                  <a:pt x="0" y="0"/>
                </a:moveTo>
                <a:lnTo>
                  <a:pt x="35103" y="0"/>
                </a:lnTo>
                <a:lnTo>
                  <a:pt x="35103" y="21600"/>
                </a:lnTo>
                <a:lnTo>
                  <a:pt x="0" y="21600"/>
                </a:lnTo>
                <a:close/>
              </a:path>
              <a:path fill="lightenLess" w="35103" h="21600">
                <a:moveTo>
                  <a:pt x="0" y="0"/>
                </a:moveTo>
                <a:lnTo>
                  <a:pt x="35103" y="0"/>
                </a:lnTo>
                <a:lnTo>
                  <a:pt x="33703" y="1400"/>
                </a:lnTo>
                <a:lnTo>
                  <a:pt x="1400" y="1400"/>
                </a:lnTo>
                <a:close/>
              </a:path>
              <a:path fill="darken" w="35103" h="21600">
                <a:moveTo>
                  <a:pt x="35103" y="0"/>
                </a:moveTo>
                <a:lnTo>
                  <a:pt x="35103" y="21600"/>
                </a:lnTo>
                <a:lnTo>
                  <a:pt x="33703" y="20200"/>
                </a:lnTo>
                <a:lnTo>
                  <a:pt x="33703" y="1400"/>
                </a:lnTo>
                <a:close/>
              </a:path>
              <a:path fill="darkenLess" w="35103" h="21600">
                <a:moveTo>
                  <a:pt x="35103" y="21600"/>
                </a:moveTo>
                <a:lnTo>
                  <a:pt x="0" y="21600"/>
                </a:lnTo>
                <a:lnTo>
                  <a:pt x="1400" y="20200"/>
                </a:lnTo>
                <a:lnTo>
                  <a:pt x="33703" y="20200"/>
                </a:lnTo>
                <a:close/>
              </a:path>
              <a:path fill="lighten" w="35103" h="21600">
                <a:moveTo>
                  <a:pt x="0" y="21600"/>
                </a:moveTo>
                <a:lnTo>
                  <a:pt x="0" y="0"/>
                </a:lnTo>
                <a:lnTo>
                  <a:pt x="1400" y="1400"/>
                </a:lnTo>
                <a:lnTo>
                  <a:pt x="1400" y="20200"/>
                </a:lnTo>
                <a:close/>
              </a:path>
              <a:path fill="darken" w="35103" h="21600">
                <a:moveTo>
                  <a:pt x="10545" y="10800"/>
                </a:moveTo>
                <a:lnTo>
                  <a:pt x="24558" y="3794"/>
                </a:lnTo>
                <a:lnTo>
                  <a:pt x="24558"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28600" y="228600"/>
            <a:ext cx="8229600" cy="6867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DER - MERCATO DEGLI STRUMENTI DERIVATI</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il sistema di contrattazione telematica, riservato agli operatori autorizzati, che tratta, con modalità analoghe a quelle del servizio AFF, i prodotti derivati azionari (future e opzioni su indic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Tahoma"/>
              </a:rPr>
              <a:t>MRF - MERCATO DEL REDDITO FISSO</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il sistema di contrattazione telematica, riservato agli operatori autorizzati, che tratta, con modalità analoghe a quelle del servizio AFF, le obbligazioni private e i titoli di stato. L'accesso al servizio può avvenire con modalità diretta o mediante interconnessione con le applicazioni utente dell'operatore.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MPR - MERCATO DEI PREMI</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servizio MPR consente di negoziare premi riferiti a valori mobiliari quotati sul Mercato Ufficiale. Il servizio MPR consente di negoziare contratti a termine. Gli strumenti sottostanti a tali contratti sono tutti i valori mobiliari trattati sul Mercato Ufficiale, in particolare: Azioni, Warrant, Obbligazioni convertibili, Diritti. Le tipologie di contratto negoziabili consentono la negoziazione di Premi semplici e composti.</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mic Sans MS"/>
              </a:rPr>
              <a:t>DDM - DIFFUSIONE DATI MERCATI</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il servizio primario di informazione della Borsa italiana. Consiste in un flusso in tempo reale dei dati che contengono i prezzi fatti, le quantità scambiate, i prezzi di riferimento e gli altri dati ufficiali del mercato mobilia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8100000"/>
        </a:gradFill>
      </p:bgPr>
    </p:bg>
    <p:spTree>
      <p:nvGrpSpPr>
        <p:cNvPr id="1" name=""/>
        <p:cNvGrpSpPr/>
        <p:nvPr/>
      </p:nvGrpSpPr>
      <p:grpSpPr>
        <a:xfrm>
          <a:off x="0" y="0"/>
          <a:ext cx="0" cy="0"/>
          <a:chOff x="0" y="0"/>
          <a:chExt cx="0" cy="0"/>
        </a:xfrm>
      </p:grpSpPr>
      <p:sp>
        <p:nvSpPr>
          <p:cNvPr id="129" name=""/>
          <p:cNvSpPr/>
          <p:nvPr/>
        </p:nvSpPr>
        <p:spPr>
          <a:xfrm>
            <a:off x="609480" y="0"/>
            <a:ext cx="7925040" cy="69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Lucida Casual"/>
              </a:rPr>
              <a:t>THE STORY OF THE LONDON STOCK EXCHANG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origins of the London Stock Exchange go back to the coffee houses of 17</a:t>
            </a:r>
            <a:r>
              <a:rPr b="0" lang="en-GB" sz="1800" spc="-1" strike="noStrike" baseline="30000">
                <a:solidFill>
                  <a:srgbClr val="000000"/>
                </a:solidFill>
                <a:latin typeface="Times New Roman"/>
              </a:rPr>
              <a:t>th </a:t>
            </a:r>
            <a:r>
              <a:rPr b="0" lang="en-GB" sz="1800" spc="-1" strike="noStrike">
                <a:solidFill>
                  <a:srgbClr val="000000"/>
                </a:solidFill>
                <a:latin typeface="Times New Roman"/>
              </a:rPr>
              <a:t> century , where people wishing to invest or raise money bought and sold shares in joint - stock compani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irst joint - stock companies in the world was founded in London in 1553. As the number of joint - stock company grew, so did the number of brokers - acting as intermediaries for investors. In 1760, after being kicked out of the Royal Exchange because of their rowdiness, a group of 150 brokers formed a club at Jonathan’s Coffee House where they met to buy and sell shares. In 1773 the members of this club voted to change the name of Jonathan's to the Stock Exchang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Exchange developed rapidly, playing a major role in financing UK companies during the Industrial Revolution. The new technology began to have an impact and in 1872 , the Exchange  Telegraph Company's tickertape, running at six words per minute, was introduced. By the 19</a:t>
            </a:r>
            <a:r>
              <a:rPr b="0" lang="en-GB" sz="1800" spc="-1" strike="noStrike" baseline="30000">
                <a:solidFill>
                  <a:srgbClr val="000000"/>
                </a:solidFill>
                <a:latin typeface="Times New Roman"/>
              </a:rPr>
              <a:t>th</a:t>
            </a:r>
            <a:r>
              <a:rPr b="0" lang="en-GB" sz="1800" spc="-1" strike="noStrike">
                <a:solidFill>
                  <a:srgbClr val="000000"/>
                </a:solidFill>
                <a:latin typeface="Times New Roman"/>
              </a:rPr>
              <a:t> century more than  20 stock exchanges were operating around the country. In 1973 a historic year also saw the first female members admitted to the London market. The outbreak of the Great War in 1914 threw Europe's markets into disarray. The London market was the last to close at the end of July 1914, reopening in the new year. The Stock Exchange Battalion of Royal Fusiliers was formed - 1,600 volunteered within a month, 400 never returned from the battlefields. During the 1960s, business continued to grow, with member firms expanding their staff - so the decision was taken to construct a new trading floor and a 26-storey office block on the site occupied by the market since 1801. This building was opened by Her Majesty the Queen in 1972.</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a:hlinkClick r:id="" action="ppaction://hlinkshowjump?jump=nextslide"/>
          </p:cNvPr>
          <p:cNvSpPr/>
          <p:nvPr/>
        </p:nvSpPr>
        <p:spPr>
          <a:xfrm>
            <a:off x="8458200" y="647712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 fill="darken" w="38876" h="21600">
                <a:moveTo>
                  <a:pt x="12431" y="3794"/>
                </a:moveTo>
                <a:lnTo>
                  <a:pt x="26444" y="10800"/>
                </a:lnTo>
                <a:lnTo>
                  <a:pt x="12431"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131" name=""/>
          <p:cNvSpPr/>
          <p:nvPr/>
        </p:nvSpPr>
        <p:spPr>
          <a:xfrm>
            <a:off x="304920" y="304920"/>
            <a:ext cx="8229600" cy="709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Comic Sans MS"/>
              </a:rPr>
              <a:t>Big Bang</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7 October 1986 - the day commonly known as the Big Bang - brought a number of changes at the Exchange:</a:t>
            </a:r>
            <a:endParaRPr b="0" lang="en-US" sz="18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wnership of member firms by an outside corporation was allowed, enabling member firms to build a large capital base to compete with competition from overseas;</a:t>
            </a:r>
            <a:endParaRPr b="0" lang="en-US" sz="18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 firms became broker/dealers able to operate in a dual capacity-either buying securities from, or selling them to, clients without the need to deal through a third party. Firms could also register as market makers committed to making firm bid and  offer prices at all times;</a:t>
            </a:r>
            <a:endParaRPr b="0" lang="en-US" sz="18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nimum scales of commission were abolished and members became free to charge their clients commission on a negotiable basis;</a:t>
            </a:r>
            <a:endParaRPr b="0" lang="en-US" sz="18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dividual members  ceased to have voting rights;</a:t>
            </a:r>
            <a:endParaRPr b="0" lang="en-US" sz="18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ding moved from being conducted face-to-face on a single market floor  to being performed via computer and telephone from separate dealing rooms. Two computer - based systems - SEAQ and SEAQ international - were introduced. less liquid securitie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Comic Sans MS"/>
              </a:rPr>
              <a:t>Company act and the council of the exchang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so in 1986, the Exchange became a private limited company under the Companies Act of 1985. While the Exchange is a private limited company with shareholders, under its Articles of Association, profits cannot be distributed to its shareholders. Instead, profits are used for financing developments by the Exchange. In 1991, the Exchange replaced the governing Council of the Exchange with a Board of Directo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50000">
              <a:srgbClr val="3333cc"/>
            </a:gs>
            <a:gs pos="100000">
              <a:srgbClr val="ff66ff"/>
            </a:gs>
          </a:gsLst>
          <a:lin ang="8100000"/>
        </a:gradFill>
      </p:bgPr>
    </p:bg>
    <p:spTree>
      <p:nvGrpSpPr>
        <p:cNvPr id="1" name=""/>
        <p:cNvGrpSpPr/>
        <p:nvPr/>
      </p:nvGrpSpPr>
      <p:grpSpPr>
        <a:xfrm>
          <a:off x="0" y="0"/>
          <a:ext cx="0" cy="0"/>
          <a:chOff x="0" y="0"/>
          <a:chExt cx="0" cy="0"/>
        </a:xfrm>
      </p:grpSpPr>
      <p:sp>
        <p:nvSpPr>
          <p:cNvPr id="55" name=""/>
          <p:cNvSpPr/>
          <p:nvPr/>
        </p:nvSpPr>
        <p:spPr>
          <a:xfrm>
            <a:off x="762120" y="6858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85800" y="533520"/>
            <a:ext cx="7772400" cy="5770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orsero poi quelle di Firenze e di Livorno e nel 1812 quella di Roma.alla fine dell’800 operavano in Italia 22 borse di commercio che favorivano lo sviluppo economico del paese. Dopo il 1856 la borsa cominciò a quotare anche dei valori mobiliari. Dopo la parentesi della 1° guerra mondiale l’attività borsistica riprese nel marzo del 1921e si sviluppò rapidamente fino al </a:t>
            </a:r>
            <a:r>
              <a:rPr b="0" lang="it-IT" sz="2400" spc="-1" strike="noStrike" u="sng">
                <a:solidFill>
                  <a:srgbClr val="ccccff"/>
                </a:solidFill>
                <a:uFillTx/>
                <a:latin typeface="Times New Roman"/>
                <a:hlinkClick r:id="rId1" action="ppaction://hlinksldjump"/>
              </a:rPr>
              <a:t>1929 </a:t>
            </a:r>
            <a:r>
              <a:rPr b="0" lang="it-IT" sz="2400" spc="-1" strike="noStrike">
                <a:solidFill>
                  <a:srgbClr val="000000"/>
                </a:solidFill>
                <a:latin typeface="Times New Roman"/>
              </a:rPr>
              <a:t>per poi diminuire gradatamente. Fino al 1996/’97 (anni nei quali avviene la privatizzazione) in Italia esistevano dieci borse valori. Il mercato regolamentato ha avuto soprattutto dal 1991 al 1996, un ciclo di trasformazioni che lo ha modernizzato, sia da un punto di vista operativo sia da un punto di vista istituzionale le tappe più importanti di questo ciclo sono state determinate da tre disposizioni: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a:hlinkClick r:id="" action="ppaction://hlinkshowjump?jump=nextslide"/>
          </p:cNvPr>
          <p:cNvSpPr/>
          <p:nvPr/>
        </p:nvSpPr>
        <p:spPr>
          <a:xfrm>
            <a:off x="800100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3794"/>
                </a:moveTo>
                <a:lnTo>
                  <a:pt x="25003" y="10800"/>
                </a:lnTo>
                <a:lnTo>
                  <a:pt x="10990"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304920" y="0"/>
            <a:ext cx="8610480" cy="7026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Comic Sans MS"/>
              </a:rPr>
              <a:t>Settlement</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tween 1880 and 1997, the Exchange provided a settlement service - transferring stock from seller to buyer and arranging the corresponding movement of money between the two parties. In April 1997, settlement moved to CRESTCo which operates the CREST electronic settlement system.</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ST is the paperless share settlement system through which trades executed on the Exchange’s markets can be settled. CREST is operated by CRESTCo, and was introduced in 1996. </a:t>
            </a:r>
            <a:endParaRPr b="0" lang="en-US" sz="1800" spc="-1" strike="noStrike">
              <a:solidFill>
                <a:srgbClr val="000000"/>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Comic Sans MS"/>
              </a:rPr>
              <a:t>Aim</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June 1995, the Exchange launched AIM(Alternative Investment Market) to provide a market that is accessible to both investors and companies from a wide range of backgrounds - including start-ups and more established firms.</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Comic Sans MS"/>
              </a:rPr>
              <a:t>The order book (SETS)</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Stock Exchange Electronic Trading Service (SETS) was launched on 20 October 1997 by  the Chancellor of the Exchequer, Gordon Brown.</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electronic order book was introduced to bring greater speed and efficiency to the London market, making London an even more attractive and competitive place in which to do business.</a:t>
            </a:r>
            <a:endParaRPr b="0" lang="en-US" sz="1800" spc="-1" strike="noStrike">
              <a:solidFill>
                <a:srgbClr val="000000"/>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Comic Sans MS"/>
              </a:rPr>
              <a:t>European Alliance</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July 1998, the Exchange and Frankfurt's Deutsche Bôrse announced the formation of a strategic alliance, with the aim of harmonising the markets for leading British and German securities and developing a joint electronic trading platform.</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irst phase of the Alliance started in January 1999, providing a common access package for both exchanges and a single point of liquidity for UK and German stocks. This was the first step on the road to the creation of a pan-European market for blue chip shares, which ultimately will reduce the costs and complexity of dealing in securities across Europe.</a:t>
            </a:r>
            <a:endParaRPr b="0" lang="en-US" sz="1800" spc="-1" strike="noStrike">
              <a:solidFill>
                <a:srgbClr val="000000"/>
              </a:solidFill>
              <a:latin typeface="Times New Roman"/>
            </a:endParaRPr>
          </a:p>
        </p:txBody>
      </p:sp>
      <p:sp>
        <p:nvSpPr>
          <p:cNvPr id="134" name=""/>
          <p:cNvSpPr/>
          <p:nvPr/>
        </p:nvSpPr>
        <p:spPr>
          <a:xfrm>
            <a:off x="8610480" y="65530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135" name=""/>
          <p:cNvSpPr/>
          <p:nvPr/>
        </p:nvSpPr>
        <p:spPr>
          <a:xfrm>
            <a:off x="228600" y="304920"/>
            <a:ext cx="8534520" cy="6807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Lucida Casual"/>
              </a:rPr>
              <a:t>THE FUNCTIONS AND THE COMPOSITION OF THE LONDON STOCK EXCHANGE</a:t>
            </a:r>
            <a:endParaRPr b="0" lang="en-US" sz="1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ondon Stock Exchange is one of the oldest and well established stock exchanges in the world. In essence, it provides a marketplace where securities can be bought by the people who wish to invest or sold by those who wish to raise finance.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ost important roles of the market can be summarized in these three main points: </a:t>
            </a:r>
            <a:endParaRPr b="0" lang="en-US" sz="1800" spc="-1" strike="noStrike">
              <a:solidFill>
                <a:srgbClr val="000000"/>
              </a:solidFill>
              <a:latin typeface="Times New Roman"/>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Exchange is responsible for vetting companies before they can be admitted to have their shares traded on a public market </a:t>
            </a:r>
            <a:endParaRPr b="0" lang="en-US" sz="1800" spc="-1" strike="noStrike">
              <a:solidFill>
                <a:srgbClr val="000000"/>
              </a:solidFill>
              <a:latin typeface="Times New Roman"/>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provides a marketplace for shares to be bought and sold, by bringing companies and investors together in one place </a:t>
            </a:r>
            <a:endParaRPr b="0" lang="en-US" sz="1800" spc="-1" strike="noStrike">
              <a:solidFill>
                <a:srgbClr val="000000"/>
              </a:solidFill>
              <a:latin typeface="Times New Roman"/>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watches over the market to ensure that it is working efficiently and fairly.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ny companies and investors use stock exchanges, but for different reason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companies, stock exchanges provide a means of raising money to develop and expand their businesses. The Exchange provides the marketplace to buy and sell shares, but they are not the only investments traded on the London Stock Exchange. The main types of securities traded are:</a:t>
            </a:r>
            <a:endParaRPr b="0" lang="en-US" sz="1800" spc="-1" strike="noStrike">
              <a:solidFill>
                <a:srgbClr val="000000"/>
              </a:solidFill>
              <a:latin typeface="Times New Roman"/>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rdinary shares issued by UK companies, known as 'UK equities' </a:t>
            </a:r>
            <a:endParaRPr b="0" lang="en-US" sz="1800" spc="-1" strike="noStrike">
              <a:solidFill>
                <a:srgbClr val="000000"/>
              </a:solidFill>
              <a:latin typeface="Times New Roman"/>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rdinary shares issued by companies from outside the UK, known as 'overseas equities' </a:t>
            </a:r>
            <a:endParaRPr b="0" lang="en-US" sz="1800" spc="-1" strike="noStrike">
              <a:solidFill>
                <a:srgbClr val="000000"/>
              </a:solidFill>
              <a:latin typeface="Times New Roman"/>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onds issued by the UK Government to raise money to fund its spending. These give the owner a regular interest payment every year, and the repayment of a set amount at some fixed date in the future. They are better known as 'gilts' or 'gilt-edged securities' </a:t>
            </a:r>
            <a:endParaRPr b="0" lang="en-US" sz="1800" spc="-1" strike="noStrike">
              <a:solidFill>
                <a:srgbClr val="000000"/>
              </a:solidFill>
              <a:latin typeface="Times New Roman"/>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onds issued by companies or local authorities. Like gilts, these securities provide the owner with a regular return and a final lump sum payment. They are generally referred to as 'fixed interest securities' </a:t>
            </a:r>
            <a:endParaRPr b="0"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urobonds, warrants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
          <p:cNvSpPr/>
          <p:nvPr/>
        </p:nvSpPr>
        <p:spPr>
          <a:xfrm>
            <a:off x="8229600" y="65530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 fill="darken" w="64724" h="21600">
                <a:moveTo>
                  <a:pt x="25355" y="10800"/>
                </a:moveTo>
                <a:lnTo>
                  <a:pt x="39368" y="3794"/>
                </a:lnTo>
                <a:lnTo>
                  <a:pt x="39368"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37" name=""/>
          <p:cNvSpPr/>
          <p:nvPr/>
        </p:nvSpPr>
        <p:spPr>
          <a:xfrm>
            <a:off x="380880" y="304920"/>
            <a:ext cx="8077320" cy="67050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Comic Sans MS"/>
              </a:rPr>
              <a:t>THE COMPOSITION OF THE LONDON STOCK EXCHANGE</a:t>
            </a:r>
            <a:endParaRPr b="0"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ondon Stock Exchange offers separate markets suited to different types of companies.</a:t>
            </a:r>
            <a:endParaRPr b="0"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Main market (official list)</a:t>
            </a:r>
            <a:endParaRPr b="0"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is home to most of the best known British and international companies whose shares are bought and sold publicly - including household names ranging from banks and breweries to football clubs and supermarkets. This is the largest and longest established of the Exchange's markets.</a:t>
            </a:r>
            <a:endParaRPr b="0"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en a company wants to trade its shares on the main market, it first has to meet the stringent criteria set out in the UK Listing Authority's Listing Rules. Subsequently, it has to follow rules and guidelines which ensure that shareholders are kept informed of its activities and major developments.</a:t>
            </a:r>
            <a:endParaRPr b="0"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ithin the main market is techMARK - the London Stock Exchange's Market for innovative technology companies. It is designed to give its companies increased profile, and allow investors to identify innovative companies with greater ease.</a:t>
            </a:r>
            <a:endParaRPr b="0" lang="en-US" sz="1800" spc="-1" strike="noStrike">
              <a:solidFill>
                <a:srgbClr val="000000"/>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EAQ</a:t>
            </a:r>
            <a:endParaRPr b="0" lang="en-US" sz="18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arkets of the London Stock Exchange are run by the SEAQ ( Stock Exchange Automated Quotation) that is a continuously updated database which distributes market makers’ bid and offer prices digitally to the market. Registered market makers must maintain their prices during the mandatory quote period – 08.00 to 16.30 – Monday to Friday. SEAQ can be viewed on a wide range of screen – based information services. SEAQ includes:</a:t>
            </a:r>
            <a:endParaRPr b="0" lang="en-US" sz="1800" spc="-1" strike="noStrike">
              <a:solidFill>
                <a:srgbClr val="000000"/>
              </a:solidFill>
              <a:latin typeface="Times New Roman"/>
            </a:endParaRPr>
          </a:p>
          <a:p>
            <a:pPr algn="just">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rice dissemination service which distributes market makers’ quotes to the market place;</a:t>
            </a:r>
            <a:endParaRPr b="0" lang="en-US" sz="1800" spc="-1" strike="noStrike">
              <a:solidFill>
                <a:srgbClr val="000000"/>
              </a:solidFill>
              <a:latin typeface="Times New Roman"/>
            </a:endParaRPr>
          </a:p>
          <a:p>
            <a:pPr algn="just">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trade ticker which publishes all trades reported to SEAQ;</a:t>
            </a:r>
            <a:endParaRPr b="0" lang="en-US" sz="1800" spc="-1" strike="noStrike">
              <a:solidFill>
                <a:srgbClr val="000000"/>
              </a:solidFill>
              <a:latin typeface="Times New Roman"/>
            </a:endParaRPr>
          </a:p>
          <a:p>
            <a:pPr algn="just">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arket makers’ bid and offer prices and sizes, used to create the SEAQ “yellow str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8305920" y="640080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10800"/>
                </a:moveTo>
                <a:lnTo>
                  <a:pt x="26797" y="3794"/>
                </a:lnTo>
                <a:lnTo>
                  <a:pt x="26797"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457200" y="685800"/>
            <a:ext cx="8153280" cy="544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egge 2 gennaio 1991, n. 1</a:t>
            </a:r>
            <a:r>
              <a:rPr b="0" lang="it-IT" sz="2400" spc="-1" strike="noStrike">
                <a:solidFill>
                  <a:srgbClr val="000000"/>
                </a:solidFill>
                <a:latin typeface="Times New Roman"/>
              </a:rPr>
              <a:t>; riguardante la disciplina dell’attività di intermediazione mobiliare  che viene riservata alle Società di Intermediazione Mobiliare (SIM) e alle banche</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egge 17 maggio 1991, n. 157</a:t>
            </a:r>
            <a:r>
              <a:rPr b="0" lang="it-IT" sz="2400" spc="-1" strike="noStrike">
                <a:solidFill>
                  <a:srgbClr val="000000"/>
                </a:solidFill>
                <a:latin typeface="Times New Roman"/>
              </a:rPr>
              <a:t>; con la quale sono state emanate norme sull’uso di notizie riservate nelle operazioni di mercato (legge contro </a:t>
            </a:r>
            <a:r>
              <a:rPr b="1" i="1" lang="it-IT" sz="2400" spc="-1" strike="noStrike">
                <a:solidFill>
                  <a:srgbClr val="000000"/>
                </a:solidFill>
                <a:latin typeface="Times New Roman"/>
              </a:rPr>
              <a:t>l’insider trading</a:t>
            </a:r>
            <a:r>
              <a:rPr b="0" lang="it-IT" sz="2400" spc="-1" strike="noStrike">
                <a:solidFill>
                  <a:srgbClr val="000000"/>
                </a:solidFill>
                <a:latin typeface="Times New Roman"/>
              </a:rPr>
              <a:t> ). La legge ha stabilito il divieto di acquistare o vendere valori mobiliari nel caso in cui si è a conoscenza di informazioni riservate.</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Decreto legislativo n. 415, del 23 luglio 1996</a:t>
            </a:r>
            <a:r>
              <a:rPr b="0" lang="it-IT" sz="2400" spc="-1" strike="noStrike">
                <a:solidFill>
                  <a:srgbClr val="000000"/>
                </a:solidFill>
                <a:latin typeface="Times New Roman"/>
              </a:rPr>
              <a:t> che enuncia che i compiti organizzativi e di gestione del mercato sono riservati all’iniziativa priv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po il </a:t>
            </a:r>
            <a:r>
              <a:rPr b="0" lang="it-IT" sz="2400" spc="-1" strike="noStrike" u="sng">
                <a:solidFill>
                  <a:srgbClr val="ccccff"/>
                </a:solidFill>
                <a:uFillTx/>
                <a:latin typeface="Times New Roman"/>
                <a:hlinkClick r:id="rId2" action="ppaction://hlinksldjump"/>
              </a:rPr>
              <a:t>processo di privatizzazione</a:t>
            </a:r>
            <a:r>
              <a:rPr b="0" lang="it-IT" sz="2400" spc="-1" strike="noStrike">
                <a:solidFill>
                  <a:srgbClr val="000000"/>
                </a:solidFill>
                <a:latin typeface="Times New Roman"/>
              </a:rPr>
              <a:t>, la borsa valori viene esercitata  dalla </a:t>
            </a:r>
            <a:r>
              <a:rPr b="1" lang="it-IT" sz="2800" spc="-1" strike="noStrike">
                <a:solidFill>
                  <a:srgbClr val="000000"/>
                </a:solidFill>
                <a:latin typeface="Times New Roman"/>
              </a:rPr>
              <a:t>Borsa Italiana S. p. A.</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99ccff"/>
            </a:gs>
            <a:gs pos="100000">
              <a:srgbClr val="ffccff"/>
            </a:gs>
          </a:gsLst>
          <a:lin ang="8100000"/>
        </a:gradFill>
      </p:bgPr>
    </p:bg>
    <p:spTree>
      <p:nvGrpSpPr>
        <p:cNvPr id="1" name=""/>
        <p:cNvGrpSpPr/>
        <p:nvPr/>
      </p:nvGrpSpPr>
      <p:grpSpPr>
        <a:xfrm>
          <a:off x="0" y="0"/>
          <a:ext cx="0" cy="0"/>
          <a:chOff x="0" y="0"/>
          <a:chExt cx="0" cy="0"/>
        </a:xfrm>
      </p:grpSpPr>
      <p:sp>
        <p:nvSpPr>
          <p:cNvPr id="59" name=""/>
          <p:cNvSpPr/>
          <p:nvPr/>
        </p:nvSpPr>
        <p:spPr>
          <a:xfrm>
            <a:off x="685800" y="1219320"/>
            <a:ext cx="77724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 Borsa Italiana S.p.A</a:t>
            </a:r>
            <a:r>
              <a:rPr b="0" lang="it-IT" sz="2400" spc="-1" strike="noStrike">
                <a:solidFill>
                  <a:srgbClr val="000000"/>
                </a:solidFill>
                <a:latin typeface="Times New Roman"/>
              </a:rPr>
              <a:t>., operativa dal 2 gennaio 1998, è la società privata responsabile dell'organizzazione e della gestione del mercato borsist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obiettivo principale della Borsa italiana</a:t>
            </a:r>
            <a:r>
              <a:rPr b="0" lang="it-IT" sz="2400" spc="-1" strike="noStrike">
                <a:solidFill>
                  <a:srgbClr val="000000"/>
                </a:solidFill>
                <a:latin typeface="Times New Roman"/>
              </a:rPr>
              <a:t> è assicurare lo sviluppo dei mercati, massimizzare le possibilità di negoziare alle migliori condizioni di liquidità, e perseguire la più alta efficienza gestionale e la remunerazione del capitale. Grazie al potenziamento delle proprie competenze, la Borsa Italiana è in grado oggi di migliorare continuamente la qualità del mercato e di competere su un piano di parità con le altre società-mercato internazionali. La Borsa è un punto di riferimento dell’intero sistema Paese, un valore importante da trasmettere sia al grande pubblico dei risparmiatori sia all’insieme degli stakeholders del mercato. </a:t>
            </a:r>
            <a:endParaRPr b="0" lang="en-US" sz="2400" spc="-1" strike="noStrike">
              <a:solidFill>
                <a:srgbClr val="000000"/>
              </a:solidFill>
              <a:latin typeface="Times New Roman"/>
            </a:endParaRPr>
          </a:p>
        </p:txBody>
      </p:sp>
      <p:sp>
        <p:nvSpPr>
          <p:cNvPr id="60" name=""/>
          <p:cNvSpPr txBox="1"/>
          <p:nvPr/>
        </p:nvSpPr>
        <p:spPr>
          <a:xfrm>
            <a:off x="1219320" y="457200"/>
            <a:ext cx="6324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orsa Italiana S.p.A.</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1" name="">
            <a:hlinkClick r:id="" action="ppaction://hlinkshowjump?jump=nextslide"/>
          </p:cNvPr>
          <p:cNvSpPr/>
          <p:nvPr/>
        </p:nvSpPr>
        <p:spPr>
          <a:xfrm>
            <a:off x="8077320" y="6324480"/>
            <a:ext cx="1066680" cy="533520"/>
          </a:xfrm>
          <a:custGeom>
            <a:avLst/>
            <a:gdLst>
              <a:gd name="textAreaLeft" fmla="*/ 34560 w 1066680"/>
              <a:gd name="textAreaRight" fmla="*/ 1032120 w 1066680"/>
              <a:gd name="textAreaTop" fmla="*/ 34560 h 533520"/>
              <a:gd name="textAreaBottom" fmla="*/ 49896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771" y="1400"/>
                </a:lnTo>
                <a:lnTo>
                  <a:pt x="1400" y="1400"/>
                </a:lnTo>
                <a:close/>
              </a:path>
              <a:path fill="darken" w="43171" h="21600">
                <a:moveTo>
                  <a:pt x="43171" y="0"/>
                </a:moveTo>
                <a:lnTo>
                  <a:pt x="43171" y="21600"/>
                </a:lnTo>
                <a:lnTo>
                  <a:pt x="41771" y="20200"/>
                </a:lnTo>
                <a:lnTo>
                  <a:pt x="41771" y="1400"/>
                </a:lnTo>
                <a:close/>
              </a:path>
              <a:path fill="darkenLess" w="43171" h="21600">
                <a:moveTo>
                  <a:pt x="43171" y="21600"/>
                </a:moveTo>
                <a:lnTo>
                  <a:pt x="0" y="21600"/>
                </a:lnTo>
                <a:lnTo>
                  <a:pt x="1400" y="20200"/>
                </a:lnTo>
                <a:lnTo>
                  <a:pt x="41771" y="20200"/>
                </a:lnTo>
                <a:close/>
              </a:path>
              <a:path fill="lighten" w="43171" h="21600">
                <a:moveTo>
                  <a:pt x="0" y="21600"/>
                </a:moveTo>
                <a:lnTo>
                  <a:pt x="0" y="0"/>
                </a:lnTo>
                <a:lnTo>
                  <a:pt x="1400" y="1400"/>
                </a:lnTo>
                <a:lnTo>
                  <a:pt x="1400" y="20200"/>
                </a:lnTo>
                <a:close/>
              </a:path>
              <a:path fill="darken" w="43171" h="21600">
                <a:moveTo>
                  <a:pt x="14579" y="3794"/>
                </a:moveTo>
                <a:lnTo>
                  <a:pt x="28592" y="10800"/>
                </a:lnTo>
                <a:lnTo>
                  <a:pt x="14579"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ccff"/>
            </a:gs>
            <a:gs pos="100000">
              <a:srgbClr val="99ccff"/>
            </a:gs>
          </a:gsLst>
          <a:lin ang="8100000"/>
        </a:gradFill>
      </p:bgPr>
    </p:bg>
    <p:spTree>
      <p:nvGrpSpPr>
        <p:cNvPr id="1" name=""/>
        <p:cNvGrpSpPr/>
        <p:nvPr/>
      </p:nvGrpSpPr>
      <p:grpSpPr>
        <a:xfrm>
          <a:off x="0" y="0"/>
          <a:ext cx="0" cy="0"/>
          <a:chOff x="0" y="0"/>
          <a:chExt cx="0" cy="0"/>
        </a:xfrm>
      </p:grpSpPr>
      <p:sp>
        <p:nvSpPr>
          <p:cNvPr id="62" name=""/>
          <p:cNvSpPr/>
          <p:nvPr/>
        </p:nvSpPr>
        <p:spPr>
          <a:xfrm>
            <a:off x="533520" y="923760"/>
            <a:ext cx="7924680" cy="596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a:t>
            </a:r>
            <a:r>
              <a:rPr b="1" lang="it-IT" sz="2400" spc="-1" strike="noStrike">
                <a:solidFill>
                  <a:srgbClr val="000000"/>
                </a:solidFill>
                <a:latin typeface="Comic Sans MS"/>
              </a:rPr>
              <a:t> </a:t>
            </a:r>
            <a:r>
              <a:rPr b="0" lang="it-IT" sz="2400" spc="-1" strike="noStrike">
                <a:solidFill>
                  <a:srgbClr val="000000"/>
                </a:solidFill>
                <a:latin typeface="Times New Roman"/>
              </a:rPr>
              <a:t>Borsa Italiana S.p.A. organizza e gestisce i mercati mobiliari italiani. </a:t>
            </a:r>
            <a:r>
              <a:rPr b="1" lang="it-IT" sz="2400" spc="-1" strike="noStrike">
                <a:solidFill>
                  <a:srgbClr val="000000"/>
                </a:solidFill>
                <a:latin typeface="Times New Roman"/>
              </a:rPr>
              <a:t>Le sue competenze</a:t>
            </a:r>
            <a:r>
              <a:rPr b="0" lang="it-IT" sz="2400" spc="-1" strike="noStrike">
                <a:solidFill>
                  <a:srgbClr val="000000"/>
                </a:solidFill>
                <a:latin typeface="Times New Roman"/>
              </a:rPr>
              <a:t> sono: </a:t>
            </a:r>
            <a:r>
              <a:rPr b="0" i="1" lang="it-IT" sz="2400" spc="-1" strike="noStrike">
                <a:solidFill>
                  <a:srgbClr val="000000"/>
                </a:solidFill>
                <a:latin typeface="Times New Roman"/>
              </a:rPr>
              <a:t>definizione dell'organizzazione e del funzionamento dei mercati</a:t>
            </a:r>
            <a:r>
              <a:rPr b="0" lang="it-IT" sz="2400" spc="-1" strike="noStrike">
                <a:solidFill>
                  <a:srgbClr val="000000"/>
                </a:solidFill>
                <a:latin typeface="Times New Roman"/>
              </a:rPr>
              <a:t>, </a:t>
            </a:r>
            <a:r>
              <a:rPr b="0" i="1" lang="it-IT" sz="2400" spc="-1" strike="noStrike">
                <a:solidFill>
                  <a:srgbClr val="000000"/>
                </a:solidFill>
                <a:latin typeface="Times New Roman"/>
              </a:rPr>
              <a:t>disciplina dei requisiti e delle procedure di ammissione e permanenza sul mercato per le società emittenti e per gli operatori, vigilanza e gestione del mercato, gestione dell'informativa societaria</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volge attività organizzative, produttive, commerciali e promozionali per assicurare la competitività e lo sviluppo dei mercati da essa gestiti, con l'obiettivo di massimizzare nel tempo la possibilità per i vari attori di negoziare alle migliori condizioni di liquidità, trasparenza e competitività e di sviluppare servizi a elevato valore aggiunto per la comunità finanziaria, perseguendo la massima efficienza e redditività.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 action="ppaction://hlinkshowjump?jump=nextslide"/>
          </p:cNvPr>
          <p:cNvSpPr/>
          <p:nvPr/>
        </p:nvSpPr>
        <p:spPr>
          <a:xfrm>
            <a:off x="8077320" y="6324480"/>
            <a:ext cx="1066680" cy="533520"/>
          </a:xfrm>
          <a:custGeom>
            <a:avLst/>
            <a:gdLst>
              <a:gd name="textAreaLeft" fmla="*/ 34560 w 1066680"/>
              <a:gd name="textAreaRight" fmla="*/ 1032120 w 1066680"/>
              <a:gd name="textAreaTop" fmla="*/ 34560 h 533520"/>
              <a:gd name="textAreaBottom" fmla="*/ 49896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771" y="1400"/>
                </a:lnTo>
                <a:lnTo>
                  <a:pt x="1400" y="1400"/>
                </a:lnTo>
                <a:close/>
              </a:path>
              <a:path fill="darken" w="43171" h="21600">
                <a:moveTo>
                  <a:pt x="43171" y="0"/>
                </a:moveTo>
                <a:lnTo>
                  <a:pt x="43171" y="21600"/>
                </a:lnTo>
                <a:lnTo>
                  <a:pt x="41771" y="20200"/>
                </a:lnTo>
                <a:lnTo>
                  <a:pt x="41771" y="1400"/>
                </a:lnTo>
                <a:close/>
              </a:path>
              <a:path fill="darkenLess" w="43171" h="21600">
                <a:moveTo>
                  <a:pt x="43171" y="21600"/>
                </a:moveTo>
                <a:lnTo>
                  <a:pt x="0" y="21600"/>
                </a:lnTo>
                <a:lnTo>
                  <a:pt x="1400" y="20200"/>
                </a:lnTo>
                <a:lnTo>
                  <a:pt x="41771" y="20200"/>
                </a:lnTo>
                <a:close/>
              </a:path>
              <a:path fill="lighten" w="43171" h="21600">
                <a:moveTo>
                  <a:pt x="0" y="21600"/>
                </a:moveTo>
                <a:lnTo>
                  <a:pt x="0" y="0"/>
                </a:lnTo>
                <a:lnTo>
                  <a:pt x="1400" y="1400"/>
                </a:lnTo>
                <a:lnTo>
                  <a:pt x="1400" y="20200"/>
                </a:lnTo>
                <a:close/>
              </a:path>
              <a:path fill="darken" w="43171" h="21600">
                <a:moveTo>
                  <a:pt x="14579" y="3794"/>
                </a:moveTo>
                <a:lnTo>
                  <a:pt x="28592" y="10800"/>
                </a:lnTo>
                <a:lnTo>
                  <a:pt x="14579"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609480" y="376200"/>
            <a:ext cx="8001000" cy="6502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 Borsa Italiana </a:t>
            </a:r>
            <a:r>
              <a:rPr b="0" lang="it-IT" sz="2400" spc="-1" strike="noStrike">
                <a:solidFill>
                  <a:srgbClr val="000000"/>
                </a:solidFill>
                <a:latin typeface="Times New Roman"/>
              </a:rPr>
              <a:t>un'impresa professionale che garantisce un mercato liquido, trasparente, e competitivo a emittenti, intermediari e investitori, in grado di interpretare le loro esigenze assicurando prodotti e servizi sempre più avanzati e completi </a:t>
            </a:r>
            <a:r>
              <a:rPr b="1" lang="it-IT" sz="2400" spc="-1" strike="noStrike">
                <a:solidFill>
                  <a:srgbClr val="000000"/>
                </a:solidFill>
                <a:latin typeface="Times New Roman"/>
              </a:rPr>
              <a:t>gestisce:</a:t>
            </a:r>
            <a:endParaRPr b="0" lang="en-US" sz="24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a:t>
            </a:r>
            <a:r>
              <a:rPr b="1" i="1" lang="it-IT" sz="2400" spc="-1" strike="noStrike">
                <a:solidFill>
                  <a:srgbClr val="000000"/>
                </a:solidFill>
                <a:latin typeface="Times New Roman"/>
              </a:rPr>
              <a:t>Mercato di Borsa</a:t>
            </a:r>
            <a:r>
              <a:rPr b="0" lang="it-IT" sz="2400" spc="-1" strike="noStrike">
                <a:solidFill>
                  <a:srgbClr val="000000"/>
                </a:solidFill>
                <a:latin typeface="Times New Roman"/>
              </a:rPr>
              <a:t>, formato d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Monotype Sorts"/>
                <a:ea typeface="Monotype Sorts"/>
              </a:rPr>
              <a:t></a:t>
            </a:r>
            <a:r>
              <a:rPr b="0" lang="it-IT" sz="2400" spc="-1" strike="noStrike">
                <a:solidFill>
                  <a:srgbClr val="000000"/>
                </a:solidFill>
                <a:latin typeface="Times New Roman"/>
              </a:rPr>
              <a:t> </a:t>
            </a:r>
            <a:r>
              <a:rPr b="0" lang="it-IT" sz="2400" spc="-1" strike="noStrike" u="sng">
                <a:solidFill>
                  <a:srgbClr val="ccccff"/>
                </a:solidFill>
                <a:uFillTx/>
                <a:latin typeface="Times New Roman"/>
                <a:hlinkClick r:id="rId2" action="ppaction://hlinksldjump"/>
              </a:rPr>
              <a:t>Mercato telematico azionario - MTA</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lvl="2" marL="914400" algn="just">
              <a:lnSpc>
                <a:spcPct val="100000"/>
              </a:lnSpc>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u="sng">
                <a:solidFill>
                  <a:srgbClr val="ccccff"/>
                </a:solidFill>
                <a:uFillTx/>
                <a:latin typeface="Times New Roman"/>
                <a:hlinkClick r:id="rId3" action="ppaction://hlinksldjump"/>
              </a:rPr>
              <a:t>Mercato telematico delle obbligazioni e dei titoli</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ccccff"/>
                </a:solidFill>
                <a:uFillTx/>
                <a:latin typeface="Times New Roman"/>
                <a:hlinkClick r:id="rId4" action="ppaction://hlinksldjump"/>
              </a:rPr>
              <a:t>           di Stato; - MOT</a:t>
            </a:r>
            <a:r>
              <a:rPr b="0" lang="it-IT" sz="2400" spc="-1" strike="noStrike">
                <a:solidFill>
                  <a:srgbClr val="000000"/>
                </a:solidFill>
                <a:latin typeface="Times New Roman"/>
              </a:rPr>
              <a:t>, EuroMOT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Monotype Sorts"/>
                <a:ea typeface="Monotype Sorts"/>
              </a:rPr>
              <a:t></a:t>
            </a:r>
            <a:r>
              <a:rPr b="0" lang="it-IT" sz="2400" spc="-1" strike="noStrike">
                <a:solidFill>
                  <a:srgbClr val="000000"/>
                </a:solidFill>
                <a:latin typeface="Times New Roman"/>
              </a:rPr>
              <a:t> </a:t>
            </a:r>
            <a:r>
              <a:rPr b="0" lang="it-IT" sz="2400" spc="-1" strike="noStrike">
                <a:solidFill>
                  <a:srgbClr val="000000"/>
                </a:solidFill>
                <a:latin typeface="Times New Roman"/>
              </a:rPr>
              <a:t>Mercato telematico dei premi - MPR;</a:t>
            </a:r>
            <a:endParaRPr b="0" lang="en-US" sz="2400" spc="-1" strike="noStrike">
              <a:solidFill>
                <a:srgbClr val="000000"/>
              </a:solidFill>
              <a:latin typeface="Times New Roman"/>
            </a:endParaRPr>
          </a:p>
          <a:p>
            <a:pPr algn="just">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ccccff"/>
                </a:solidFill>
                <a:uFillTx/>
                <a:latin typeface="Times New Roman"/>
                <a:hlinkClick r:id="rId5" action="ppaction://hlinksldjump"/>
              </a:rPr>
              <a:t>il </a:t>
            </a:r>
            <a:r>
              <a:rPr b="0" lang="it-IT" sz="2400" spc="-1" strike="noStrike" u="sng">
                <a:solidFill>
                  <a:srgbClr val="ccccff"/>
                </a:solidFill>
                <a:uFillTx/>
                <a:latin typeface="Times New Roman"/>
                <a:hlinkClick r:id="rId6" action="ppaction://hlinksldjump"/>
              </a:rPr>
              <a:t>Nuovo Mercato</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a:t>
            </a:r>
            <a:r>
              <a:rPr b="0" lang="it-IT" sz="2400" spc="-1" strike="noStrike" u="sng">
                <a:solidFill>
                  <a:srgbClr val="ccccff"/>
                </a:solidFill>
                <a:uFillTx/>
                <a:latin typeface="Times New Roman"/>
                <a:hlinkClick r:id="rId7" action="ppaction://hlinksldjump"/>
              </a:rPr>
              <a:t>Mercato Ristretto</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a:t>
            </a:r>
            <a:r>
              <a:rPr b="0" lang="it-IT" sz="2400" spc="-1" strike="noStrike" u="sng">
                <a:solidFill>
                  <a:srgbClr val="ccccff"/>
                </a:solidFill>
                <a:uFillTx/>
                <a:latin typeface="Times New Roman"/>
                <a:hlinkClick r:id="rId8" action="ppaction://hlinksldjump"/>
              </a:rPr>
              <a:t>Mercato italiano degli strumenti derivati azionari</a:t>
            </a:r>
            <a:r>
              <a:rPr b="0" lang="it-IT" sz="2400" spc="-1" strike="noStrike" u="sng">
                <a:solidFill>
                  <a:srgbClr val="ccccff"/>
                </a:solidFill>
                <a:uFillTx/>
                <a:latin typeface="Times New Roman"/>
                <a:hlinkClick r:id="rId9" action="ppaction://hlinksldjump"/>
              </a:rPr>
              <a:t>   	  (</a:t>
            </a:r>
            <a:r>
              <a:rPr b="0" lang="it-IT" sz="2400" spc="-1" strike="noStrike" u="sng">
                <a:solidFill>
                  <a:srgbClr val="ccccff"/>
                </a:solidFill>
                <a:uFillTx/>
                <a:latin typeface="Times New Roman"/>
                <a:hlinkClick r:id="rId10" action="ppaction://hlinksldjump"/>
              </a:rPr>
              <a:t>IDEM</a:t>
            </a:r>
            <a:r>
              <a:rPr b="0" lang="it-IT" sz="2400" spc="-1" strike="noStrike" u="sng">
                <a:solidFill>
                  <a:srgbClr val="ccccff"/>
                </a:solidFill>
                <a:uFillTx/>
                <a:latin typeface="Times New Roman"/>
                <a:hlinkClick r:id="rId11" action="ppaction://hlinksldjump"/>
              </a:rPr>
              <a:t>)</a:t>
            </a:r>
            <a:r>
              <a:rPr b="0" lang="it-IT" sz="2400" spc="-1" strike="noStrike">
                <a:solidFill>
                  <a:srgbClr val="000000"/>
                </a:solidFill>
                <a:latin typeface="Times New Roman"/>
              </a:rPr>
              <a:t> che comprend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Mercato degli strumenti derivati sui tassi di interesse (MIF)</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Mercato telematico delle opzioni (M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a:hlinkClick r:id="rId12" action="ppaction://hlinksldjump"/>
          </p:cNvPr>
          <p:cNvSpPr/>
          <p:nvPr/>
        </p:nvSpPr>
        <p:spPr>
          <a:xfrm>
            <a:off x="807732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ccccff"/>
            </a:gs>
            <a:gs pos="100000">
              <a:srgbClr val="ccffff"/>
            </a:gs>
          </a:gsLst>
          <a:lin ang="8100000"/>
        </a:gradFill>
      </p:bgPr>
    </p:bg>
    <p:spTree>
      <p:nvGrpSpPr>
        <p:cNvPr id="1" name=""/>
        <p:cNvGrpSpPr/>
        <p:nvPr/>
      </p:nvGrpSpPr>
      <p:grpSpPr>
        <a:xfrm>
          <a:off x="0" y="0"/>
          <a:ext cx="0" cy="0"/>
          <a:chOff x="0" y="0"/>
          <a:chExt cx="0" cy="0"/>
        </a:xfrm>
      </p:grpSpPr>
      <p:sp>
        <p:nvSpPr>
          <p:cNvPr id="66" name=""/>
          <p:cNvSpPr/>
          <p:nvPr/>
        </p:nvSpPr>
        <p:spPr>
          <a:xfrm>
            <a:off x="457200" y="533520"/>
            <a:ext cx="78487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a:t>
            </a:r>
            <a:r>
              <a:rPr b="1" lang="it-IT" sz="2400" spc="-1" strike="noStrike">
                <a:solidFill>
                  <a:srgbClr val="000000"/>
                </a:solidFill>
                <a:latin typeface="Times New Roman"/>
              </a:rPr>
              <a:t>borsa valori </a:t>
            </a:r>
            <a:r>
              <a:rPr b="0" lang="it-IT" sz="2400" spc="-1" strike="noStrike">
                <a:solidFill>
                  <a:srgbClr val="000000"/>
                </a:solidFill>
                <a:latin typeface="Times New Roman"/>
              </a:rPr>
              <a:t>è il principale mercato secondario regolamentato per la negoziazione degli strumenti finanziari e delle valute e accoglie la maggior parte degli scambi che danno vita al mercato; la sua funzione essenziale è creare l’incontro tra la domanda e l’offerta di capitali, rendendo liquidi gli investimenti e favorendo l’afflusso del risparmio agli enti e alle società che emettono i titoli attraverso il loro classam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borsa valori moltiplica le opportunità di acquisto e di vendita dei valori mobiliari, i suoi </a:t>
            </a:r>
            <a:r>
              <a:rPr b="1" i="1" lang="it-IT" sz="2400" spc="-1" strike="noStrike">
                <a:solidFill>
                  <a:srgbClr val="000000"/>
                </a:solidFill>
                <a:latin typeface="Times New Roman"/>
              </a:rPr>
              <a:t>caratteri</a:t>
            </a:r>
            <a:r>
              <a:rPr b="1" i="1" lang="it-IT" sz="2400" spc="-1" strike="noStrike">
                <a:solidFill>
                  <a:srgbClr val="000000"/>
                </a:solidFill>
                <a:latin typeface="Times New Roman"/>
              </a:rPr>
              <a:t> </a:t>
            </a:r>
            <a:r>
              <a:rPr b="0" lang="it-IT" sz="2400" spc="-1" strike="noStrike">
                <a:solidFill>
                  <a:srgbClr val="000000"/>
                </a:solidFill>
                <a:latin typeface="Times New Roman"/>
              </a:rPr>
              <a:t>essenziali possono essere così elenca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Efficienza,</a:t>
            </a:r>
            <a:r>
              <a:rPr b="0" lang="it-IT" sz="2400" spc="-1" strike="noStrike">
                <a:solidFill>
                  <a:srgbClr val="000000"/>
                </a:solidFill>
                <a:latin typeface="Times New Roman"/>
              </a:rPr>
              <a:t> perché l’esercizio professionale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dell’intermediazione è affidato a soggetti ben definiti </a:t>
            </a:r>
            <a:r>
              <a:rPr b="0" lang="it-IT" sz="2400" spc="-1" strike="noStrike">
                <a:solidFill>
                  <a:srgbClr val="000000"/>
                </a:solidFill>
                <a:latin typeface="Times New Roman"/>
              </a:rPr>
              <a:t>	</a:t>
            </a:r>
            <a:r>
              <a:rPr b="0" lang="it-IT" sz="2400" spc="-1" strike="noStrike">
                <a:solidFill>
                  <a:srgbClr val="000000"/>
                </a:solidFill>
                <a:latin typeface="Times New Roman"/>
              </a:rPr>
              <a:t>(banche, SIM, imprese di investimento estere), che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dispongono di conoscenze tecniche adeguate;</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a:hlinkClick r:id="" action="ppaction://hlinkshowjump?jump=nextslide"/>
          </p:cNvPr>
          <p:cNvSpPr/>
          <p:nvPr/>
        </p:nvSpPr>
        <p:spPr>
          <a:xfrm>
            <a:off x="8153280" y="6248520"/>
            <a:ext cx="990720" cy="609480"/>
          </a:xfrm>
          <a:custGeom>
            <a:avLst/>
            <a:gdLst>
              <a:gd name="textAreaLeft" fmla="*/ 39240 w 990720"/>
              <a:gd name="textAreaRight" fmla="*/ 951480 w 990720"/>
              <a:gd name="textAreaTop" fmla="*/ 39240 h 609480"/>
              <a:gd name="textAreaBottom" fmla="*/ 570240 h 609480"/>
            </a:gdLst>
            <a:ahLst/>
            <a:rect l="textAreaLeft" t="textAreaTop" r="textAreaRight" b="textAreaBottom"/>
            <a:pathLst>
              <a:path w="35103" h="21600">
                <a:moveTo>
                  <a:pt x="0" y="0"/>
                </a:moveTo>
                <a:lnTo>
                  <a:pt x="35103" y="0"/>
                </a:lnTo>
                <a:lnTo>
                  <a:pt x="35103" y="21600"/>
                </a:lnTo>
                <a:lnTo>
                  <a:pt x="0" y="21600"/>
                </a:lnTo>
                <a:close/>
              </a:path>
              <a:path fill="lightenLess" w="35103" h="21600">
                <a:moveTo>
                  <a:pt x="0" y="0"/>
                </a:moveTo>
                <a:lnTo>
                  <a:pt x="35103" y="0"/>
                </a:lnTo>
                <a:lnTo>
                  <a:pt x="33703" y="1400"/>
                </a:lnTo>
                <a:lnTo>
                  <a:pt x="1400" y="1400"/>
                </a:lnTo>
                <a:close/>
              </a:path>
              <a:path fill="darken" w="35103" h="21600">
                <a:moveTo>
                  <a:pt x="35103" y="0"/>
                </a:moveTo>
                <a:lnTo>
                  <a:pt x="35103" y="21600"/>
                </a:lnTo>
                <a:lnTo>
                  <a:pt x="33703" y="20200"/>
                </a:lnTo>
                <a:lnTo>
                  <a:pt x="33703" y="1400"/>
                </a:lnTo>
                <a:close/>
              </a:path>
              <a:path fill="darkenLess" w="35103" h="21600">
                <a:moveTo>
                  <a:pt x="35103" y="21600"/>
                </a:moveTo>
                <a:lnTo>
                  <a:pt x="0" y="21600"/>
                </a:lnTo>
                <a:lnTo>
                  <a:pt x="1400" y="20200"/>
                </a:lnTo>
                <a:lnTo>
                  <a:pt x="33703" y="20200"/>
                </a:lnTo>
                <a:close/>
              </a:path>
              <a:path fill="lighten" w="35103" h="21600">
                <a:moveTo>
                  <a:pt x="0" y="21600"/>
                </a:moveTo>
                <a:lnTo>
                  <a:pt x="0" y="0"/>
                </a:lnTo>
                <a:lnTo>
                  <a:pt x="1400" y="1400"/>
                </a:lnTo>
                <a:lnTo>
                  <a:pt x="1400" y="20200"/>
                </a:lnTo>
                <a:close/>
              </a:path>
              <a:path fill="darken" w="35103" h="21600">
                <a:moveTo>
                  <a:pt x="10545" y="3794"/>
                </a:moveTo>
                <a:lnTo>
                  <a:pt x="24558" y="10800"/>
                </a:lnTo>
                <a:lnTo>
                  <a:pt x="10545" y="17806"/>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3T14:44:58Z</dcterms:created>
  <dc:creator>FRANZINI CRISTOFORO</dc:creator>
  <dc:description/>
  <dc:language>en-US</dc:language>
  <cp:lastModifiedBy>Luca</cp:lastModifiedBy>
  <dcterms:modified xsi:type="dcterms:W3CDTF">2003-10-24T14:51:23Z</dcterms:modified>
  <cp:revision>8</cp:revision>
  <dc:subject/>
  <dc:title> FRANZINI DANIELA  &amp; GIUMELLI FLAVIA IN LA BORSA VALORI S.p.A. </dc:title>
</cp:coreProperties>
</file>