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F355-CBCD-4B1B-8F96-AB6BF212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0D1-A10C-45E3-A7D6-E7464E08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FE7-CA26-49AE-B0EA-5F0F3A69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3AE-2693-4972-88BE-B5B3A6E6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56C-4788-44A1-BA2F-1027930B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456D-49A0-4099-93B6-0D4CB858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38D-A40B-4B04-8974-AC362736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1A7-1BC2-44D0-8D25-76192CB6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D91-AB99-4F12-AB0E-C093E47D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4887-F4C4-4D71-A4C7-57D68E8B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AAEC-CA8B-45DD-9FC9-55122582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00B-EC7D-4BCC-95C7-9C85B772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81F7-2F0C-4CF7-9C42-B4E2CAC46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895480" y="457200"/>
            <a:ext cx="31244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a satira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093000" y="5486400"/>
            <a:ext cx="245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ulio Tavarn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ceo Scientifico Fri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35240" y="2666880"/>
            <a:ext cx="63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atura est carmen ad carpenda hominum vitia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Diome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735200" y="228600"/>
            <a:ext cx="5656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 satira menippe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1371600"/>
            <a:ext cx="1447560" cy="10666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43280" y="1371600"/>
            <a:ext cx="6819840" cy="10666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Radici elleniche: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Var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rende però spunto dalla diàtriba cinico-sto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di Menippo di Gàd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320" y="2819520"/>
            <a:ext cx="1447560" cy="10666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t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43280" y="2819520"/>
            <a:ext cx="6743520" cy="10666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a struttura canonica della diàtriba prevede 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rotagonista che si rivolge ad un pubblico di ascoltatori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 quali però non intervengono attivamente nel dialo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4267080"/>
            <a:ext cx="1447560" cy="10670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43280" y="4267080"/>
            <a:ext cx="6743520" cy="10670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Genere molto aperto,  forma prosimetrica, forte caratterizzazione d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personaggi, spesso irrigiditi in veri e propri tipi,alternanza di registr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dall'effetto sorprendente e spesso comico; frequente l'elemento novellist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43280" y="5562720"/>
            <a:ext cx="6743520" cy="10666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Dopo Varrone la nostra conoscenza della satira menippea è rido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alla sola 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Apokolokyntosy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di Seneca, mentre sussistono dubbi su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à di classificare in tal senso il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Satyrico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di Petr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735200" y="228600"/>
            <a:ext cx="5656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'umorismo Pirandellian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371600"/>
            <a:ext cx="419076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orism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Pirandello diventa 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mento con cui rappresentare, n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rativa o sulla scena teatral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ende e personagg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2743200"/>
            <a:ext cx="11430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3809880"/>
            <a:ext cx="4191120" cy="16765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nte la concezione e l'esecu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'opera l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flession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un elemento 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vole  importanza, perché è so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averso di essa che possiamo cap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icenda che si svolge sotto i nostri occh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171880" y="5524560"/>
            <a:ext cx="1218960" cy="1295280"/>
          </a:xfrm>
          <a:custGeom>
            <a:avLst/>
            <a:gdLst>
              <a:gd name="textAreaLeft" fmla="*/ 406440 w 1218960"/>
              <a:gd name="textAreaRight" fmla="*/ 1044000 w 121896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5257800" y="2286000"/>
            <a:ext cx="3429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'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orism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 quindi con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fless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 entra pi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ondamente nella realt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029200" y="3733920"/>
            <a:ext cx="3887640" cy="2842920"/>
            <a:chOff x="5029200" y="3733920"/>
            <a:chExt cx="3887640" cy="2842920"/>
          </a:xfrm>
        </p:grpSpPr>
        <p:sp>
          <p:nvSpPr>
            <p:cNvPr id="148" name="">
              <a:hlinkClick r:id="rId3" action="ppaction://hlinksldjump"/>
            </p:cNvPr>
            <p:cNvSpPr/>
            <p:nvPr/>
          </p:nvSpPr>
          <p:spPr>
            <a:xfrm>
              <a:off x="5029200" y="4952880"/>
              <a:ext cx="3887640" cy="1623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l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timento del contra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tingue lo scrittore umorista d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ico, dall'ironico, dal satirico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ché assume un atteggi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verso di fronte alla realtà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0800000">
              <a:off x="6400440" y="3733920"/>
              <a:ext cx="114300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55760" y="54514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1371600"/>
            <a:ext cx="2057400" cy="6094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ven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594360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133720"/>
            <a:ext cx="533520" cy="533160"/>
          </a:xfrm>
          <a:prstGeom prst="downArrow">
            <a:avLst>
              <a:gd name="adj1" fmla="val 50000"/>
              <a:gd name="adj2" fmla="val 39963"/>
            </a:avLst>
          </a:prstGeom>
          <a:gradFill rotWithShape="0">
            <a:gsLst>
              <a:gs pos="0">
                <a:srgbClr val="ff6600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2819520"/>
            <a:ext cx="2438640" cy="60948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etto Co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3657600"/>
            <a:ext cx="3429000" cy="609480"/>
          </a:xfrm>
          <a:prstGeom prst="roundRect">
            <a:avLst>
              <a:gd name="adj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fle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4267080"/>
            <a:ext cx="2286000" cy="7621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vertimento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4572000"/>
            <a:ext cx="2286000" cy="7621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imento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735200" y="228600"/>
            <a:ext cx="5656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Schema dell' umorism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5181480"/>
            <a:ext cx="533520" cy="609840"/>
          </a:xfrm>
          <a:prstGeom prst="downArrow">
            <a:avLst>
              <a:gd name="adj1" fmla="val 50000"/>
              <a:gd name="adj2" fmla="val 45679"/>
            </a:avLst>
          </a:prstGeom>
          <a:gradFill rotWithShape="0">
            <a:gsLst>
              <a:gs pos="0">
                <a:srgbClr val="ff6600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505320"/>
            <a:ext cx="533520" cy="990360"/>
          </a:xfrm>
          <a:prstGeom prst="downArrow">
            <a:avLst>
              <a:gd name="adj1" fmla="val 50000"/>
              <a:gd name="adj2" fmla="val 74182"/>
            </a:avLst>
          </a:prstGeom>
          <a:gradFill rotWithShape="0">
            <a:gsLst>
              <a:gs pos="0">
                <a:srgbClr val="ff6600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3581280"/>
            <a:ext cx="533160" cy="609840"/>
          </a:xfrm>
          <a:prstGeom prst="downArrow">
            <a:avLst>
              <a:gd name="adj1" fmla="val 50000"/>
              <a:gd name="adj2" fmla="val 45710"/>
            </a:avLst>
          </a:prstGeom>
          <a:gradFill rotWithShape="0">
            <a:gsLst>
              <a:gs pos="0">
                <a:srgbClr val="ff6600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5410080"/>
            <a:ext cx="533520" cy="533520"/>
          </a:xfrm>
          <a:prstGeom prst="downArrow">
            <a:avLst>
              <a:gd name="adj1" fmla="val 50000"/>
              <a:gd name="adj2" fmla="val 39963"/>
            </a:avLst>
          </a:prstGeom>
          <a:gradFill rotWithShape="0">
            <a:gsLst>
              <a:gs pos="0">
                <a:srgbClr val="ff6600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6019920"/>
            <a:ext cx="2210040" cy="6094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apevol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533520" y="380880"/>
            <a:ext cx="7467480" cy="990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timento del contrari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ingue lo scrittore umorista dal comico,dall'ironico, dal satirico, perché assume un atteggiamento diverso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nte alla realt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676520"/>
            <a:ext cx="228600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l co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2514600"/>
            <a:ext cx="2362320" cy="411480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4114800"/>
              <a:gd name="textAreaBottom" fmla="*/ 3999600 h 4114800"/>
            </a:gdLst>
            <a:ahLst/>
            <a:rect l="textAreaLeft" t="textAreaTop" r="textAreaRight" b="textAreaBottom"/>
            <a:pathLst>
              <a:path w="21600" h="37621">
                <a:moveTo>
                  <a:pt x="3600" y="0"/>
                </a:moveTo>
                <a:arcTo wR="3600" hR="3600" stAng="16200000" swAng="-5400000"/>
                <a:lnTo>
                  <a:pt x="0" y="34021"/>
                </a:lnTo>
                <a:arcTo wR="3600" hR="3600" stAng="10800000" swAng="-5400000"/>
                <a:lnTo>
                  <a:pt x="18000" y="37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ca la riflessione, per cui il riso, provocato dall'avvertimento del contrario, è genuino, ma sarebbe amaro in presenza della riflessione, perché questa toglierebbe il divertimento e porterebbe alla coscienza del dramma della condizione uman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2514600"/>
            <a:ext cx="2514600" cy="41148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114800"/>
              <a:gd name="textAreaBottom" fmla="*/ 3992040 h 4114800"/>
            </a:gdLst>
            <a:ahLst/>
            <a:rect l="textAreaLeft" t="textAreaTop" r="textAreaRight" b="textAreaBottom"/>
            <a:pathLst>
              <a:path w="21600" h="35343">
                <a:moveTo>
                  <a:pt x="3600" y="0"/>
                </a:moveTo>
                <a:arcTo wR="3600" hR="3600" stAng="16200000" swAng="-5400000"/>
                <a:lnTo>
                  <a:pt x="0" y="31743"/>
                </a:lnTo>
                <a:arcTo wR="3600" hR="3600" stAng="10800000" swAng="-5400000"/>
                <a:lnTo>
                  <a:pt x="18000" y="353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traddizione tra momento comico e momento drammatico è soltanto verbale: se fosse effettiva non ci sarebbe più ironia e la 'battuta' perderebbe la sua naturalezza, che è quella di dire l'opposto di quel che si pensa facendo intuire comunque la verità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2514600"/>
            <a:ext cx="2361960" cy="4114800"/>
          </a:xfrm>
          <a:custGeom>
            <a:avLst/>
            <a:gdLst>
              <a:gd name="textAreaLeft" fmla="*/ 115200 w 2361960"/>
              <a:gd name="textAreaRight" fmla="*/ 2246760 w 2361960"/>
              <a:gd name="textAreaTop" fmla="*/ 115200 h 4114800"/>
              <a:gd name="textAreaBottom" fmla="*/ 3999600 h 4114800"/>
            </a:gdLst>
            <a:ahLst/>
            <a:rect l="textAreaLeft" t="textAreaTop" r="textAreaRight" b="textAreaBottom"/>
            <a:pathLst>
              <a:path w="21600" h="37627">
                <a:moveTo>
                  <a:pt x="3600" y="0"/>
                </a:moveTo>
                <a:arcTo wR="3600" hR="3600" stAng="16200000" swAng="-5400000"/>
                <a:lnTo>
                  <a:pt x="0" y="34027"/>
                </a:lnTo>
                <a:arcTo wR="3600" hR="3600" stAng="10800000" swAng="-5400000"/>
                <a:lnTo>
                  <a:pt x="18000" y="376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 riflessione "cesserebbe lo sdegno o, comunque , la avversione della realtà che è ragione di ogni satira"; la satira, infatti, mette in evidenza i difetti degli uomini, cogliendone gli aspetti più negativi e turpi, con l'intento di riportare gli uomini sulla retta v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1676520"/>
            <a:ext cx="228600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ll’ iro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1676520"/>
            <a:ext cx="228600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l sati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209680"/>
            <a:ext cx="533520" cy="228600"/>
          </a:xfrm>
          <a:prstGeom prst="downArrow">
            <a:avLst>
              <a:gd name="adj1" fmla="val 50000"/>
              <a:gd name="adj2" fmla="val 39963"/>
            </a:avLst>
          </a:prstGeom>
          <a:gradFill rotWithShape="0">
            <a:gsLst>
              <a:gs pos="0">
                <a:srgbClr val="ff6600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2209680"/>
            <a:ext cx="533520" cy="228600"/>
          </a:xfrm>
          <a:prstGeom prst="downArrow">
            <a:avLst>
              <a:gd name="adj1" fmla="val 50000"/>
              <a:gd name="adj2" fmla="val 39963"/>
            </a:avLst>
          </a:prstGeom>
          <a:gradFill rotWithShape="0">
            <a:gsLst>
              <a:gs pos="0">
                <a:srgbClr val="ff6600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2209680"/>
            <a:ext cx="533160" cy="228600"/>
          </a:xfrm>
          <a:prstGeom prst="downArrow">
            <a:avLst>
              <a:gd name="adj1" fmla="val 50000"/>
              <a:gd name="adj2" fmla="val 39963"/>
            </a:avLst>
          </a:prstGeom>
          <a:gradFill rotWithShape="0">
            <a:gsLst>
              <a:gs pos="0">
                <a:srgbClr val="ff6600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35200" y="228600"/>
            <a:ext cx="5656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' ironia nella filosofi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066680"/>
            <a:ext cx="1981080" cy="6098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kega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2133720"/>
            <a:ext cx="883908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41-  Tesi di laurea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oncetto di ironia in costante riferimento a Soc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09680" y="4191120"/>
            <a:ext cx="5639040" cy="761760"/>
            <a:chOff x="2209680" y="4191120"/>
            <a:chExt cx="5639040" cy="761760"/>
          </a:xfrm>
        </p:grpSpPr>
        <p:sp>
          <p:nvSpPr>
            <p:cNvPr id="178" name=""/>
            <p:cNvSpPr/>
            <p:nvPr/>
          </p:nvSpPr>
          <p:spPr>
            <a:xfrm>
              <a:off x="2209680" y="4191120"/>
              <a:ext cx="838440" cy="76176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4191120"/>
              <a:ext cx="838440" cy="76176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6320" y="5334120"/>
            <a:ext cx="4647960" cy="12189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ndo nel “non prendere sul serio” il fini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mite un atteggiamento di distaccata superiorit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ituale,Porta ad una relativizz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e realtà monda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371600" y="2819520"/>
            <a:ext cx="6858000" cy="1143000"/>
            <a:chOff x="1371600" y="2819520"/>
            <a:chExt cx="6858000" cy="1143000"/>
          </a:xfrm>
        </p:grpSpPr>
        <p:sp>
          <p:nvSpPr>
            <p:cNvPr id="182" name=""/>
            <p:cNvSpPr/>
            <p:nvPr/>
          </p:nvSpPr>
          <p:spPr>
            <a:xfrm>
              <a:off x="1371600" y="3352680"/>
              <a:ext cx="6858000" cy="6098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’ Ironia è una caratterizzazione per contras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38480" y="2819520"/>
              <a:ext cx="838440" cy="3808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62120" y="1752480"/>
            <a:ext cx="838080" cy="3049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6600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5334120"/>
            <a:ext cx="3962160" cy="12189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olvendosi romanticamente in una indebi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initizzazione dell’ interiorità” rischia 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ovolgersi in un atteggiamento nichili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 estetizzante cristianamente inaccettab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09680" y="609480"/>
            <a:ext cx="2210040" cy="609840"/>
          </a:xfrm>
          <a:prstGeom prst="flowChartConnec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129528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1828800"/>
            <a:ext cx="1904760" cy="4572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rge Gros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1828800"/>
            <a:ext cx="3200400" cy="4572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ressionismo Tede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8288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3124080"/>
            <a:ext cx="2819160" cy="4572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atu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5638680"/>
            <a:ext cx="2819160" cy="4572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 ir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243828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02920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4343400"/>
            <a:ext cx="2819160" cy="4572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umor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219320"/>
            <a:ext cx="4419720" cy="5257800"/>
          </a:xfrm>
          <a:custGeom>
            <a:avLst/>
            <a:gdLst>
              <a:gd name="textAreaLeft" fmla="*/ 215640 w 4419720"/>
              <a:gd name="textAreaRight" fmla="*/ 4204080 w 4419720"/>
              <a:gd name="textAreaTop" fmla="*/ 215640 h 5257800"/>
              <a:gd name="textAreaBottom" fmla="*/ 5042160 h 5257800"/>
            </a:gdLst>
            <a:ahLst/>
            <a:rect l="textAreaLeft" t="textAreaTop" r="textAreaRight" b="textAreaBottom"/>
            <a:pathLst>
              <a:path w="21600" h="25696">
                <a:moveTo>
                  <a:pt x="3600" y="0"/>
                </a:moveTo>
                <a:arcTo wR="3600" hR="3600" stAng="16200000" swAng="-5400000"/>
                <a:lnTo>
                  <a:pt x="0" y="22096"/>
                </a:lnTo>
                <a:arcTo wR="3600" hR="3600" stAng="10800000" swAng="-5400000"/>
                <a:lnTo>
                  <a:pt x="18000" y="256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35200" y="228600"/>
            <a:ext cx="5656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George Grosz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219320"/>
            <a:ext cx="4419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 pilastri della socie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926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a satirica rappresentazione dei rappresentanti del potere della repubblica di Weimar: un giurista senza un orecchio con una svastica sul colletto e la birra in mano, un deputato con delle feci al posto del cervello, e un giornalista con un vaso da notte in tes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I%20pilastri%20della%20società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2887560" cy="5257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6760" y="1219320"/>
            <a:ext cx="4419720" cy="5257800"/>
          </a:xfrm>
          <a:custGeom>
            <a:avLst/>
            <a:gdLst>
              <a:gd name="textAreaLeft" fmla="*/ 215640 w 4419720"/>
              <a:gd name="textAreaRight" fmla="*/ 4204080 w 4419720"/>
              <a:gd name="textAreaTop" fmla="*/ 215640 h 5257800"/>
              <a:gd name="textAreaBottom" fmla="*/ 5042160 h 5257800"/>
            </a:gdLst>
            <a:ahLst/>
            <a:rect l="textAreaLeft" t="textAreaTop" r="textAreaRight" b="textAreaBottom"/>
            <a:pathLst>
              <a:path w="21600" h="25696">
                <a:moveTo>
                  <a:pt x="3600" y="0"/>
                </a:moveTo>
                <a:arcTo wR="3600" hR="3600" stAng="16200000" swAng="-5400000"/>
                <a:lnTo>
                  <a:pt x="0" y="22096"/>
                </a:lnTo>
                <a:arcTo wR="3600" hR="3600" stAng="10800000" swAng="-5400000"/>
                <a:lnTo>
                  <a:pt x="18000" y="256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35200" y="228600"/>
            <a:ext cx="5656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George Grosz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inflaz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730680" cy="5546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324000" y="1219320"/>
            <a:ext cx="441936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nflazio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923 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el novembre 1923 in Germania l'inflazione raggiunge il culmi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e perdite maggiori sono subite dalle fasce deboli della società e dai lavoratori a reddito fisso.  Lo scarso potere d'acquisto del denaro porta a un'indescrivibile penuria dei generi di prima necessità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 ceti più ricchi ricavano invece enormi vantaggi: i latifondisti   possono liberarsi dai debiti, i proprietari di immobili dalle ipoteche, i capitalisti possono restituire i prestiti, gli imprenditori comprano forza lavoro con denaro sempre più svaluta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urante l'inflazione l'industriale H.Stinens incamera 1.644 aziede con 300.000 opera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 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1219320"/>
            <a:ext cx="4419360" cy="41148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35200" y="228600"/>
            <a:ext cx="5656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George Grosz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trib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3816360" cy="5632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304920" y="1371600"/>
            <a:ext cx="4419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e dovrebbe essere il Tribunale dello Sta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1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sz nel primo dopoguerra intinge la penna nell'i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scaglia con sdegno contro coloro che hanno scatenato la guerra e ne hanno tratto profitti e contro il militar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 trova ancora tanti fautori nella prima Repubblica tedes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05320" y="1066680"/>
            <a:ext cx="2057400" cy="5335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i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205740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 Brück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7640" y="2743200"/>
            <a:ext cx="288684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rancia, 19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o programma preci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spirazione all’arte prim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o gradazioni di col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evalenza colori pu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tisse, Braque, Picass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16240" y="2862360"/>
            <a:ext cx="3232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ermania, 19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ogramma rivoluz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spirazione all’ arte prim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ssenso verso società borgh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oggetti tratti dalla quotidian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lori corpo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rosz, 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05740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21337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u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2057400"/>
            <a:ext cx="228600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e Blau rei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98240" y="2817720"/>
            <a:ext cx="25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onaco, 19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endenza all’astratt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Kandinskij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Marc, K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68360" y="228600"/>
            <a:ext cx="497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'espressionism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5638680"/>
            <a:ext cx="2895840" cy="914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pingere vuol dire filtrar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ltà rappresentata attraver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 proprie emo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57150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titesi con l’impressio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1676520"/>
            <a:ext cx="533160" cy="304560"/>
          </a:xfrm>
          <a:prstGeom prst="downArrow">
            <a:avLst>
              <a:gd name="adj1" fmla="val 50000"/>
              <a:gd name="adj2" fmla="val 39963"/>
            </a:avLst>
          </a:prstGeom>
          <a:gradFill rotWithShape="0">
            <a:gsLst>
              <a:gs pos="0">
                <a:srgbClr val="ff6600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2700000">
            <a:off x="3009600" y="1443240"/>
            <a:ext cx="304560" cy="685800"/>
          </a:xfrm>
          <a:prstGeom prst="downArrow">
            <a:avLst>
              <a:gd name="adj1" fmla="val 50000"/>
              <a:gd name="adj2" fmla="val 89987"/>
            </a:avLst>
          </a:prstGeom>
          <a:gradFill rotWithShape="0">
            <a:gsLst>
              <a:gs pos="0">
                <a:srgbClr val="ff6600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8920400">
            <a:off x="5753160" y="1485720"/>
            <a:ext cx="304920" cy="685800"/>
          </a:xfrm>
          <a:prstGeom prst="downArrow">
            <a:avLst>
              <a:gd name="adj1" fmla="val 50000"/>
              <a:gd name="adj2" fmla="val 89881"/>
            </a:avLst>
          </a:prstGeom>
          <a:gradFill rotWithShape="0">
            <a:gsLst>
              <a:gs pos="0">
                <a:srgbClr val="ff6600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839160" y="4495680"/>
            <a:ext cx="1340640" cy="916560"/>
            <a:chOff x="839160" y="4495680"/>
            <a:chExt cx="1340640" cy="916560"/>
          </a:xfrm>
        </p:grpSpPr>
        <p:sp>
          <p:nvSpPr>
            <p:cNvPr id="82" name=""/>
            <p:cNvSpPr/>
            <p:nvPr/>
          </p:nvSpPr>
          <p:spPr>
            <a:xfrm>
              <a:off x="839160" y="5013360"/>
              <a:ext cx="134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CUBISM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495680"/>
              <a:ext cx="533520" cy="533520"/>
            </a:xfrm>
            <a:prstGeom prst="downArrow">
              <a:avLst>
                <a:gd name="adj1" fmla="val 50000"/>
                <a:gd name="adj2" fmla="val 39963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 rot="16200000">
            <a:off x="4800600" y="5715000"/>
            <a:ext cx="533520" cy="533520"/>
          </a:xfrm>
          <a:prstGeom prst="downArrow">
            <a:avLst>
              <a:gd name="adj1" fmla="val 50000"/>
              <a:gd name="adj2" fmla="val 39963"/>
            </a:avLst>
          </a:prstGeom>
          <a:gradFill rotWithShape="0">
            <a:gsLst>
              <a:gs pos="0">
                <a:srgbClr val="ff6600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735200" y="228600"/>
            <a:ext cx="5656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 satura latin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2767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imolog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2193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1219320"/>
            <a:ext cx="419112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intiliano: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atura tota nostra est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2057400"/>
            <a:ext cx="7086600" cy="7621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omed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 Satura est carmen quod ex variis poematibus constaba »</a:t>
            </a:r>
            <a:br>
              <a:rPr sz="2000"/>
            </a:b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 Satura est carmen ad carpenda hominum vitia» 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6019920"/>
            <a:ext cx="5867640" cy="7617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 satyris"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rustiche rappresentazioni interpretat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attori travestiti da satiri in riti di fecondità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5410080"/>
            <a:ext cx="5791320" cy="5335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 lege satura"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 riferimento all’ambito giurid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4724280"/>
            <a:ext cx="5791320" cy="6098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 salsa satura"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 riferisce  all’ambito culinario,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dicare il "farcimen", ossia il ripien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4038480"/>
            <a:ext cx="5791320" cy="6098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 copia et saturitatae rei"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ferito all’idea di pienezza ed abbondanz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3276720"/>
            <a:ext cx="5791320" cy="6858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 satura lance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iatto primizie miste offerto agli de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735200" y="228600"/>
            <a:ext cx="5656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ronologia e autori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8160" y="1447920"/>
            <a:ext cx="1447920" cy="10666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i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160" y="3048120"/>
            <a:ext cx="1447920" cy="10666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160" y="5029200"/>
            <a:ext cx="1447920" cy="10666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z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76520" y="1066680"/>
            <a:ext cx="6781680" cy="1676520"/>
            <a:chOff x="1676520" y="1066680"/>
            <a:chExt cx="6781680" cy="1676520"/>
          </a:xfrm>
        </p:grpSpPr>
        <p:sp>
          <p:nvSpPr>
            <p:cNvPr id="100" name=""/>
            <p:cNvSpPr/>
            <p:nvPr/>
          </p:nvSpPr>
          <p:spPr>
            <a:xfrm>
              <a:off x="1676520" y="1143000"/>
              <a:ext cx="1981080" cy="609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tobiografi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 aggressivit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62520" y="1981080"/>
              <a:ext cx="1981080" cy="6098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amet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1981080"/>
              <a:ext cx="1981080" cy="6098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uovo pubblic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62520" y="1143000"/>
              <a:ext cx="1981080" cy="609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alizzazion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l gen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24480" y="1066680"/>
              <a:ext cx="2133720" cy="1676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lle satire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ilium Deo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lone gastronom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m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i letterar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676520" y="3048120"/>
            <a:ext cx="6781680" cy="1218960"/>
            <a:chOff x="1676520" y="3048120"/>
            <a:chExt cx="6781680" cy="1218960"/>
          </a:xfrm>
        </p:grpSpPr>
        <p:sp>
          <p:nvSpPr>
            <p:cNvPr id="106" name=""/>
            <p:cNvSpPr/>
            <p:nvPr/>
          </p:nvSpPr>
          <p:spPr>
            <a:xfrm>
              <a:off x="1676520" y="3048120"/>
              <a:ext cx="2133360" cy="1218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tira come gen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nore, subordin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epica 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mmaturgi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24480" y="3048120"/>
              <a:ext cx="2133720" cy="1218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età di tem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 met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62520" y="3048120"/>
              <a:ext cx="2133360" cy="9903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oce personale 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ulso realist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676520" y="4724280"/>
            <a:ext cx="6781680" cy="1752840"/>
            <a:chOff x="1676520" y="4724280"/>
            <a:chExt cx="6781680" cy="1752840"/>
          </a:xfrm>
        </p:grpSpPr>
        <p:sp>
          <p:nvSpPr>
            <p:cNvPr id="110" name=""/>
            <p:cNvSpPr/>
            <p:nvPr/>
          </p:nvSpPr>
          <p:spPr>
            <a:xfrm>
              <a:off x="6324480" y="4724280"/>
              <a:ext cx="2133720" cy="1676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tira contr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onaggi d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sso livel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76520" y="5029200"/>
              <a:ext cx="1981080" cy="609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morale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tira e diatri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62520" y="5029200"/>
              <a:ext cx="1981080" cy="609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tarkèia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trioò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76520" y="5867280"/>
              <a:ext cx="1981080" cy="6098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l II libro e la res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 moralis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62520" y="5867280"/>
              <a:ext cx="1981080" cy="6098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tire filosofi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 descrit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35200" y="228600"/>
            <a:ext cx="5656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ronologia e autori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38160" y="1447920"/>
            <a:ext cx="1447920" cy="10666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160" y="3124080"/>
            <a:ext cx="1447920" cy="10670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ove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160" y="5029200"/>
            <a:ext cx="1447920" cy="10666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r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76520" y="1066680"/>
            <a:ext cx="6781680" cy="1676520"/>
            <a:chOff x="1676520" y="1066680"/>
            <a:chExt cx="6781680" cy="1676520"/>
          </a:xfrm>
        </p:grpSpPr>
        <p:sp>
          <p:nvSpPr>
            <p:cNvPr id="120" name=""/>
            <p:cNvSpPr/>
            <p:nvPr/>
          </p:nvSpPr>
          <p:spPr>
            <a:xfrm>
              <a:off x="3962520" y="1981080"/>
              <a:ext cx="1981080" cy="6098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uovo registr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ilist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76520" y="1143000"/>
              <a:ext cx="1981080" cy="609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locutor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ittiz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76520" y="1981080"/>
              <a:ext cx="1981080" cy="6098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olo educa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62520" y="1143000"/>
              <a:ext cx="1981080" cy="609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stigatore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i costum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480" y="1066680"/>
              <a:ext cx="2133720" cy="1676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tira contr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da lettera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pocrisia religio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ta dei ricch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li av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76520" y="2895480"/>
            <a:ext cx="6781680" cy="1676520"/>
            <a:chOff x="1676520" y="2895480"/>
            <a:chExt cx="6781680" cy="1676520"/>
          </a:xfrm>
        </p:grpSpPr>
        <p:sp>
          <p:nvSpPr>
            <p:cNvPr id="126" name=""/>
            <p:cNvSpPr/>
            <p:nvPr/>
          </p:nvSpPr>
          <p:spPr>
            <a:xfrm>
              <a:off x="1676520" y="3124080"/>
              <a:ext cx="2133360" cy="9144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nonizza la satira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me invettiva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ocio-poli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2895480"/>
              <a:ext cx="2133720" cy="1676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tira contr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os cittadi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mosessualit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adenza stud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n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62520" y="3124080"/>
              <a:ext cx="2133360" cy="9907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tira 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l’ i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dignat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76520" y="4724280"/>
            <a:ext cx="6781680" cy="1676520"/>
            <a:chOff x="1676520" y="4724280"/>
            <a:chExt cx="6781680" cy="1676520"/>
          </a:xfrm>
        </p:grpSpPr>
        <p:sp>
          <p:nvSpPr>
            <p:cNvPr id="130" name=""/>
            <p:cNvSpPr/>
            <p:nvPr/>
          </p:nvSpPr>
          <p:spPr>
            <a:xfrm>
              <a:off x="6324480" y="4724280"/>
              <a:ext cx="2133720" cy="16765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tira contr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mosessualit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ttivo gusto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lla ricchezz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6520" y="5029200"/>
              <a:ext cx="1981080" cy="609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et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62520" y="5029200"/>
              <a:ext cx="1981080" cy="609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simet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5:16:34Z</dcterms:created>
  <dc:creator>Roberto Tavarnesi</dc:creator>
  <dc:description/>
  <dc:language>en-US</dc:language>
  <cp:lastModifiedBy>Roberto</cp:lastModifiedBy>
  <dcterms:modified xsi:type="dcterms:W3CDTF">2001-07-06T21:01:44Z</dcterms:modified>
  <cp:revision>91</cp:revision>
  <dc:subject/>
  <dc:title>Presentazione di PowerPoint</dc:title>
</cp:coreProperties>
</file>