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10194925" cy="73152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801-2FD9-49E7-B30F-61A8CA94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760" y="42282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FF5-AF87-4F23-BBBC-99B374BC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172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E97-6997-42E7-BE0B-BB35A4B0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188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436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976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188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436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6CD-8A17-4CA4-BBFF-459AC323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DAD0-038B-4417-8544-CD72ECEF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9760" y="1706400"/>
            <a:ext cx="91756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AC8A-8B62-4433-AEA6-4FBD7CCA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9175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124A-71F7-4D05-BF62-AD211FA0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68D6-12FF-47D1-813B-E39D5FFF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0C1B-A1A3-4738-B7C8-527B6917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09760" y="293400"/>
            <a:ext cx="91756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F10F-06CC-450E-8FFD-F018D24B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F23B-C082-40F7-980F-BFA168E6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9760" y="1706400"/>
            <a:ext cx="91756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8CF-7D3A-474C-BDC6-98A198D4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1172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9B51-A441-4B07-B8F1-F363080F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93A5-8224-4467-B4B0-9EF22230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760" y="42282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1C4F-CAAE-4FC8-BB45-907398D3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21172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DF2E-CF81-42A3-8E1A-8E0D171A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1188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1436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76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1188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71436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020E-5A34-4D36-9FB2-8E05F052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89D7-7257-4287-9991-2067BD38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09760" y="1706400"/>
            <a:ext cx="91756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C86F-1553-4F78-A6C2-2213689D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9175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F857B-6A7E-42DF-837A-C688A4DB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2161-BE86-4699-9214-745613BF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2235-BAC9-4149-B302-F0BAA0A6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9175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1BC-F6DF-4852-B30D-A882335C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09760" y="293400"/>
            <a:ext cx="91756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6BC8-0594-4A94-9DB6-7BF65895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86744-E9B3-4941-8FDF-FFC38FCC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21172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9AAAA-3843-435B-8155-92BEA4AB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1E6BF-0B24-467D-90D0-A922EB5C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9760" y="42282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DCC52-DF64-46A0-8800-C09A68AF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21172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D7C9-2125-4474-A4DF-E04542D2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61188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71436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976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61188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71436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E151B-21B3-4759-B8A7-C520808C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DCD27-89FA-44D6-A715-1227BBC2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9760" y="1706400"/>
            <a:ext cx="91756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C0EC-1126-4EBA-BF38-D4E39D9B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9175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9E98A-EAFD-4DD9-B1C4-6EE60D6B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C00-D081-4383-B510-95B2A220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8F25A-8DE8-4127-B0A3-D2B92160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ABF6E-A281-4733-A38B-93A68EEC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9760" y="293400"/>
            <a:ext cx="91756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7F0F6-A744-44E6-A553-F289FAEB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A70BA-48BC-4A2E-931C-AC7E55FB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21172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83725-3D25-40DB-B4A8-0B432C12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4CD8-BC33-4ADA-A781-96A1CC50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9760" y="42282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369C5-0D4C-4DA0-B99C-D05D862D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21172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B25BF-FEF6-4914-95B0-79888190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61188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71436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976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61188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71436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E69BB-2F9B-4543-B9DD-43F0EC2A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50225-5F27-4FC3-AE5D-947D324D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E6B-1D45-4E25-B154-BB63B6B0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09760" y="1706400"/>
            <a:ext cx="91756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3943B-CD17-43DE-B25F-16472316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9175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1DCB3-30D9-4680-8115-5D2D350B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54655-55F3-493B-A9FD-D19F43CA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6BFEE-B089-4E1D-B66C-9C65B52B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09760" y="293400"/>
            <a:ext cx="91756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E6473-D04C-4AC9-8283-DBE1756F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81915-CCC9-406A-8BB2-E04C27FD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21172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55257-CAB4-42DB-A0A9-14500F12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E3D78-8994-47AD-AD7D-2011141D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9760" y="42282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ECD1D-9D01-4BAA-9B51-03A8E822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21172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82E4F-B047-4691-85AD-C47D3B40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9760" y="293400"/>
            <a:ext cx="91756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F38-8DF9-4525-B546-A25419AE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1188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714360" y="17064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0976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61188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714360" y="4228200"/>
            <a:ext cx="295416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18C0-FB67-40AD-8A92-6BC5300E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0F4-1ECB-4E2E-B4C8-E6EFF94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1720" y="42282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224-BA6F-4B2D-AD8E-706B4571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976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1720" y="1706400"/>
            <a:ext cx="4477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9760" y="4228200"/>
            <a:ext cx="9175680" cy="230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2FE-B220-493E-9FCD-DE34579E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9760" y="1706400"/>
            <a:ext cx="9175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12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1000" indent="-250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49600" indent="-249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49640" indent="-2476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49640" indent="-2476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49640" indent="-2476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9760" y="6660720"/>
            <a:ext cx="238104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82640" y="6660720"/>
            <a:ext cx="322884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03680" y="6660720"/>
            <a:ext cx="238140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fld id="{3D701EC7-1AA7-48BD-A0FB-80D05DA4A46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237200" y="1908000"/>
            <a:ext cx="5954040" cy="5392440"/>
            <a:chOff x="4237200" y="1908000"/>
            <a:chExt cx="5954040" cy="5392440"/>
          </a:xfrm>
        </p:grpSpPr>
        <p:sp>
          <p:nvSpPr>
            <p:cNvPr id="42" name=""/>
            <p:cNvSpPr/>
            <p:nvPr/>
          </p:nvSpPr>
          <p:spPr>
            <a:xfrm>
              <a:off x="7486920" y="2310480"/>
              <a:ext cx="348480" cy="172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08600" y="2006280"/>
              <a:ext cx="83160" cy="7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9212400" y="2531160"/>
              <a:ext cx="10080" cy="3509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621640" y="5938920"/>
              <a:ext cx="116640" cy="16272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9711720" y="2598120"/>
              <a:ext cx="10800" cy="3382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9982440" y="2574360"/>
              <a:ext cx="10080" cy="14914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6095520" y="3074400"/>
              <a:ext cx="10800" cy="344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879800" y="3082680"/>
              <a:ext cx="10080" cy="3587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5371560" y="3165480"/>
              <a:ext cx="10080" cy="3227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92000" y="5114520"/>
              <a:ext cx="1102320" cy="2638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28320" y="6079680"/>
              <a:ext cx="1762920" cy="21348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71160" y="6171120"/>
              <a:ext cx="1720080" cy="4147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502840" y="6079680"/>
              <a:ext cx="1688400" cy="1522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14040" y="2608560"/>
              <a:ext cx="180360" cy="2624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14040" y="2860920"/>
              <a:ext cx="159120" cy="1627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14040" y="2993040"/>
              <a:ext cx="159120" cy="1828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681480" y="2039760"/>
              <a:ext cx="180360" cy="2638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692280" y="2283840"/>
              <a:ext cx="148320" cy="16236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81480" y="2425680"/>
              <a:ext cx="159120" cy="1825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607320" y="5967720"/>
              <a:ext cx="116640" cy="16272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9520" y="1908000"/>
              <a:ext cx="4607640" cy="7516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92640" y="6387840"/>
              <a:ext cx="148680" cy="16056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88440" y="6555240"/>
              <a:ext cx="159120" cy="1828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47280" y="6555240"/>
              <a:ext cx="127440" cy="15228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25400" y="6498000"/>
              <a:ext cx="2442600" cy="6584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37200" y="6491160"/>
              <a:ext cx="2658240" cy="4874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20000" y="6535440"/>
              <a:ext cx="2522160" cy="37224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5080" y="6413400"/>
              <a:ext cx="158760" cy="16236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596880" y="6099840"/>
              <a:ext cx="127080" cy="1825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00960" y="3001320"/>
              <a:ext cx="306000" cy="4299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89520" y="2615400"/>
              <a:ext cx="134280" cy="406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68920" y="2950560"/>
              <a:ext cx="362520" cy="87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0" y="2588040"/>
              <a:ext cx="446040" cy="266832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78920" y="2405520"/>
              <a:ext cx="560880" cy="2336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9760" y="297000"/>
            <a:ext cx="9175680" cy="1218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09760" y="1706400"/>
            <a:ext cx="9175680" cy="4832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8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2880" indent="-31284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51000" indent="-250920">
              <a:spcBef>
                <a:spcPts val="876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51040" indent="-25092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51080" indent="-249120">
              <a:spcBef>
                <a:spcPts val="876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51080" indent="-24912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51080" indent="-24912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509760" y="6697440"/>
            <a:ext cx="2379600" cy="487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482640" y="6697440"/>
            <a:ext cx="3228840" cy="487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305840" y="6697440"/>
            <a:ext cx="2379600" cy="487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fld id="{CF3FFF88-2D0C-49C0-B028-8C384F6359C5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4237200" y="1908000"/>
            <a:ext cx="5954040" cy="5392440"/>
            <a:chOff x="4237200" y="1908000"/>
            <a:chExt cx="5954040" cy="5392440"/>
          </a:xfrm>
        </p:grpSpPr>
        <p:sp>
          <p:nvSpPr>
            <p:cNvPr id="118" name=""/>
            <p:cNvSpPr/>
            <p:nvPr/>
          </p:nvSpPr>
          <p:spPr>
            <a:xfrm>
              <a:off x="7486920" y="2310480"/>
              <a:ext cx="348480" cy="172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08600" y="2006280"/>
              <a:ext cx="83160" cy="7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9212400" y="2531160"/>
              <a:ext cx="10080" cy="3509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21640" y="5938920"/>
              <a:ext cx="116640" cy="16272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9711720" y="2598120"/>
              <a:ext cx="10800" cy="3382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9982440" y="2574360"/>
              <a:ext cx="10080" cy="14914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6095520" y="3074400"/>
              <a:ext cx="10800" cy="344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879800" y="3082680"/>
              <a:ext cx="10080" cy="3587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5371560" y="3165480"/>
              <a:ext cx="10080" cy="3227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92000" y="5114520"/>
              <a:ext cx="1102320" cy="2638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28320" y="6079680"/>
              <a:ext cx="1762920" cy="21348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71160" y="6171120"/>
              <a:ext cx="1720080" cy="4147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02840" y="6079680"/>
              <a:ext cx="1688400" cy="1522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4040" y="2608560"/>
              <a:ext cx="180360" cy="2624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4040" y="2860920"/>
              <a:ext cx="159120" cy="1627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14040" y="2993040"/>
              <a:ext cx="159120" cy="1828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681480" y="2039760"/>
              <a:ext cx="180360" cy="2638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692280" y="2283840"/>
              <a:ext cx="148320" cy="16236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681480" y="2425680"/>
              <a:ext cx="159120" cy="1825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07320" y="5967720"/>
              <a:ext cx="116640" cy="16272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39520" y="1908000"/>
              <a:ext cx="4607640" cy="7516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92640" y="6387840"/>
              <a:ext cx="148680" cy="16056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88440" y="6555240"/>
              <a:ext cx="159120" cy="1828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47280" y="6555240"/>
              <a:ext cx="127440" cy="15228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25400" y="6498000"/>
              <a:ext cx="2442600" cy="6584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37200" y="6491160"/>
              <a:ext cx="2658240" cy="4874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20000" y="6535440"/>
              <a:ext cx="2522160" cy="37224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5080" y="6413400"/>
              <a:ext cx="158760" cy="16236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596880" y="6099840"/>
              <a:ext cx="127080" cy="1825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00960" y="3001320"/>
              <a:ext cx="306000" cy="4299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89520" y="2615400"/>
              <a:ext cx="134280" cy="406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68920" y="2950560"/>
              <a:ext cx="362520" cy="87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1200" y="2588040"/>
              <a:ext cx="446040" cy="266832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78920" y="2405520"/>
              <a:ext cx="560880" cy="2336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509760" y="6697440"/>
            <a:ext cx="2379600" cy="487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482640" y="6697440"/>
            <a:ext cx="3228840" cy="487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764640" y="1886040"/>
            <a:ext cx="8664840" cy="185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 anchorCtr="1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59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7305840" y="6697440"/>
            <a:ext cx="2379600" cy="487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fld id="{84193B00-0B62-486B-A3A2-B9A967E19E36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509760" y="1711440"/>
            <a:ext cx="9175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500040" indent="0" algn="ctr">
              <a:spcBef>
                <a:spcPts val="77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000080" algn="ctr">
              <a:spcBef>
                <a:spcPts val="64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1500120" algn="ctr"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4" marL="2001960" algn="ctr">
              <a:spcBef>
                <a:spcPts val="550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2001960"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2001960"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389720" y="6858000"/>
            <a:ext cx="319320" cy="2239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240" y="4551480"/>
            <a:ext cx="10191240" cy="2763360"/>
            <a:chOff x="3240" y="4551480"/>
            <a:chExt cx="10191240" cy="2763360"/>
          </a:xfrm>
        </p:grpSpPr>
        <p:sp>
          <p:nvSpPr>
            <p:cNvPr id="195" name=""/>
            <p:cNvSpPr/>
            <p:nvPr/>
          </p:nvSpPr>
          <p:spPr>
            <a:xfrm>
              <a:off x="3240" y="4551480"/>
              <a:ext cx="10191240" cy="276336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244200" y="6290640"/>
              <a:ext cx="1401120" cy="882000"/>
              <a:chOff x="6244200" y="6290640"/>
              <a:chExt cx="1401120" cy="882000"/>
            </a:xfrm>
          </p:grpSpPr>
          <p:sp>
            <p:nvSpPr>
              <p:cNvPr id="197" name=""/>
              <p:cNvSpPr/>
              <p:nvPr/>
            </p:nvSpPr>
            <p:spPr>
              <a:xfrm>
                <a:off x="6525360" y="6451200"/>
                <a:ext cx="941040" cy="553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96280" y="6501960"/>
                <a:ext cx="799560" cy="465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95280" y="6556320"/>
                <a:ext cx="608400" cy="350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65840" y="6597000"/>
                <a:ext cx="463320" cy="268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826320" y="6640920"/>
                <a:ext cx="339480" cy="181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29160" y="6290640"/>
                <a:ext cx="677520" cy="272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41200" y="7061040"/>
                <a:ext cx="785520" cy="1116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44200" y="6613920"/>
                <a:ext cx="157320" cy="36576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18360" y="6341040"/>
                <a:ext cx="1326960" cy="7804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46360" y="6300720"/>
                <a:ext cx="169560" cy="504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21720" y="6685200"/>
                <a:ext cx="148320" cy="892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143160" y="6148440"/>
              <a:ext cx="2877480" cy="1155960"/>
              <a:chOff x="3143160" y="6148440"/>
              <a:chExt cx="2877480" cy="1155960"/>
            </a:xfrm>
          </p:grpSpPr>
          <p:sp>
            <p:nvSpPr>
              <p:cNvPr id="209" name=""/>
              <p:cNvSpPr/>
              <p:nvPr/>
            </p:nvSpPr>
            <p:spPr>
              <a:xfrm>
                <a:off x="4013640" y="6661080"/>
                <a:ext cx="1129320" cy="637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95000" y="6701760"/>
                <a:ext cx="961200" cy="5619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42880" y="6737040"/>
                <a:ext cx="88632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90400" y="6768000"/>
                <a:ext cx="785520" cy="436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220640" y="6781320"/>
                <a:ext cx="730800" cy="406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312440" y="6816960"/>
                <a:ext cx="541800" cy="3247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81560" y="6867720"/>
                <a:ext cx="401760" cy="228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498920" y="6937200"/>
                <a:ext cx="158760" cy="1011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74520" y="6471360"/>
                <a:ext cx="794520" cy="31464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90800" y="6522120"/>
                <a:ext cx="1578240" cy="7822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84600" y="6481440"/>
                <a:ext cx="720360" cy="82296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86240" y="6847200"/>
                <a:ext cx="190800" cy="4262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59400" y="6239520"/>
                <a:ext cx="1477800" cy="2534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304080" y="6523920"/>
                <a:ext cx="302400" cy="78012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22520" y="6351480"/>
                <a:ext cx="637200" cy="9529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02200" y="6148440"/>
                <a:ext cx="1907640" cy="71928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47480" y="6908400"/>
                <a:ext cx="173160" cy="39600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43160" y="6219360"/>
                <a:ext cx="851040" cy="108504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305840" y="5689440"/>
              <a:ext cx="2390760" cy="1389600"/>
              <a:chOff x="7305840" y="5689440"/>
              <a:chExt cx="2390760" cy="1389600"/>
            </a:xfrm>
          </p:grpSpPr>
          <p:sp>
            <p:nvSpPr>
              <p:cNvPr id="228" name=""/>
              <p:cNvSpPr/>
              <p:nvPr/>
            </p:nvSpPr>
            <p:spPr>
              <a:xfrm>
                <a:off x="7433280" y="5760360"/>
                <a:ext cx="2125080" cy="12373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305840" y="5699160"/>
                <a:ext cx="962640" cy="12477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480880" y="5689440"/>
                <a:ext cx="1077840" cy="4262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284040" y="6784560"/>
                <a:ext cx="127440" cy="910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972920" y="6896520"/>
                <a:ext cx="1247400" cy="1825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443520" y="6186960"/>
                <a:ext cx="253080" cy="577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957160" y="6136200"/>
                <a:ext cx="146880" cy="15228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866720" y="6014160"/>
                <a:ext cx="1268640" cy="7297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96800" y="5942880"/>
                <a:ext cx="1608480" cy="90252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077320" y="5912640"/>
                <a:ext cx="645840" cy="1116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98760" y="6024600"/>
                <a:ext cx="116640" cy="810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045640" y="6108840"/>
                <a:ext cx="916560" cy="5400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102160" y="6146280"/>
                <a:ext cx="788760" cy="45864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159040" y="6180120"/>
                <a:ext cx="682920" cy="3945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236800" y="6227640"/>
                <a:ext cx="527040" cy="299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00520" y="6261480"/>
                <a:ext cx="392760" cy="23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385120" y="6311880"/>
                <a:ext cx="222840" cy="1371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9344880" y="5120280"/>
              <a:ext cx="751680" cy="436320"/>
              <a:chOff x="9344880" y="5120280"/>
              <a:chExt cx="751680" cy="436320"/>
            </a:xfrm>
          </p:grpSpPr>
          <p:sp>
            <p:nvSpPr>
              <p:cNvPr id="246" name=""/>
              <p:cNvSpPr/>
              <p:nvPr/>
            </p:nvSpPr>
            <p:spPr>
              <a:xfrm>
                <a:off x="9344880" y="5394240"/>
                <a:ext cx="677520" cy="1623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406800" y="5120280"/>
                <a:ext cx="456120" cy="910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9990720" y="5191200"/>
                <a:ext cx="105840" cy="263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513000" y="5495760"/>
                <a:ext cx="339840" cy="302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9387360" y="5150520"/>
                <a:ext cx="284760" cy="3150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9714600" y="5150520"/>
                <a:ext cx="329040" cy="3549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9459720" y="5177520"/>
                <a:ext cx="528840" cy="3142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9523800" y="5223240"/>
                <a:ext cx="401040" cy="222840"/>
                <a:chOff x="9523800" y="5223240"/>
                <a:chExt cx="401040" cy="2228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9523800" y="5223240"/>
                  <a:ext cx="401040" cy="22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9562680" y="5247000"/>
                  <a:ext cx="321480" cy="17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9612000" y="5263560"/>
                  <a:ext cx="22068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9659520" y="5290560"/>
                  <a:ext cx="12888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9760" y="296640"/>
            <a:ext cx="9175680" cy="1215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 anchorCtr="1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9760" y="1706400"/>
            <a:ext cx="9175680" cy="4827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12840">
              <a:spcBef>
                <a:spcPts val="8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251000" indent="-250920">
              <a:spcBef>
                <a:spcPts val="876"/>
              </a:spcBef>
              <a:buClr>
                <a:srgbClr val="0088e4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1751040" indent="-250920">
              <a:spcBef>
                <a:spcPts val="876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2251080" indent="-249120">
              <a:spcBef>
                <a:spcPts val="876"/>
              </a:spcBef>
              <a:buClr>
                <a:srgbClr val="99ff99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2251080" indent="-24912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2251080" indent="-24912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0"/>
          </p:nvPr>
        </p:nvSpPr>
        <p:spPr>
          <a:xfrm>
            <a:off x="509760" y="6660720"/>
            <a:ext cx="237960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1"/>
          </p:nvPr>
        </p:nvSpPr>
        <p:spPr>
          <a:xfrm>
            <a:off x="3482640" y="6660720"/>
            <a:ext cx="322884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2"/>
          </p:nvPr>
        </p:nvSpPr>
        <p:spPr>
          <a:xfrm>
            <a:off x="7305840" y="6660720"/>
            <a:ext cx="237960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fld id="{67C0186E-B3FA-4E97-8608-62E0958474A4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3240" y="4551480"/>
            <a:ext cx="10191240" cy="2763360"/>
            <a:chOff x="3240" y="4551480"/>
            <a:chExt cx="10191240" cy="2763360"/>
          </a:xfrm>
        </p:grpSpPr>
        <p:sp>
          <p:nvSpPr>
            <p:cNvPr id="300" name=""/>
            <p:cNvSpPr/>
            <p:nvPr/>
          </p:nvSpPr>
          <p:spPr>
            <a:xfrm>
              <a:off x="3240" y="4551480"/>
              <a:ext cx="10191240" cy="276336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244200" y="6290640"/>
              <a:ext cx="1401120" cy="882000"/>
              <a:chOff x="6244200" y="6290640"/>
              <a:chExt cx="1401120" cy="882000"/>
            </a:xfrm>
          </p:grpSpPr>
          <p:sp>
            <p:nvSpPr>
              <p:cNvPr id="302" name=""/>
              <p:cNvSpPr/>
              <p:nvPr/>
            </p:nvSpPr>
            <p:spPr>
              <a:xfrm>
                <a:off x="6525360" y="6451200"/>
                <a:ext cx="941040" cy="553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96280" y="6501960"/>
                <a:ext cx="799560" cy="465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95280" y="6556320"/>
                <a:ext cx="608400" cy="350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765840" y="6597000"/>
                <a:ext cx="463320" cy="268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26320" y="6640920"/>
                <a:ext cx="339480" cy="181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29160" y="6290640"/>
                <a:ext cx="677520" cy="272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541200" y="7061040"/>
                <a:ext cx="785520" cy="1116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244200" y="6613920"/>
                <a:ext cx="157320" cy="36576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18360" y="6341040"/>
                <a:ext cx="1326960" cy="7804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46360" y="6300720"/>
                <a:ext cx="169560" cy="504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921720" y="6685200"/>
                <a:ext cx="148320" cy="892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143160" y="6148440"/>
              <a:ext cx="2877480" cy="1155960"/>
              <a:chOff x="3143160" y="6148440"/>
              <a:chExt cx="2877480" cy="1155960"/>
            </a:xfrm>
          </p:grpSpPr>
          <p:sp>
            <p:nvSpPr>
              <p:cNvPr id="314" name=""/>
              <p:cNvSpPr/>
              <p:nvPr/>
            </p:nvSpPr>
            <p:spPr>
              <a:xfrm>
                <a:off x="4013640" y="6661080"/>
                <a:ext cx="1129320" cy="637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95000" y="6701760"/>
                <a:ext cx="961200" cy="5619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142880" y="6737040"/>
                <a:ext cx="88632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90400" y="6768000"/>
                <a:ext cx="785520" cy="436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20640" y="6781320"/>
                <a:ext cx="730800" cy="406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12440" y="6816960"/>
                <a:ext cx="541800" cy="3247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560" y="6867720"/>
                <a:ext cx="401760" cy="228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98920" y="6937200"/>
                <a:ext cx="158760" cy="1011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74520" y="6471360"/>
                <a:ext cx="794520" cy="31464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90800" y="6522120"/>
                <a:ext cx="1578240" cy="7822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684600" y="6481440"/>
                <a:ext cx="720360" cy="82296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286240" y="6847200"/>
                <a:ext cx="190800" cy="4262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59400" y="6239520"/>
                <a:ext cx="1477800" cy="2534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04080" y="6523920"/>
                <a:ext cx="302400" cy="78012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222520" y="6351480"/>
                <a:ext cx="637200" cy="9529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102200" y="6148440"/>
                <a:ext cx="1907640" cy="71928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47480" y="6908400"/>
                <a:ext cx="173160" cy="39600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43160" y="6219360"/>
                <a:ext cx="851040" cy="108504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7305840" y="5689440"/>
              <a:ext cx="2390760" cy="1389600"/>
              <a:chOff x="7305840" y="5689440"/>
              <a:chExt cx="2390760" cy="1389600"/>
            </a:xfrm>
          </p:grpSpPr>
          <p:sp>
            <p:nvSpPr>
              <p:cNvPr id="333" name=""/>
              <p:cNvSpPr/>
              <p:nvPr/>
            </p:nvSpPr>
            <p:spPr>
              <a:xfrm>
                <a:off x="7433280" y="5760360"/>
                <a:ext cx="2125080" cy="12373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05840" y="5699160"/>
                <a:ext cx="962640" cy="12477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480880" y="5689440"/>
                <a:ext cx="1077840" cy="4262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284040" y="6784560"/>
                <a:ext cx="127440" cy="910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972920" y="6896520"/>
                <a:ext cx="1247400" cy="1825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443520" y="6186960"/>
                <a:ext cx="253080" cy="577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957160" y="6136200"/>
                <a:ext cx="146880" cy="15228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866720" y="6014160"/>
                <a:ext cx="1268640" cy="7297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696800" y="5942880"/>
                <a:ext cx="1608480" cy="90252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77320" y="5912640"/>
                <a:ext cx="645840" cy="1116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898760" y="6024600"/>
                <a:ext cx="116640" cy="810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045640" y="6108840"/>
                <a:ext cx="916560" cy="5400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102160" y="6146280"/>
                <a:ext cx="788760" cy="45864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159040" y="6180120"/>
                <a:ext cx="682920" cy="3945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236800" y="6227640"/>
                <a:ext cx="527040" cy="299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300520" y="6261480"/>
                <a:ext cx="392760" cy="23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385120" y="6311880"/>
                <a:ext cx="222840" cy="1371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9344880" y="5120280"/>
              <a:ext cx="751680" cy="436320"/>
              <a:chOff x="9344880" y="5120280"/>
              <a:chExt cx="751680" cy="436320"/>
            </a:xfrm>
          </p:grpSpPr>
          <p:sp>
            <p:nvSpPr>
              <p:cNvPr id="351" name=""/>
              <p:cNvSpPr/>
              <p:nvPr/>
            </p:nvSpPr>
            <p:spPr>
              <a:xfrm>
                <a:off x="9344880" y="5394240"/>
                <a:ext cx="677520" cy="1623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406800" y="5120280"/>
                <a:ext cx="456120" cy="910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990720" y="5191200"/>
                <a:ext cx="105840" cy="263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9513000" y="5495760"/>
                <a:ext cx="339840" cy="302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9387360" y="5150520"/>
                <a:ext cx="284760" cy="3150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9714600" y="5150520"/>
                <a:ext cx="329040" cy="3549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9459720" y="5177520"/>
                <a:ext cx="528840" cy="3142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9523800" y="5223240"/>
                <a:ext cx="401040" cy="222840"/>
                <a:chOff x="9523800" y="5223240"/>
                <a:chExt cx="401040" cy="22284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9523800" y="5223240"/>
                  <a:ext cx="401040" cy="22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9562680" y="5247000"/>
                  <a:ext cx="321480" cy="17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9612000" y="5263560"/>
                  <a:ext cx="22068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659520" y="5290560"/>
                  <a:ext cx="12888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4640" y="1805040"/>
            <a:ext cx="8664840" cy="1852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 anchorCtr="1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5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13"/>
          </p:nvPr>
        </p:nvSpPr>
        <p:spPr>
          <a:xfrm>
            <a:off x="509760" y="6664320"/>
            <a:ext cx="2379600" cy="488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14"/>
          </p:nvPr>
        </p:nvSpPr>
        <p:spPr>
          <a:xfrm>
            <a:off x="3482640" y="6664320"/>
            <a:ext cx="3228840" cy="488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15"/>
          </p:nvPr>
        </p:nvSpPr>
        <p:spPr>
          <a:xfrm>
            <a:off x="7305840" y="6664320"/>
            <a:ext cx="2379600" cy="488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fld id="{3781DAE8-0061-4CD2-A055-ECD0A75EC8C7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body"/>
          </p:nvPr>
        </p:nvSpPr>
        <p:spPr>
          <a:xfrm>
            <a:off x="509760" y="1711440"/>
            <a:ext cx="9175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500040" indent="0" algn="ctr">
              <a:spcBef>
                <a:spcPts val="77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000080" algn="ctr">
              <a:spcBef>
                <a:spcPts val="649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00120" algn="ctr">
              <a:spcBef>
                <a:spcPts val="550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01960" algn="ctr">
              <a:spcBef>
                <a:spcPts val="550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019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019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http://www.wikipedia.it/" TargetMode="External"/><Relationship Id="rId4" Type="http://schemas.openxmlformats.org/officeDocument/2006/relationships/hyperlink" Target="http://www.figc.it/italiano/norme/cod_giusti_sport.htm" TargetMode="External"/><Relationship Id="rId5" Type="http://schemas.openxmlformats.org/officeDocument/2006/relationships/hyperlink" Target="http://www.nonsolofitness.it/argomenti/diritto_sportivo.asp?diritto=1" TargetMode="External"/><Relationship Id="rId6" Type="http://schemas.openxmlformats.org/officeDocument/2006/relationships/hyperlink" Target="http://www.calcioinborsa.it/" TargetMode="External"/><Relationship Id="rId7" Type="http://schemas.openxmlformats.org/officeDocument/2006/relationships/hyperlink" Target="http://www.mokabyte.it/1999/06/crittografia.htm" TargetMode="External"/><Relationship Id="rId8" Type="http://schemas.openxmlformats.org/officeDocument/2006/relationships/hyperlink" Target="http://www.mokabyte.it/1999/06/crittografia.htm" TargetMode="External"/><Relationship Id="rId9" Type="http://schemas.openxmlformats.org/officeDocument/2006/relationships/hyperlink" Target="http://ww.rsa.com/" TargetMode="External"/><Relationship Id="rId10" Type="http://schemas.openxmlformats.org/officeDocument/2006/relationships/hyperlink" Target="http://ww.rsa.com/" TargetMode="External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3560" y="4195440"/>
            <a:ext cx="8664480" cy="1568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4400" spc="-1" strike="noStrike">
                <a:solidFill>
                  <a:srgbClr val="000066"/>
                </a:solidFill>
                <a:latin typeface="Arial"/>
              </a:rPr>
              <a:t>classe V b mercurio</a:t>
            </a:r>
            <a:br>
              <a:rPr sz="4400"/>
            </a:br>
            <a:r>
              <a:rPr b="0" lang="it-IT" sz="4400" spc="-1" strike="noStrike">
                <a:solidFill>
                  <a:srgbClr val="000066"/>
                </a:solidFill>
                <a:latin typeface="Arial"/>
              </a:rPr>
              <a:t>anno scolastico: 2006/2007</a:t>
            </a:r>
            <a:br>
              <a:rPr sz="4400"/>
            </a:br>
            <a:r>
              <a:rPr b="0" lang="it-IT" sz="4400" spc="-1" strike="noStrike">
                <a:solidFill>
                  <a:srgbClr val="000066"/>
                </a:solidFill>
                <a:latin typeface="Arial"/>
              </a:rPr>
              <a:t>I.T.C.G Agostino Bas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20880" y="0"/>
            <a:ext cx="8664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4400" spc="-1" strike="noStrike">
                <a:solidFill>
                  <a:srgbClr val="000066"/>
                </a:solidFill>
                <a:latin typeface="Arial"/>
              </a:rPr>
              <a:t>TESINA D’ESA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46280" y="1200240"/>
            <a:ext cx="722484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CALCIOPOLI: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286000" y="2276640"/>
            <a:ext cx="5942160" cy="9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lo scandalo sportivo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8389800" y="2506680"/>
            <a:ext cx="1565280" cy="14605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279360" y="5578560"/>
            <a:ext cx="1208160" cy="1125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1082520" y="6192720"/>
            <a:ext cx="938520" cy="8748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920880" y="0"/>
            <a:ext cx="8664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4400" spc="-1" strike="noStrike">
                <a:solidFill>
                  <a:srgbClr val="000066"/>
                </a:solidFill>
                <a:latin typeface="Arial"/>
              </a:rPr>
              <a:t>TESINA D’ESA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201600" y="739800"/>
            <a:ext cx="9390240" cy="5759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it-IT" sz="4400" spc="-1" strike="noStrike" u="sng">
                <a:solidFill>
                  <a:srgbClr val="000066"/>
                </a:solidFill>
                <a:uFillTx/>
                <a:latin typeface="Arial"/>
              </a:rPr>
              <a:t>L'art. 2</a:t>
            </a:r>
            <a:r>
              <a:rPr b="0" lang="it-IT" sz="4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it-IT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66"/>
                </a:solidFill>
                <a:latin typeface="Arial"/>
              </a:rPr>
              <a:t>comma 3, infatti, precisa che i club rispondono direttamente dell'operato di chi le rappresenta ai sensi delle norme federali, e sono oggettivamente responsabili agli effetti disciplinari dell'operato dei propri dirigenti, soci di associazione e tesserati. In questo caso, le pene vanno dalla retrocessione all'ultimo posto in classifica del campionato di competenza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49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Arial"/>
              </a:rPr>
              <a:t>Anche qualora l'illecito sportivo sia posto in essere da soggetti estranei alla società, questa ne risponderà a titolo di responsabilità oggettiva, salvo diverse risultanze all'esito dell'istruttoria da parte dell'Ufficio Indagini (art. 9, comma 3, Cgs).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250" autoRev="1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441000" y="2276280"/>
            <a:ext cx="9177480" cy="4165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no moltepl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349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Hanno il compito di promuovere la pratica sportiva ad ogni livell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349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utti questi soggetti sono gestiti e organizzati dal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C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01600" y="739800"/>
            <a:ext cx="971388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I SOGGETTI DELL'ORDINAMENTO SPORTIVO: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703920" y="5272200"/>
            <a:ext cx="304956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1120" y="585360"/>
            <a:ext cx="8665920" cy="1568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L CON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81120" y="2198160"/>
            <a:ext cx="8670960" cy="407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POTERI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omina, revoca e riconoscimento di propri organi e nuove Federazion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0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otenziare e organizzare lo Sport Naz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utelare e sorvegliare tutte la altre organizzazioni operanti nello stesso amb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8410680" y="201600"/>
            <a:ext cx="1493640" cy="13939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7834320" y="920880"/>
            <a:ext cx="9381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1120" y="1199880"/>
            <a:ext cx="8665920" cy="1568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FEDERAZIONI SPORTIVE NAZIONAL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843120" y="3503160"/>
            <a:ext cx="8508960" cy="3071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Arial"/>
              </a:rPr>
              <a:t>Organi del CONI attraverso la quale quest’ultimo gestisce lo Sport Nazionale in materia più speci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32880" y="1352160"/>
            <a:ext cx="8718840" cy="4380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MPI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Font typeface="Arial"/>
              <a:buChar char="-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 occupa della promozione e dell’ottimizzazione (tecnica 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amministrativa) dello sport di competenz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Font typeface="Arial"/>
              <a:buChar char="-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Riconoscono le Società che intendono operare nell’ambit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portiv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Font typeface="Arial"/>
              <a:buChar char="-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Offrono al cittadino la possibilità di praticare o usufrui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delle discipline spor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646280" y="507960"/>
            <a:ext cx="714672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SENTENZA DEFINITIVA: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  <p:pic>
        <p:nvPicPr>
          <p:cNvPr id="469" name="scandalo2" descr=""/>
          <p:cNvPicPr/>
          <p:nvPr/>
        </p:nvPicPr>
        <p:blipFill>
          <a:blip r:embed="rId2"/>
          <a:stretch/>
        </p:blipFill>
        <p:spPr>
          <a:xfrm>
            <a:off x="5661000" y="4886280"/>
            <a:ext cx="3695760" cy="197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704880" y="2001960"/>
          <a:ext cx="8856360" cy="4751280"/>
        </p:xfrm>
        <a:graphic>
          <a:graphicData uri="http://schemas.openxmlformats.org/drawingml/2006/table">
            <a:tbl>
              <a:tblPr/>
              <a:tblGrid>
                <a:gridCol w="3042720"/>
                <a:gridCol w="5813640"/>
              </a:tblGrid>
              <a:tr h="526680">
                <a:tc>
                  <a:txBody>
                    <a:bodyPr lIns="100080" rIns="100080" tIns="50040" bIns="50040" anchor="ctr">
                      <a:noAutofit/>
                    </a:bodyPr>
                    <a:p>
                      <a:pPr marL="374760" indent="-374760">
                        <a:tabLst>
                          <a:tab algn="l" pos="0"/>
                          <a:tab algn="l" pos="1000080"/>
                          <a:tab algn="l" pos="2000160"/>
                          <a:tab algn="l" pos="3000240"/>
                          <a:tab algn="l" pos="4000680"/>
                          <a:tab algn="l" pos="5000760"/>
                          <a:tab algn="l" pos="6000840"/>
                          <a:tab algn="l" pos="7000920"/>
                          <a:tab algn="l" pos="8001000"/>
                          <a:tab algn="l" pos="9001080"/>
                          <a:tab algn="l" pos="1000116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ctr">
                      <a:noAutofit/>
                    </a:bodyPr>
                    <a:p>
                      <a:pPr marL="374760" indent="-374760" algn="ctr">
                        <a:tabLst>
                          <a:tab algn="l" pos="0"/>
                          <a:tab algn="l" pos="1000080"/>
                          <a:tab algn="l" pos="2000160"/>
                          <a:tab algn="l" pos="3000240"/>
                          <a:tab algn="l" pos="4000680"/>
                          <a:tab algn="l" pos="5000760"/>
                          <a:tab algn="l" pos="6000840"/>
                          <a:tab algn="l" pos="7000920"/>
                          <a:tab algn="l" pos="8001000"/>
                          <a:tab algn="l" pos="9001080"/>
                          <a:tab algn="l" pos="1000116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ENTE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4760" indent="-374760" algn="ctr">
                        <a:tabLst>
                          <a:tab algn="l" pos="0"/>
                          <a:tab algn="l" pos="1000080"/>
                          <a:tab algn="l" pos="2000160"/>
                          <a:tab algn="l" pos="3000240"/>
                          <a:tab algn="l" pos="4000680"/>
                          <a:tab algn="l" pos="5000760"/>
                          <a:tab algn="l" pos="6000840"/>
                          <a:tab algn="l" pos="7000920"/>
                          <a:tab algn="l" pos="8001000"/>
                          <a:tab algn="l" pos="9001080"/>
                          <a:tab algn="l" pos="1000116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PORTIVA DEFIN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560">
                <a:tc>
                  <a:txBody>
                    <a:bodyPr lIns="100080" rIns="100080" tIns="50040" bIns="50040" anchor="ctr">
                      <a:noAutofit/>
                    </a:bodyPr>
                    <a:p>
                      <a:pPr marL="374760" indent="-374760" algn="ctr">
                        <a:tabLst>
                          <a:tab algn="l" pos="0"/>
                          <a:tab algn="l" pos="1000080"/>
                          <a:tab algn="l" pos="2000160"/>
                          <a:tab algn="l" pos="3000240"/>
                          <a:tab algn="l" pos="4000680"/>
                          <a:tab algn="l" pos="5000760"/>
                          <a:tab algn="l" pos="6000840"/>
                          <a:tab algn="l" pos="7000920"/>
                          <a:tab algn="l" pos="8001000"/>
                          <a:tab algn="l" pos="9001080"/>
                          <a:tab algn="l" pos="1000116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JUVEN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ctr">
                      <a:noAutofit/>
                    </a:bodyPr>
                    <a:p>
                      <a:pPr marL="374760" indent="-374760">
                        <a:tabLst>
                          <a:tab algn="l" pos="0"/>
                          <a:tab algn="l" pos="1000080"/>
                          <a:tab algn="l" pos="2000160"/>
                          <a:tab algn="l" pos="3000240"/>
                          <a:tab algn="l" pos="4000680"/>
                          <a:tab algn="l" pos="5000760"/>
                          <a:tab algn="l" pos="6000840"/>
                          <a:tab algn="l" pos="7000920"/>
                          <a:tab algn="l" pos="8001000"/>
                          <a:tab algn="l" pos="9001080"/>
                          <a:tab algn="l" pos="1000116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trocessione in B, -17 punti nel campionato 2006/2007; revoca dello scudetto 2004/2004; non assegnazione dello scudetto 2005/2006; 120.000 euro di ammen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100080" rIns="100080" tIns="50040" bIns="50040" anchor="ctr">
                      <a:noAutofit/>
                    </a:bodyPr>
                    <a:p>
                      <a:pPr marL="374760" indent="-374760" algn="ctr">
                        <a:tabLst>
                          <a:tab algn="l" pos="0"/>
                          <a:tab algn="l" pos="1000080"/>
                          <a:tab algn="l" pos="2000160"/>
                          <a:tab algn="l" pos="3000240"/>
                          <a:tab algn="l" pos="4000680"/>
                          <a:tab algn="l" pos="5000760"/>
                          <a:tab algn="l" pos="6000840"/>
                          <a:tab algn="l" pos="7000920"/>
                          <a:tab algn="l" pos="8001000"/>
                          <a:tab algn="l" pos="9001080"/>
                          <a:tab algn="l" pos="1000116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IOREN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b">
                      <a:noAutofit/>
                    </a:bodyPr>
                    <a:p>
                      <a:pPr marL="374760" indent="-374760">
                        <a:tabLst>
                          <a:tab algn="l" pos="0"/>
                          <a:tab algn="l" pos="1000080"/>
                          <a:tab algn="l" pos="2000160"/>
                          <a:tab algn="l" pos="3000240"/>
                          <a:tab algn="l" pos="4000680"/>
                          <a:tab algn="l" pos="5000760"/>
                          <a:tab algn="l" pos="6000840"/>
                          <a:tab algn="l" pos="7000920"/>
                          <a:tab algn="l" pos="8001000"/>
                          <a:tab algn="l" pos="9001080"/>
                          <a:tab algn="l" pos="1000116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30 punti nella classifica del campionato 2005/2006. -19 punti nella stagione 2006/2007, in serie A. Tre giornate di squalifica al campo. Ammenda di 120.000 euro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120">
                <a:tc>
                  <a:txBody>
                    <a:bodyPr lIns="100080" rIns="100080" tIns="50040" bIns="50040" anchor="ctr">
                      <a:noAutofit/>
                    </a:bodyPr>
                    <a:p>
                      <a:pPr marL="374760" indent="-374760" algn="ctr">
                        <a:tabLst>
                          <a:tab algn="l" pos="0"/>
                          <a:tab algn="l" pos="1000080"/>
                          <a:tab algn="l" pos="2000160"/>
                          <a:tab algn="l" pos="3000240"/>
                          <a:tab algn="l" pos="4000680"/>
                          <a:tab algn="l" pos="5000760"/>
                          <a:tab algn="l" pos="6000840"/>
                          <a:tab algn="l" pos="7000920"/>
                          <a:tab algn="l" pos="8001000"/>
                          <a:tab algn="l" pos="9001080"/>
                          <a:tab algn="l" pos="1000116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I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ctr">
                      <a:noAutofit/>
                    </a:bodyPr>
                    <a:p>
                      <a:pPr marL="374760" indent="-374760">
                        <a:tabLst>
                          <a:tab algn="l" pos="0"/>
                          <a:tab algn="l" pos="1000080"/>
                          <a:tab algn="l" pos="2000160"/>
                          <a:tab algn="l" pos="3000240"/>
                          <a:tab algn="l" pos="4000680"/>
                          <a:tab algn="l" pos="5000760"/>
                          <a:tab algn="l" pos="6000840"/>
                          <a:tab algn="l" pos="7000920"/>
                          <a:tab algn="l" pos="8001000"/>
                          <a:tab algn="l" pos="9001080"/>
                          <a:tab algn="l" pos="1000116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30 punti nella classifica del campionato 2005/06 (potrà giocare i preliminari di Champions). -8 punti in A nella stagione 2006/2007, una giornata di squalifica al campo e 100.000 euro di mu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100080" rIns="100080" tIns="50040" bIns="50040" anchor="ctr">
                      <a:noAutofit/>
                    </a:bodyPr>
                    <a:p>
                      <a:pPr marL="374760" indent="-374760" algn="ctr">
                        <a:tabLst>
                          <a:tab algn="l" pos="0"/>
                          <a:tab algn="l" pos="1000080"/>
                          <a:tab algn="l" pos="2000160"/>
                          <a:tab algn="l" pos="3000240"/>
                          <a:tab algn="l" pos="4000680"/>
                          <a:tab algn="l" pos="5000760"/>
                          <a:tab algn="l" pos="6000840"/>
                          <a:tab algn="l" pos="7000920"/>
                          <a:tab algn="l" pos="8001000"/>
                          <a:tab algn="l" pos="9001080"/>
                          <a:tab algn="l" pos="1000116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Z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ctr">
                      <a:noAutofit/>
                    </a:bodyPr>
                    <a:p>
                      <a:pPr marL="374760" indent="-374760">
                        <a:tabLst>
                          <a:tab algn="l" pos="0"/>
                          <a:tab algn="l" pos="1000080"/>
                          <a:tab algn="l" pos="2000160"/>
                          <a:tab algn="l" pos="3000240"/>
                          <a:tab algn="l" pos="4000680"/>
                          <a:tab algn="l" pos="5000760"/>
                          <a:tab algn="l" pos="6000840"/>
                          <a:tab algn="l" pos="7000920"/>
                          <a:tab algn="l" pos="8001000"/>
                          <a:tab algn="l" pos="9001080"/>
                          <a:tab algn="l" pos="1000116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30 punti nel campionato 2005/2006. -11 punti nella stagione 2006/2007, da disputare in serie A con 2 giornate di squalifica del campo. Ammenda di 100mila 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560520" y="2579400"/>
            <a:ext cx="8508960" cy="4319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IL BILANCIO: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rappresenta la situazione societaria in modo veritiero e corret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 fatti aziendali possono essere descritti, analizzati e valutati secondo una triplice ott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0080">
              <a:lnSpc>
                <a:spcPct val="80000"/>
              </a:lnSpc>
              <a:spcBef>
                <a:spcPts val="75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Patrimonia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00080">
              <a:lnSpc>
                <a:spcPct val="80000"/>
              </a:lnSpc>
              <a:spcBef>
                <a:spcPts val="75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Economic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00080">
              <a:lnSpc>
                <a:spcPct val="80000"/>
              </a:lnSpc>
              <a:spcBef>
                <a:spcPts val="75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Finanziari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00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( Analizziamo i primi 2 punti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641600" y="777960"/>
            <a:ext cx="665928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IL BILANCIO: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60360" y="968400"/>
            <a:ext cx="9393120" cy="5300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ATRIMONIA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omprende gli aspetti riguardanti l'ammontare dei diritti di proprietà e di credi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i individua il Patrimonio Netto ( = valore contabile della società stessa ) tramite la differenza tra Attività e Passività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60360" y="355680"/>
            <a:ext cx="9393120" cy="5300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CONOMIC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omprende i 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RICAVI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la vendita dei biglietti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i contributi federali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le sponsorizzazioni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i diritti televisivi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La vendita di oggetti e gadget ai consumi di risorse necessari per produrli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omprende i 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OSTI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compensi ai giocatori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costo della struttura organizzativ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affitto degli impianti o, se di proprietà, loro ammort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801720" y="2362320"/>
            <a:ext cx="9393120" cy="24559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La differenza tra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RICAVI e COSTI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rappresenta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UTILE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= se è posi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0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PERDITA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= se è neg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249960" y="3586320"/>
            <a:ext cx="1008000" cy="4330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49600" y="3152880"/>
            <a:ext cx="47052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400" spc="-1" strike="noStrike">
                <a:solidFill>
                  <a:srgbClr val="ff00ff"/>
                </a:solidFill>
                <a:latin typeface="Chiller"/>
              </a:rPr>
              <a:t>L’illecito sportiv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52520" y="4737240"/>
            <a:ext cx="732636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400" spc="-1" strike="noStrike">
                <a:solidFill>
                  <a:srgbClr val="ff00ff"/>
                </a:solidFill>
                <a:latin typeface="Chiller"/>
              </a:rPr>
              <a:t>Il bilancio di una società calci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360520" y="6178680"/>
            <a:ext cx="548028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hiller"/>
              </a:rPr>
              <a:t>La sicurezza infor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225960" y="5889600"/>
            <a:ext cx="360036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INFORMATICA: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152880" y="4305240"/>
            <a:ext cx="3698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EC.AZIENDALE: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01960" y="2720880"/>
            <a:ext cx="232416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DIRITTO: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28880" y="90360"/>
            <a:ext cx="67690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CALCIOPOLI: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360520" y="920880"/>
            <a:ext cx="554508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lo scandalo sportivo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065240" y="849240"/>
            <a:ext cx="1049400" cy="936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44520" y="488880"/>
            <a:ext cx="934920" cy="8222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009960" y="1712880"/>
            <a:ext cx="3959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hiller"/>
              </a:rPr>
              <a:t>PREME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952880" y="2217600"/>
            <a:ext cx="0" cy="392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257960" y="2505240"/>
            <a:ext cx="26780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hiller"/>
              </a:rPr>
              <a:t>I soggetti dell’ordinamento giuri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753240" y="3801960"/>
            <a:ext cx="30528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hiller"/>
              </a:rPr>
              <a:t>Sentenza defini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249960" y="2936880"/>
            <a:ext cx="1008000" cy="5032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1496880"/>
            <a:ext cx="0" cy="311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41600" y="2217600"/>
            <a:ext cx="15112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ccusa princip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52880" y="3657600"/>
            <a:ext cx="0" cy="649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84520" y="37288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"/>
              </a:rPr>
              <a:t>Società calcistiche sono S.p.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952880" y="5241960"/>
            <a:ext cx="0" cy="204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368520" y="5313240"/>
            <a:ext cx="3233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hiller"/>
              </a:rPr>
              <a:t>Composi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97240" y="6819840"/>
            <a:ext cx="3232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hiller"/>
              </a:rPr>
              <a:t>La crittograf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6681960"/>
            <a:ext cx="0" cy="206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568520" y="5386320"/>
            <a:ext cx="160632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intercettazio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072880" y="2073240"/>
            <a:ext cx="2087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073240" y="2073240"/>
            <a:ext cx="0" cy="331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073240" y="5673600"/>
            <a:ext cx="0" cy="936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73240" y="6610320"/>
            <a:ext cx="12952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0760" y="1199880"/>
            <a:ext cx="8994600" cy="50720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Per le società calcistiche sono previste delle 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Arial"/>
              </a:rPr>
              <a:t>derogh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900" spc="-1" strike="noStrike" u="sng">
                <a:solidFill>
                  <a:srgbClr val="000066"/>
                </a:solidFill>
                <a:uFillTx/>
                <a:latin typeface="Arial"/>
              </a:rPr>
              <a:t>lo scopo di lucro soggettivo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900" spc="-1" strike="noStrike" u="sng">
                <a:solidFill>
                  <a:srgbClr val="000066"/>
                </a:solidFill>
                <a:uFillTx/>
                <a:latin typeface="Arial"/>
              </a:rPr>
              <a:t>l’obbligo di istituire il Collegio Sindacale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 organo di controllo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900" spc="-1" strike="noStrike" u="sng">
                <a:solidFill>
                  <a:srgbClr val="000066"/>
                </a:solidFill>
                <a:uFillTx/>
                <a:latin typeface="Arial"/>
              </a:rPr>
              <a:t>raccomandazioni contabili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rincipi contabili emanati dagli organi a ciò predisposti dalla FIGC e comunemente accetta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3560" y="1352160"/>
            <a:ext cx="8664480" cy="1568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M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487160" y="3042720"/>
            <a:ext cx="7132680" cy="186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BILANCI poco chiari ed eccessivamente sintet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7600" y="344160"/>
            <a:ext cx="8663040" cy="1568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Arial"/>
              </a:rPr>
              <a:t>COMPOSIZIONE:</a:t>
            </a:r>
            <a:endParaRPr b="0" lang="en-US" sz="5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-360" y="2433600"/>
            <a:ext cx="5940360" cy="1868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500" spc="-1" strike="noStrike">
                <a:solidFill>
                  <a:srgbClr val="000066"/>
                </a:solidFill>
                <a:latin typeface="Tahoma"/>
              </a:rPr>
              <a:t>- STATO PATRIMONIALE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500" spc="-1" strike="noStrike">
                <a:solidFill>
                  <a:srgbClr val="000066"/>
                </a:solidFill>
                <a:latin typeface="Tahoma"/>
              </a:rPr>
              <a:t>- CONTO ECONOMICO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500" spc="-1" strike="noStrike">
                <a:solidFill>
                  <a:srgbClr val="000066"/>
                </a:solidFill>
                <a:latin typeface="Tahoma"/>
              </a:rPr>
              <a:t>- NOTA INTEGRATIVA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4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04880" y="920880"/>
            <a:ext cx="8664480" cy="1568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ATO PATRIMONIAL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496520" y="2720520"/>
            <a:ext cx="7705800" cy="2459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2 AGGREGATI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- immobilizza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- attivo circolante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attività che rappresentano   liquidità o che sono idonee a trasformarsi in liquidità in un periodo inferiore ai dodici mesi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63560" y="1660680"/>
            <a:ext cx="8664480" cy="1568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ONTO ECONOMIC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3443040"/>
            <a:ext cx="7705440" cy="2454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Vedo art 2425 del codice civ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04880" y="272880"/>
            <a:ext cx="8664480" cy="15703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NOTA INTEGRATIV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920880" y="1928520"/>
            <a:ext cx="8827920" cy="4762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In essa si individuano i principi seguiti nel trattamento del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DIRITTI PLURIENNALI PRESTATI CALCIAT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Valutazione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Correttezza del trattamento della voce relativa ai costi de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viv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Immobilizzazioni e il loro trattamento cont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Risconti passivi: contabilizzazione campagna abbon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Garanzie concesse a titolo di fideiussioni o prestate a ter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Opzioni concesse o acquistate in relazione ad azionisti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trasferimento temporaneo dei diritti alle prestazioni d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calci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5602320" y="0"/>
            <a:ext cx="4592520" cy="40910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163160" y="1496520"/>
            <a:ext cx="8109000" cy="4079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Arial"/>
              </a:rPr>
              <a:t>Abbiamo detto che il fenomeno Calciopoli emerse il 2 maggio 2006 a seguito di alcune intercettazioni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br>
              <a:rPr sz="3500"/>
            </a:br>
            <a:r>
              <a:rPr b="1" lang="it-IT" sz="3500" spc="-1" strike="noStrike">
                <a:solidFill>
                  <a:srgbClr val="ffffff"/>
                </a:solidFill>
                <a:latin typeface="Arial"/>
              </a:rPr>
              <a:t>Vediamo ora a seguito delle intercettazioni telefoniche come  la </a:t>
            </a:r>
            <a:r>
              <a:rPr b="0" lang="it-IT" sz="3500" spc="-1" strike="noStrike" u="sng">
                <a:solidFill>
                  <a:srgbClr val="99ff99"/>
                </a:solidFill>
                <a:uFillTx/>
                <a:latin typeface="Arial"/>
              </a:rPr>
              <a:t>sicurezza informatica </a:t>
            </a:r>
            <a:r>
              <a:rPr b="1" lang="it-IT" sz="3500" spc="-1" strike="noStrike">
                <a:solidFill>
                  <a:srgbClr val="ffffff"/>
                </a:solidFill>
                <a:latin typeface="Arial"/>
              </a:rPr>
              <a:t>oggi non è affidabil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082160" y="1430280"/>
            <a:ext cx="8269560" cy="3990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FORMAZIONI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intercettate medi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- furto di numeri di carta di cred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66"/>
              </a:buClr>
              <a:buFont typeface="Arial"/>
              <a:buChar char="-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onazione di un’intera “ identit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66"/>
              </a:buClr>
              <a:buFont typeface="Arial"/>
              <a:buChar char="-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anagrafic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7113600" y="4521240"/>
            <a:ext cx="20019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4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63200" y="1352520"/>
            <a:ext cx="8667720" cy="468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Non intercettabilità dei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DATI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medi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ICUREZZA FISICA O PERIMENTRALE,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che consiste nella garanzia che un destinatario diverso da quello naturale non possa fisicamente avere accesso alle informazioni più riserv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CRITTOGRAFIA E CIFRATURA,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che consiste nella garanzia che un destinatario diverso da quello naturale che entri in possesso di informazioni riservate non ne possa comunque comprendere il significato e quindi non ne possa far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7105680" y="507960"/>
            <a:ext cx="2849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002960" y="2122200"/>
            <a:ext cx="8831160" cy="4761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Ricerca algoritmi capaci di proteggere le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contro gli attacchi da parte di crimi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Fornisce una serie di algoritmi per rendere il mess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indecifrabile. L'obiettivo di ogni algoritmo di cifratura è quell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rendere il più complicato possibile la decifratura di un mess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senza la conoscenza della chi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Se ne deduce che l'operazione più delicata in un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crittografico è proprio la generazione della chiave.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208160" y="507960"/>
            <a:ext cx="80661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CRITTOGRAFIA: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4520" y="1353600"/>
            <a:ext cx="8667720" cy="1568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ALCIOPOL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712880" y="3443400"/>
            <a:ext cx="7135920" cy="1866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uovo movimento cultura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uovo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Brutto scherzo estiv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279360" y="507960"/>
            <a:ext cx="20368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763200" y="739440"/>
            <a:ext cx="8828280" cy="4761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marL="666720" indent="-666720">
              <a:spcBef>
                <a:spcPts val="10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LGORITMI DI DECIFRATU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spcBef>
                <a:spcPts val="10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spcBef>
                <a:spcPts val="901"/>
              </a:spcBef>
              <a:buClr>
                <a:srgbClr val="000066"/>
              </a:buClr>
              <a:buFont typeface="Arial"/>
              <a:buChar char="-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algoritmi a chiave privata o algorit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spcBef>
                <a:spcPts val="9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immetr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spcBef>
                <a:spcPts val="3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spcBef>
                <a:spcPts val="9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-    algoritmi a chiave pubblica o algoritmi asimmetric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7508880" y="4732200"/>
            <a:ext cx="20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4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250" autoRev="1" fill="hold"/>
                                        <p:tgtEl>
                                          <p:spTgt spid="4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763200" y="1045800"/>
            <a:ext cx="8828280" cy="4762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marL="666720" indent="-6667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ALGORITMI A CHIAVE PRIVAT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DES: sviluppato nel 1970, è divenuto poi lo    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standard per il governo americano. Adotta 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blocchi da 64 bit ed una chiave a 56 bit. 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Data la ridotta lunghezza della chiave 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risulta essere facilmente violabile dai 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computer moderni. Recentemente è stata 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sviluppata una variante detta Triple-DES o 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3DES che cifra il messaggio tre volte con 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900" spc="-1" strike="noStrike">
                <a:solidFill>
                  <a:srgbClr val="000066"/>
                </a:solidFill>
                <a:latin typeface="Arial"/>
              </a:rPr>
              <a:t>altrettante differenti chiavi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8050320" y="5313240"/>
            <a:ext cx="17287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991800" y="1209240"/>
            <a:ext cx="8831160" cy="4762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marL="666720" indent="-666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Arial"/>
              </a:rPr>
              <a:t>ALGORITMI A CHIAVE PUBBL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RSA:è il più usato, sia per cifratura di 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messaggi  che per apporre la firma 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digitale. E' generalmente considerato 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sicuro quando usato con chiavi di  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almeno 1024 bit (512 insicuro, 768 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moderatamente 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sicuro, 1024 sicuro). E' 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basato sulla difficoltà di scomporre un 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numero nei suoi 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fattori pri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344520" y="3152880"/>
            <a:ext cx="151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94840" cy="73152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 txBox="1"/>
          <p:nvPr/>
        </p:nvSpPr>
        <p:spPr>
          <a:xfrm>
            <a:off x="1163520" y="2043000"/>
            <a:ext cx="160668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Diritto: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503" name=""/>
          <p:cNvSpPr/>
          <p:nvPr/>
        </p:nvSpPr>
        <p:spPr>
          <a:xfrm>
            <a:off x="1523880" y="2658960"/>
            <a:ext cx="8670960" cy="13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pedia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ttp://www.lavocedifiore.org/SPIP/article.php3?id_article=8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figc.it/italiano/norme/cod_giusti_sport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nonsolofitness.it/argomenti/diritto_sportivo.asp?diritto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565280" y="507960"/>
            <a:ext cx="714204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BIBLIOGRAFIA: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505" name=""/>
          <p:cNvSpPr/>
          <p:nvPr/>
        </p:nvSpPr>
        <p:spPr>
          <a:xfrm>
            <a:off x="1487520" y="4808520"/>
            <a:ext cx="76248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calcioinborsa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244520" y="4272120"/>
            <a:ext cx="2408400" cy="46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Ec.Aziendale: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507" name=""/>
          <p:cNvSpPr/>
          <p:nvPr/>
        </p:nvSpPr>
        <p:spPr>
          <a:xfrm>
            <a:off x="1487520" y="5962680"/>
            <a:ext cx="650232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mokabyte.it/1999/06/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rittografi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.rs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324080" y="5502240"/>
            <a:ext cx="240804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Informatica: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3560" y="968040"/>
            <a:ext cx="8664480" cy="1569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N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487160" y="3042720"/>
            <a:ext cx="7132680" cy="186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ALCIOPOLI è lo scandalo più grande che il mondo dello sport abbia mai vi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4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1000" y="355320"/>
            <a:ext cx="9177480" cy="1305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Le indagini hanno condotto ai seguenti risultat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1000" y="2276640"/>
            <a:ext cx="9177480" cy="4195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partite truc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arbitri corro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cietà che prendevano accordi tra di l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mbrogli contabi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257800" y="4272120"/>
            <a:ext cx="409428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632880" y="0"/>
            <a:ext cx="8990280" cy="6067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 MAGGIO 2006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tercettazioni telefoniche operate dai tribunali di Torino e Napoli nei confronti di molti club italia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POTESI DI REATO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illecito spor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violazione dei principi di leal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6751800" y="5754600"/>
            <a:ext cx="1441440" cy="13464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7905600" y="5097600"/>
            <a:ext cx="2087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522360" y="2583000"/>
            <a:ext cx="9231120" cy="42004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L’illecito sportivo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si verifica quando si attua il tentativo di aggiustare gli appaiamenti arbitrali per determinati incontri di campionato o nel momento in cui si tenta di corrompere gli arbitri assegnati affinché favoriscano azioni conclusive di una squadra a danno dell’alt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63520" y="662040"/>
            <a:ext cx="762948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hiller"/>
              </a:rPr>
              <a:t>L'ILLECITO SPORTIVO: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hiller"/>
              <a:ea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4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animClr clrSpc="rgb">
                                      <p:cBhvr>
                                        <p:cTn id="125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2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9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9760" y="293400"/>
            <a:ext cx="9175680" cy="1220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cco ciò che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preved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il Codice di Giustizia Spor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41000" y="2428560"/>
            <a:ext cx="9177480" cy="3916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L'art. 6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nsidera illecito sportivo il compimento, con qualsiasi mezzo, di atti diretti ad alterare lo svolgimento o il risultato di una gara, ovvero ad assicurare a chiunque un vantaggio in classifica. Questo, si sottolinea, indipendentemente dall'esito e dalle conseguenze del comportamento illec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l comma 5 della norma in esame punisce i trasgressori con una sanzione non inferiore all'inibizione (per i dirigenti) o squalifica (per gli atleti) per un periodo minimo di tre ann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4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136520" y="2736720"/>
            <a:ext cx="8064720" cy="3686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L'art. 1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loro che sono tenuti all’osservanza delle norme federali devono comportarsi secondo i principi di lealtà, correttezza e probità in ogni rapporto comunque riferibili all’attività spor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50Z</dcterms:created>
  <dc:creator>Olga De Franceschi</dc:creator>
  <dc:description/>
  <dc:language>en-US</dc:language>
  <cp:lastModifiedBy>xp</cp:lastModifiedBy>
  <dcterms:modified xsi:type="dcterms:W3CDTF">2007-06-18T16:30:09Z</dcterms:modified>
  <cp:revision>18</cp:revision>
  <dc:subject/>
  <dc:title>CALCIOPOLI</dc:title>
</cp:coreProperties>
</file>