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27.jpeg" ContentType="image/jpeg"/>
  <Override PartName="/ppt/media/image6.jpeg" ContentType="image/jpeg"/>
  <Override PartName="/ppt/media/image5.jpeg" ContentType="image/jpeg"/>
  <Override PartName="/ppt/media/image32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13.png" ContentType="image/png"/>
  <Override PartName="/ppt/media/image11.jpeg" ContentType="image/jpeg"/>
  <Override PartName="/ppt/media/image29.jpeg" ContentType="image/jpeg"/>
  <Override PartName="/ppt/media/image8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ACF9-5BFF-4641-ADEB-C843778FB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73F9-5549-4B9C-A153-D82B953D2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2EBC-BB92-4BBA-B7C3-D573F4FBE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2E53-FA57-4BDC-936A-2F89B15FC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2225-42EF-420B-B86E-CCD42705F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8832-B2CA-4EF5-A5CA-B061B5C57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B13D-17BA-4487-BF73-149F781E7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737E-432F-4C86-A68A-95075E3CF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2074-CCCF-49B1-832F-A8FD3F989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7FD7-05ED-4BAF-98FA-3053AA053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189D-02DE-4F1B-8D26-40892BAF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2717-2D3E-4EA1-BFBC-3481F30C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47084-631D-45E1-B0EF-33A7255102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32000" y="1773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A</a:t>
            </a: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ONTEST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i impone come metodo di protesta dei giovani e dei lavoratori negli anni ‘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24000" y="476280"/>
            <a:ext cx="79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Ho Chi Minh led the Vietcong troops in the battle of Dien Bien Ph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24000" y="981000"/>
            <a:ext cx="4059000" cy="5877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003640" y="907920"/>
            <a:ext cx="3799080" cy="76345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2000"/>
                            </p:stCondLst>
                            <p:childTnLst>
                              <p:par>
                                <p:cTn id="42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4360" y="404640"/>
            <a:ext cx="77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 1954 with the pact of Geneve Vietnam was diveded in 2 par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626920" y="1052640"/>
            <a:ext cx="792360" cy="107928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11280" y="2276640"/>
            <a:ext cx="381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orth Vietnam</a:t>
            </a:r>
            <a:r>
              <a:rPr b="0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ommunist governmet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ed by Ho Chi Min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292720" y="1052640"/>
            <a:ext cx="574560" cy="1150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716360" y="2349360"/>
            <a:ext cx="442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outh Vietnam</a:t>
            </a:r>
            <a:r>
              <a:rPr b="0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led by the catholic  Ngo Dinh Diem (Prime Minister) and with the Emperor Bao Da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4360" y="2276640"/>
            <a:ext cx="1655640" cy="360360"/>
          </a:xfrm>
          <a:prstGeom prst="flowChartProcess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788000" y="2421000"/>
            <a:ext cx="1728720" cy="287280"/>
          </a:xfrm>
          <a:prstGeom prst="flowChartProcess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211640" y="3645000"/>
            <a:ext cx="4500720" cy="28749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619280" y="5805360"/>
            <a:ext cx="25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 stamp rappresentig the Emperor Bao D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6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7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2080"/>
                            </p:stCondLst>
                            <p:childTnLst>
                              <p:par>
                                <p:cTn id="4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2580"/>
                            </p:stCondLst>
                            <p:childTnLst>
                              <p:par>
                                <p:cTn id="44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3080"/>
                            </p:stCondLst>
                            <p:childTnLst>
                              <p:par>
                                <p:cTn id="4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1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2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3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4920"/>
                            </p:stCondLst>
                            <p:childTnLst>
                              <p:par>
                                <p:cTn id="4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5420"/>
                            </p:stCondLst>
                            <p:childTnLst>
                              <p:par>
                                <p:cTn id="4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920"/>
                            </p:stCondLst>
                            <p:childTnLst>
                              <p:par>
                                <p:cTn id="4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6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7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9080"/>
                            </p:stCondLst>
                            <p:childTnLst>
                              <p:par>
                                <p:cTn id="4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24000" y="189000"/>
            <a:ext cx="74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USA entered in war because of the Truman’s doctri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58920" y="76500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USA would helped any country menaced by commu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258920" y="765000"/>
            <a:ext cx="6553080" cy="432000"/>
          </a:xfrm>
          <a:prstGeom prst="flowChartAlternateProcess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252360" y="1484280"/>
            <a:ext cx="3600360" cy="5040360"/>
          </a:xfrm>
          <a:prstGeom prst="verticalScroll">
            <a:avLst>
              <a:gd name="adj" fmla="val 12500"/>
            </a:avLst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4000" y="1989000"/>
            <a:ext cx="2592360" cy="27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merican media presented this war as a necessary thing to do to defend freedom but in reality it was a deeply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violent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cruel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unfair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w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564000" y="1341360"/>
            <a:ext cx="5221080" cy="37213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2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3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4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000"/>
                            </p:stCondLst>
                            <p:childTnLst>
                              <p:par>
                                <p:cTn id="5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3000"/>
                            </p:stCondLst>
                            <p:childTnLst>
                              <p:par>
                                <p:cTn id="508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6500"/>
                            </p:stCondLst>
                            <p:childTnLst>
                              <p:par>
                                <p:cTn id="5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11280" y="0"/>
            <a:ext cx="799308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2627280" y="0"/>
            <a:ext cx="52578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0" y="549360"/>
            <a:ext cx="255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Violence during a torture on a vitnamit chi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3500"/>
                            </p:stCondLst>
                            <p:childTnLst>
                              <p:par>
                                <p:cTn id="5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5500"/>
                            </p:stCondLst>
                            <p:childTnLst>
                              <p:par>
                                <p:cTn id="5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79280" y="189000"/>
            <a:ext cx="1440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 America and in Europe there were a lot of rebellions riots and protests against the injustice of this w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484360" y="260280"/>
            <a:ext cx="6048360" cy="3932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3132000" y="0"/>
            <a:ext cx="6012000" cy="48340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5334120" y="4165560"/>
            <a:ext cx="3809880" cy="26924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4572000" y="0"/>
            <a:ext cx="4572000" cy="41083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1763640" y="0"/>
            <a:ext cx="738036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179280" y="3448080"/>
            <a:ext cx="2857680" cy="3409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6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7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8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3600"/>
                            </p:stCondLst>
                            <p:childTnLst>
                              <p:par>
                                <p:cTn id="5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xit" presetID="10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5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4000"/>
                            </p:stCondLst>
                            <p:childTnLst>
                              <p:par>
                                <p:cTn id="5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6000"/>
                            </p:stCondLst>
                            <p:childTnLst>
                              <p:par>
                                <p:cTn id="566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10000"/>
                            </p:stCondLst>
                            <p:childTnLst>
                              <p:par>
                                <p:cTn id="5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12000"/>
                            </p:stCondLst>
                            <p:childTnLst>
                              <p:par>
                                <p:cTn id="5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4000"/>
                            </p:stCondLst>
                            <p:childTnLst>
                              <p:par>
                                <p:cTn id="5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6000"/>
                            </p:stCondLst>
                            <p:childTnLst>
                              <p:par>
                                <p:cTn id="582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3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9000"/>
                            </p:stCondLst>
                            <p:childTnLst>
                              <p:par>
                                <p:cTn id="5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395280" y="4941720"/>
            <a:ext cx="8229600" cy="11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 giovani manifestavano soprattutto contro il sistema capitalistico borghese, rifiutando la mentalità comune che la società gli impone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51280" y="90792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0920" y="0"/>
            <a:ext cx="65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li studenti si fecero portavoce dell’ansia crescente per una possibile guerra atomica, e portarono in piazza i loro ideali pacifi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64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fca9"/>
            </a:gs>
            <a:gs pos="100000">
              <a:srgbClr val="00c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68360" y="404640"/>
            <a:ext cx="302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Rifiutavano la società nella quale vivevano accusandola di </a:t>
            </a:r>
            <a:r>
              <a:rPr b="1" lang="en-US" sz="1800" spc="-1" strike="noStrike" u="sng">
                <a:solidFill>
                  <a:srgbClr val="003300"/>
                </a:solidFill>
                <a:uFillTx/>
                <a:latin typeface="Arial"/>
              </a:rPr>
              <a:t>APPIATTIRE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L’UOMO e </a:t>
            </a:r>
            <a:r>
              <a:rPr b="1" lang="en-US" sz="1800" spc="-1" strike="noStrike" u="sng">
                <a:solidFill>
                  <a:srgbClr val="003300"/>
                </a:solidFill>
                <a:uFillTx/>
                <a:latin typeface="Arial"/>
              </a:rPr>
              <a:t>MERCIFICARE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TUT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292720" y="549360"/>
            <a:ext cx="32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cultura della contestazione si è sviluppata prima in America e poi in Europa con le stesse caratteristich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435640" y="1844640"/>
            <a:ext cx="79200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51280" y="242100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eggiamenti ribel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6372000" y="1916280"/>
            <a:ext cx="360360" cy="158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08720" y="364500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ti provoca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93080" y="1844640"/>
            <a:ext cx="57456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236000" y="2637000"/>
            <a:ext cx="19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ontri di piazza con la poliz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0920" y="2852640"/>
            <a:ext cx="3960720" cy="3629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796000" y="4221000"/>
            <a:ext cx="2857320" cy="20480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280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500"/>
                            </p:stCondLst>
                            <p:childTnLst>
                              <p:par>
                                <p:cTn id="4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65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7000"/>
                            </p:stCondLst>
                            <p:childTnLst>
                              <p:par>
                                <p:cTn id="5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9000"/>
                            </p:stCondLst>
                            <p:childTnLst>
                              <p:par>
                                <p:cTn id="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500"/>
                            </p:stCondLst>
                            <p:childTnLst>
                              <p:par>
                                <p:cTn id="6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1500"/>
                            </p:stCondLst>
                            <p:childTnLst>
                              <p:par>
                                <p:cTn id="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11280" y="333360"/>
            <a:ext cx="45352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he first demostrations were held in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1964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Berkley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University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Califor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50920" y="1225440"/>
            <a:ext cx="8101080" cy="56325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24000" y="1773360"/>
            <a:ext cx="59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Partecipate at the methods of i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88000" y="1341360"/>
            <a:ext cx="40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hoice of 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32000" y="227664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More freedom of thou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" action="ppaction://hlinkshowjump?jump=nextslide"/>
          </p:cNvPr>
          <p:cNvSpPr/>
          <p:nvPr/>
        </p:nvSpPr>
        <p:spPr>
          <a:xfrm>
            <a:off x="8028000" y="6021360"/>
            <a:ext cx="863640" cy="647640"/>
          </a:xfrm>
          <a:custGeom>
            <a:avLst/>
            <a:gdLst>
              <a:gd name="textAreaLeft" fmla="*/ 41760 w 863640"/>
              <a:gd name="textAreaRight" fmla="*/ 821880 w 863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3213000"/>
            <a:ext cx="9144000" cy="3645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79280" y="0"/>
            <a:ext cx="8964720" cy="34084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0"/>
                            </p:stCondLst>
                            <p:childTnLst>
                              <p:par>
                                <p:cTn id="12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79280" y="54936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SOON THE STUDENT CONTESTATION BECAME A REAL BATTLE AGAINST THE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ACIAL DISCRI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020000" y="1268280"/>
            <a:ext cx="1728720" cy="17290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971640" y="1989000"/>
            <a:ext cx="3313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nd against all kind</a:t>
            </a:r>
            <a:r>
              <a:rPr b="0" lang="it-IT" sz="3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it-IT" sz="3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0" lang="it-IT" sz="3600" spc="-1" strike="noStrike">
                <a:solidFill>
                  <a:srgbClr val="000000"/>
                </a:solidFill>
                <a:latin typeface="Franklin Gothic Medium"/>
              </a:rPr>
              <a:t>w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2268360" y="3284640"/>
            <a:ext cx="4464360" cy="33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960"/>
                            </p:stCondLst>
                            <p:childTnLst>
                              <p:par>
                                <p:cTn id="145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7060"/>
                            </p:stCondLst>
                            <p:childTnLst>
                              <p:par>
                                <p:cTn id="1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60"/>
                            </p:stCondLst>
                            <p:childTnLst>
                              <p:par>
                                <p:cTn id="1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980"/>
                            </p:stCondLst>
                            <p:childTnLst>
                              <p:par>
                                <p:cTn id="1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260280"/>
            <a:ext cx="9144000" cy="17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666a"/>
                </a:solidFill>
                <a:latin typeface="Baskerville Old Face"/>
              </a:rPr>
              <a:t>         </a:t>
            </a:r>
            <a:r>
              <a:rPr b="1" lang="en-US" sz="2800" spc="-1" strike="noStrike">
                <a:solidFill>
                  <a:srgbClr val="2c666a"/>
                </a:solidFill>
                <a:latin typeface="Baskerville Old Face"/>
              </a:rPr>
              <a:t>Students starts demostrate in particulare again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666a"/>
                </a:solidFill>
                <a:latin typeface="Baskerville Old Face"/>
              </a:rPr>
              <a:t>                            </a:t>
            </a:r>
            <a:r>
              <a:rPr b="1" lang="en-US" sz="3600" spc="-1" strike="noStrike" u="sng">
                <a:solidFill>
                  <a:srgbClr val="2c666a"/>
                </a:solidFill>
                <a:uFillTx/>
                <a:latin typeface="Baskerville Old Face"/>
              </a:rPr>
              <a:t>VIETNAM</a:t>
            </a:r>
            <a:r>
              <a:rPr b="1" lang="en-US" sz="3200" spc="-1" strike="noStrike">
                <a:solidFill>
                  <a:srgbClr val="2c666a"/>
                </a:solidFill>
                <a:latin typeface="Baskerville Old Face"/>
              </a:rPr>
              <a:t>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50920" y="1633680"/>
            <a:ext cx="5400720" cy="52243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2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763640" y="1413000"/>
            <a:ext cx="51134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c0000"/>
                </a:solidFill>
                <a:latin typeface="Berlin Sans FB Demi"/>
              </a:rPr>
              <a:t>  </a:t>
            </a:r>
            <a:r>
              <a:rPr b="1" lang="it-IT" sz="3600" spc="-1" strike="noStrike">
                <a:solidFill>
                  <a:srgbClr val="000066"/>
                </a:solidFill>
                <a:latin typeface="Berlin Sans FB Demi"/>
              </a:rPr>
              <a:t>Vietnam war involve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1619280" y="2276640"/>
            <a:ext cx="1008000" cy="1152360"/>
          </a:xfrm>
          <a:prstGeom prst="line">
            <a:avLst/>
          </a:prstGeom>
          <a:ln w="9360">
            <a:solidFill>
              <a:srgbClr val="00008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00000" y="3573360"/>
            <a:ext cx="27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Berlin Sans FB Demi"/>
              </a:rPr>
              <a:t>U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51280" y="2205000"/>
            <a:ext cx="73080" cy="14400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3933720"/>
            <a:ext cx="180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Berlin Sans FB Demi"/>
              </a:rPr>
              <a:t>CHI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724360" y="2060640"/>
            <a:ext cx="1584360" cy="20890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77080" y="4365720"/>
            <a:ext cx="172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Berlin Sans FB Demi"/>
              </a:rPr>
              <a:t>UR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500"/>
                            </p:stCondLst>
                            <p:childTnLst>
                              <p:par>
                                <p:cTn id="20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500"/>
                            </p:stCondLst>
                            <p:childTnLst>
                              <p:par>
                                <p:cTn id="20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3500"/>
                            </p:stCondLst>
                            <p:childTnLst>
                              <p:par>
                                <p:cTn id="2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24000" y="404640"/>
            <a:ext cx="84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dochina since the second half of 19 th century was under              </a:t>
            </a:r>
            <a:r>
              <a:rPr b="1" lang="it-IT" sz="3200" spc="-1" strike="noStrike" u="sng">
                <a:solidFill>
                  <a:srgbClr val="000000"/>
                </a:solidFill>
                <a:uFillTx/>
                <a:latin typeface="Arial"/>
              </a:rPr>
              <a:t>French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control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780000" y="1413000"/>
            <a:ext cx="936360" cy="1295280"/>
          </a:xfrm>
          <a:prstGeom prst="downArrow">
            <a:avLst>
              <a:gd name="adj1" fmla="val 50000"/>
              <a:gd name="adj2" fmla="val 34583"/>
            </a:avLst>
          </a:prstGeom>
          <a:noFill/>
          <a:ln w="22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11280" y="292428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But during the II W W born a new movement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11280" y="3933720"/>
            <a:ext cx="3745080" cy="100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372360" y="514440"/>
            <a:ext cx="2295360" cy="63435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195640" y="414972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            </a:t>
            </a:r>
            <a:r>
              <a:rPr b="0" lang="en-US" sz="3200" spc="-1" strike="noStrike" u="sng">
                <a:solidFill>
                  <a:srgbClr val="c00000"/>
                </a:solidFill>
                <a:uFillTx/>
                <a:latin typeface="Castellar"/>
              </a:rPr>
              <a:t>VIETMIN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2627280" y="5157720"/>
            <a:ext cx="649440" cy="358920"/>
          </a:xfrm>
          <a:prstGeom prst="line">
            <a:avLst/>
          </a:prstGeom>
          <a:ln w="255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79280" y="566100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Based on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ommunistic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id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08360" y="5877000"/>
            <a:ext cx="647640" cy="0"/>
          </a:xfrm>
          <a:prstGeom prst="line">
            <a:avLst/>
          </a:prstGeom>
          <a:ln w="19080">
            <a:solidFill>
              <a:srgbClr val="c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27640" y="5060880"/>
            <a:ext cx="2736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ith the aim to reach a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nationalistic in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500"/>
                            </p:stCondLst>
                            <p:childTnLst>
                              <p:par>
                                <p:cTn id="2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3500"/>
                            </p:stCondLst>
                            <p:childTnLst>
                              <p:par>
                                <p:cTn id="2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4500"/>
                            </p:stCondLst>
                            <p:childTnLst>
                              <p:par>
                                <p:cTn id="2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500"/>
                            </p:stCondLst>
                            <p:childTnLst>
                              <p:par>
                                <p:cTn id="2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268360" y="174600"/>
            <a:ext cx="4824720" cy="6683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1332000" y="4076640"/>
            <a:ext cx="7416720" cy="2341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5761080" cy="36576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39640" y="260280"/>
            <a:ext cx="57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VIETMINH movement was founded in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19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125360"/>
            <a:ext cx="69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t organized the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riot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against the colonial power of F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9280" y="1989000"/>
            <a:ext cx="72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 1950 they declared open war to France with the support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24720" y="148428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596360" y="22050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SS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7236000" y="1916280"/>
            <a:ext cx="287280" cy="288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7235640" y="2276640"/>
            <a:ext cx="360360" cy="288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250920" y="2492280"/>
            <a:ext cx="4627440" cy="39132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900000" y="476280"/>
            <a:ext cx="71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French troops suffered </a:t>
            </a:r>
            <a:r>
              <a:rPr b="0" lang="it-IT" sz="3600" spc="-1" strike="noStrike">
                <a:solidFill>
                  <a:srgbClr val="c00000"/>
                </a:solidFill>
                <a:latin typeface="Arial"/>
              </a:rPr>
              <a:t>last defeat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on 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8 th May 1954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with the battle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220500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00000"/>
                </a:solidFill>
                <a:latin typeface="Castellar"/>
              </a:rPr>
              <a:t>   </a:t>
            </a:r>
            <a:r>
              <a:rPr b="0" lang="en-US" sz="6600" spc="-1" strike="noStrike">
                <a:solidFill>
                  <a:srgbClr val="c00000"/>
                </a:solidFill>
                <a:latin typeface="Castellar"/>
              </a:rPr>
              <a:t>DIEN BIEN PHU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2340000" y="836640"/>
            <a:ext cx="4335480" cy="57117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320"/>
                            </p:stCondLst>
                            <p:childTnLst>
                              <p:par>
                                <p:cTn id="286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4820"/>
                            </p:stCondLst>
                            <p:childTnLst>
                              <p:par>
                                <p:cTn id="292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8320"/>
                            </p:stCondLst>
                            <p:childTnLst>
                              <p:par>
                                <p:cTn id="298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9320"/>
                            </p:stCondLst>
                            <p:childTnLst>
                              <p:par>
                                <p:cTn id="303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5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6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1320"/>
                            </p:stCondLst>
                            <p:childTnLst>
                              <p:par>
                                <p:cTn id="309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320"/>
                            </p:stCondLst>
                            <p:childTnLst>
                              <p:par>
                                <p:cTn id="314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6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7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4070"/>
                            </p:stCondLst>
                            <p:childTnLst>
                              <p:par>
                                <p:cTn id="3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xit" presetID="10">
                                  <p:stCondLst>
                                    <p:cond delay="2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2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xit" presetID="10">
                                  <p:stCondLst>
                                    <p:cond delay="2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2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10">
                                  <p:stCondLst>
                                    <p:cond delay="2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3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xit" presetID="10">
                                  <p:stCondLst>
                                    <p:cond delay="2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3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10">
                                  <p:stCondLst>
                                    <p:cond delay="2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3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4500"/>
                            </p:stCondLst>
                            <p:childTnLst>
                              <p:par>
                                <p:cTn id="3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6820"/>
                            </p:stCondLst>
                            <p:childTnLst>
                              <p:par>
                                <p:cTn id="3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0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7300"/>
                            </p:stCondLst>
                            <p:childTnLst>
                              <p:par>
                                <p:cTn id="362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6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6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6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6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xit" presetID="10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7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10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7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0"/>
                            </p:stCondLst>
                            <p:childTnLst>
                              <p:par>
                                <p:cTn id="3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7000"/>
                            </p:stCondLst>
                            <p:childTnLst>
                              <p:par>
                                <p:cTn id="3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2500"/>
                            </p:stCondLst>
                            <p:childTnLst>
                              <p:par>
                                <p:cTn id="39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4500"/>
                            </p:stCondLst>
                            <p:childTnLst>
                              <p:par>
                                <p:cTn id="402" nodeType="afterEffect" fill="hold" presetClass="exit" presetID="10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0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7500"/>
                            </p:stCondLst>
                            <p:childTnLst>
                              <p:par>
                                <p:cTn id="4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6T21:30:25Z</dcterms:created>
  <dc:creator>Utente</dc:creator>
  <dc:description/>
  <dc:language>en-US</dc:language>
  <cp:lastModifiedBy>Utente</cp:lastModifiedBy>
  <dcterms:modified xsi:type="dcterms:W3CDTF">2007-06-09T20:27:58Z</dcterms:modified>
  <cp:revision>6</cp:revision>
  <dc:subject/>
  <dc:title>Diapositiva 1</dc:title>
</cp:coreProperties>
</file>