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9666-21E7-4385-B08A-BEBFF97CE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DEB9-2C9E-458F-9C17-37FB210E1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B298-B16A-4E0F-A876-CBF0A3BBB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AD6F-9989-4B2A-85F2-6A53A63E7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4080" y="533520"/>
            <a:ext cx="860904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55F0-0285-43B4-80DE-E89A2484D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BDAD-6085-4032-A403-E6873B286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39FE-A6C3-4EF5-BC0A-030F261C9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C701-279B-4305-8487-6F051949E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54080" y="533520"/>
            <a:ext cx="860904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D5EA-14CB-4F46-A4E7-57C3C4892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AD11-B2C7-4711-A6C9-1292E2CC2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54B9-F4DA-4A8B-9C5F-19237D233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A3FBA-E996-4CE5-961D-E2BA7D5B7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it/imgres?imgurl=http://itp.nyu.edu/nime/journal/wp-content/mondrian.gif&amp;imgrefurl=http://itp.nyu.edu/nime/journal/%3Fpage_id%3D126&amp;h=400&amp;w=337&amp;sz=3&amp;hl=it&amp;start=6&amp;tbnid=zgoxF4_ShZH2XM:&amp;tbnh=124&amp;tbnw=104&amp;prev=/images%3Fq%3DMondrian%26gbv%3D2%26svnum%3D10%26hl%3Dit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s" descr="">
            <a:hlinkClick r:id="rId2"/>
          </p:cNvPr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305920" y="5504040"/>
            <a:ext cx="685800" cy="817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2" name="" descr=""/>
          <p:cNvPicPr/>
          <p:nvPr/>
        </p:nvPicPr>
        <p:blipFill>
          <a:blip r:embed="rId5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535F-A201-47DE-A68C-32F3678BD52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-636480"/>
            <a:ext cx="622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1439280" y="65160"/>
            <a:ext cx="41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asse 5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– Liceo Scientifico Collegio Sant’Anto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a sezione Aure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672160" y="6499080"/>
            <a:ext cx="33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same di Stato 20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2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7611840" y="65160"/>
            <a:ext cx="13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ivia Spolverin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ctr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668600"/>
            <a:ext cx="9144000" cy="356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06640" y="1144440"/>
            <a:ext cx="4103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Classe 5</a:t>
            </a:r>
            <a:r>
              <a:rPr b="0" lang="en-US" sz="17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Liceo Scientifico Collegio Sant’Antoni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a sezione Au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2335320" y="4203720"/>
            <a:ext cx="21592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sub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0pt Arial Regular,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-590400" y="4343400"/>
            <a:ext cx="519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3320" y="6270480"/>
            <a:ext cx="202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esina di Maturità - 200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6200"/>
            <a:ext cx="5583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863720" y="4217760"/>
            <a:ext cx="0" cy="9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862280" y="13622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1320" y="595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ivia Spolverin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t.wikipedia.org/wiki/Immagine:Segmento_sezione_aurea.png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upload.wikimedia.org/wikipedia/it/9/9b/Sezione_aurea_dimostrazione_2.gif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8800" y="2808360"/>
            <a:ext cx="59230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La sezione A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Arte: sezione aurea nell’arte classica, rinascimentale e modern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06" name="venere" descr=""/>
          <p:cNvPicPr/>
          <p:nvPr/>
        </p:nvPicPr>
        <p:blipFill>
          <a:blip r:embed="rId1"/>
          <a:stretch/>
        </p:blipFill>
        <p:spPr>
          <a:xfrm>
            <a:off x="2170080" y="2639880"/>
            <a:ext cx="4662360" cy="2887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sezione aurea affascinò pittori come Botticelli (1445-1510) che la rappresentò ne La Ven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isurando l’altezza da terra dell’OMBELICO e l’ALTEZZA COMPLESSIVA il loro rapporto risulterà 0.618, così anche il rapporto tra  la distanza tra il COLLO DEL FEMORE e il GINOCCHIO e la lunghezza dell’INTERA GAMBA o anche il rapporto tra il GOMITO e la PUNTA DEL DITO MEDIO e la lunghezza del BRAC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AF95-D483-4424-82AF-928567DB32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Arte: sezione aurea nell’arte classica, rinascimentale e modern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2652840"/>
            <a:ext cx="9144000" cy="1539720"/>
            <a:chOff x="0" y="2652840"/>
            <a:chExt cx="9144000" cy="1539720"/>
          </a:xfrm>
        </p:grpSpPr>
        <p:sp>
          <p:nvSpPr>
            <p:cNvPr id="210" name=""/>
            <p:cNvSpPr/>
            <p:nvPr/>
          </p:nvSpPr>
          <p:spPr>
            <a:xfrm>
              <a:off x="0" y="2652840"/>
              <a:ext cx="9144000" cy="15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2652840"/>
              <a:ext cx="9144000" cy="15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95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2" name="SEURAT14" descr=""/>
          <p:cNvPicPr/>
          <p:nvPr/>
        </p:nvPicPr>
        <p:blipFill>
          <a:blip r:embed="rId1"/>
          <a:srcRect l="54891" t="3628" r="0" b="0"/>
          <a:stretch/>
        </p:blipFill>
        <p:spPr>
          <a:xfrm>
            <a:off x="2471760" y="2128680"/>
            <a:ext cx="4387680" cy="33274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immagini di Seurat sono prive di volume, come ritagliate in un composto alternarsi di gruppi, ordinatamente divisi in sequenze compositive che rispettano le proporzioni della sezione aure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74D6-FB07-4E43-A8AE-8070E794A0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Arte: Piet Mondrian e la sezione aure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0" y="2703600"/>
            <a:ext cx="9144000" cy="1433520"/>
            <a:chOff x="0" y="2703600"/>
            <a:chExt cx="9144000" cy="1433520"/>
          </a:xfrm>
        </p:grpSpPr>
        <p:sp>
          <p:nvSpPr>
            <p:cNvPr id="216" name=""/>
            <p:cNvSpPr/>
            <p:nvPr/>
          </p:nvSpPr>
          <p:spPr>
            <a:xfrm>
              <a:off x="0" y="2703600"/>
              <a:ext cx="9144000" cy="14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703600"/>
              <a:ext cx="9144000" cy="14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88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cuni artisti moderni come Piet Mondrian (1872-1944) utilizzano il rettangolo aureo nelle loro opere. In questo quadro è ben visibile l'impostazione artistica di Mondrian che basa l'intero dipinto sull'accostamento di quadrati e rettangoli aur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ay-lt-brown" descr=""/>
          <p:cNvPicPr/>
          <p:nvPr/>
        </p:nvPicPr>
        <p:blipFill>
          <a:blip r:embed="rId1"/>
          <a:stretch/>
        </p:blipFill>
        <p:spPr>
          <a:xfrm>
            <a:off x="5648400" y="2352600"/>
            <a:ext cx="1851120" cy="3019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" y="2098800"/>
            <a:ext cx="418608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Anche se in Mondrian si ha il senso aureo della precisione del calcolo, il pittore non fa matematica, ma esprime il sentimento della perfezione matematica e quindi della bellez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Cosa voglio esprimere con la mia opera? Niente di diverso da quello che ogni artista cerca: raggiungere l'armonia tramite l'equilibrio dei rapporti fra linee, colori e superfici. Solo in modo più nitido e più for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(Piet Mondria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DA50-FED6-4069-9560-4835132BCE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Astronomia: Keplero, sezione aurea e Fibonacci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lavoro matematico di Keplero recò notevoli progressi nella teoria del rapporto aureo. Il teso di una lettera scritta nel 1608 a un professore di Lipsia rivela che egli scoprì il rapporto tra </a:t>
            </a:r>
            <a:r>
              <a:rPr b="0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e i numeri di Fibonacci. Scrive infatti Kepl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La geometria divina è congeniata in modo tale che i due termini minori di una serie nascente presi insieme formano il terzo e gli ultimi due addizionati, il termine successivo, e così via indefinitamente, dato che la stessa proporzione si conserva inalterata..più si va avanti a partire dal numero 1, più l’esempio diventa perfet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fibonacci" descr=""/>
          <p:cNvPicPr/>
          <p:nvPr/>
        </p:nvPicPr>
        <p:blipFill>
          <a:blip r:embed="rId1"/>
          <a:stretch/>
        </p:blipFill>
        <p:spPr>
          <a:xfrm>
            <a:off x="5070600" y="3314880"/>
            <a:ext cx="3387600" cy="194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28800" y="3373560"/>
                <a:ext cx="374940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5</m:t>
                                            </m:r>
                                          </m:e>
                                        </m:ra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5</m:t>
                                            </m:r>
                                          </m:e>
                                        </m:ra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φ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sendo</m:t>
                        </m:r>
                        <m:m>
                          <m:mr>
                            <m:e/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φ</m:t>
                                  </m:r>
                                </m:e>
                              </m:d>
                            </m:e>
                          </m:mr>
                        </m:m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φ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i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i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den>
                            </m:f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den>
                            </m:f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φ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DCF4-7BE7-4D35-9404-8E010EAB31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Astronomia: galassie a spirale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galassie in generale seguono la spirale logaritmica (</a:t>
            </a:r>
            <a:r>
              <a:rPr b="0" i="1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it-IT" sz="1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it-IT" sz="1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mbra infatti che la spirale logaritmica sia naturalmente associata alle galassie che si comportano come sistemi parzialmente rigidi, ovvero con una velocità angolare costante per una grande percentuale del raggio.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375560" y="2502000"/>
            <a:ext cx="1727640" cy="2905200"/>
            <a:chOff x="1375560" y="2502000"/>
            <a:chExt cx="1727640" cy="290520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rcRect l="44297" t="16405" r="42148" b="55048"/>
            <a:stretch/>
          </p:blipFill>
          <p:spPr>
            <a:xfrm>
              <a:off x="1413000" y="2502000"/>
              <a:ext cx="1652400" cy="27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375560" y="5130720"/>
              <a:ext cx="172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tangoli di Fibonacc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608280" y="2502000"/>
            <a:ext cx="1703160" cy="2905200"/>
            <a:chOff x="3608280" y="2502000"/>
            <a:chExt cx="1703160" cy="290520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rcRect l="43412" t="64798" r="42621" b="7911"/>
            <a:stretch/>
          </p:blipFill>
          <p:spPr>
            <a:xfrm>
              <a:off x="3608280" y="2502000"/>
              <a:ext cx="1703160" cy="26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742560" y="5130720"/>
              <a:ext cx="14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irale logaritmic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823000" y="2641680"/>
            <a:ext cx="1670040" cy="2799000"/>
            <a:chOff x="5823000" y="2641680"/>
            <a:chExt cx="1670040" cy="2799000"/>
          </a:xfrm>
        </p:grpSpPr>
        <p:pic>
          <p:nvPicPr>
            <p:cNvPr id="234" name="d018" descr=""/>
            <p:cNvPicPr/>
            <p:nvPr/>
          </p:nvPicPr>
          <p:blipFill>
            <a:blip r:embed="rId3"/>
            <a:stretch/>
          </p:blipFill>
          <p:spPr>
            <a:xfrm>
              <a:off x="5823000" y="2641680"/>
              <a:ext cx="167004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099840" y="51642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lassia M5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rot="10800000">
            <a:off x="6377040" y="3754080"/>
            <a:ext cx="822240" cy="1284120"/>
          </a:xfrm>
          <a:custGeom>
            <a:avLst/>
            <a:gdLst/>
            <a:ahLst/>
            <a:rect l="l" t="t" r="r" b="b"/>
            <a:pathLst>
              <a:path w="905" h="1444">
                <a:moveTo>
                  <a:pt x="873" y="0"/>
                </a:moveTo>
                <a:cubicBezTo>
                  <a:pt x="769" y="4"/>
                  <a:pt x="665" y="9"/>
                  <a:pt x="572" y="48"/>
                </a:cubicBezTo>
                <a:cubicBezTo>
                  <a:pt x="479" y="87"/>
                  <a:pt x="380" y="177"/>
                  <a:pt x="313" y="233"/>
                </a:cubicBezTo>
                <a:cubicBezTo>
                  <a:pt x="246" y="289"/>
                  <a:pt x="210" y="333"/>
                  <a:pt x="170" y="386"/>
                </a:cubicBezTo>
                <a:cubicBezTo>
                  <a:pt x="130" y="439"/>
                  <a:pt x="95" y="494"/>
                  <a:pt x="70" y="550"/>
                </a:cubicBezTo>
                <a:cubicBezTo>
                  <a:pt x="45" y="606"/>
                  <a:pt x="28" y="670"/>
                  <a:pt x="17" y="724"/>
                </a:cubicBezTo>
                <a:cubicBezTo>
                  <a:pt x="6" y="778"/>
                  <a:pt x="0" y="820"/>
                  <a:pt x="1" y="872"/>
                </a:cubicBezTo>
                <a:cubicBezTo>
                  <a:pt x="2" y="924"/>
                  <a:pt x="9" y="987"/>
                  <a:pt x="22" y="1036"/>
                </a:cubicBezTo>
                <a:cubicBezTo>
                  <a:pt x="35" y="1085"/>
                  <a:pt x="57" y="1128"/>
                  <a:pt x="80" y="1168"/>
                </a:cubicBezTo>
                <a:cubicBezTo>
                  <a:pt x="103" y="1208"/>
                  <a:pt x="129" y="1240"/>
                  <a:pt x="159" y="1274"/>
                </a:cubicBezTo>
                <a:cubicBezTo>
                  <a:pt x="189" y="1308"/>
                  <a:pt x="221" y="1348"/>
                  <a:pt x="260" y="1374"/>
                </a:cubicBezTo>
                <a:cubicBezTo>
                  <a:pt x="299" y="1400"/>
                  <a:pt x="345" y="1420"/>
                  <a:pt x="392" y="1432"/>
                </a:cubicBezTo>
                <a:cubicBezTo>
                  <a:pt x="439" y="1444"/>
                  <a:pt x="490" y="1444"/>
                  <a:pt x="540" y="1443"/>
                </a:cubicBezTo>
                <a:cubicBezTo>
                  <a:pt x="590" y="1442"/>
                  <a:pt x="651" y="1443"/>
                  <a:pt x="693" y="1427"/>
                </a:cubicBezTo>
                <a:cubicBezTo>
                  <a:pt x="735" y="1411"/>
                  <a:pt x="764" y="1376"/>
                  <a:pt x="793" y="1348"/>
                </a:cubicBezTo>
                <a:cubicBezTo>
                  <a:pt x="822" y="1320"/>
                  <a:pt x="849" y="1303"/>
                  <a:pt x="867" y="1258"/>
                </a:cubicBezTo>
                <a:cubicBezTo>
                  <a:pt x="885" y="1213"/>
                  <a:pt x="905" y="1126"/>
                  <a:pt x="904" y="1078"/>
                </a:cubicBezTo>
                <a:cubicBezTo>
                  <a:pt x="903" y="1030"/>
                  <a:pt x="883" y="995"/>
                  <a:pt x="862" y="967"/>
                </a:cubicBezTo>
                <a:cubicBezTo>
                  <a:pt x="841" y="939"/>
                  <a:pt x="805" y="926"/>
                  <a:pt x="778" y="909"/>
                </a:cubicBezTo>
                <a:cubicBezTo>
                  <a:pt x="751" y="892"/>
                  <a:pt x="723" y="871"/>
                  <a:pt x="698" y="867"/>
                </a:cubicBezTo>
                <a:cubicBezTo>
                  <a:pt x="673" y="863"/>
                  <a:pt x="654" y="871"/>
                  <a:pt x="630" y="883"/>
                </a:cubicBezTo>
                <a:cubicBezTo>
                  <a:pt x="606" y="895"/>
                  <a:pt x="571" y="921"/>
                  <a:pt x="556" y="941"/>
                </a:cubicBezTo>
                <a:cubicBezTo>
                  <a:pt x="541" y="961"/>
                  <a:pt x="539" y="985"/>
                  <a:pt x="540" y="1004"/>
                </a:cubicBezTo>
                <a:cubicBezTo>
                  <a:pt x="541" y="1023"/>
                  <a:pt x="551" y="1045"/>
                  <a:pt x="561" y="1057"/>
                </a:cubicBezTo>
                <a:cubicBezTo>
                  <a:pt x="571" y="1069"/>
                  <a:pt x="586" y="1075"/>
                  <a:pt x="598" y="1078"/>
                </a:cubicBezTo>
                <a:cubicBezTo>
                  <a:pt x="610" y="1081"/>
                  <a:pt x="625" y="1077"/>
                  <a:pt x="635" y="1073"/>
                </a:cubicBezTo>
                <a:cubicBezTo>
                  <a:pt x="645" y="1069"/>
                  <a:pt x="657" y="1060"/>
                  <a:pt x="661" y="1052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62BF-5534-40E8-ACD0-09FFDDE019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Filosofia: Thomas Kuhn e ruolo di Keplero nella rivoluzione copernican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57480"/>
            <a:ext cx="534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a Geometria ha due grandi tesori: uno è il Teorema di Pitagora; l’altro è la sezione aurea di un segmento. Il primo lo possiamo paragonare ad un oggetto d’oro; il secondo lo possiamo definire un prezioso gioiello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esemplificare la sua teoria delle rivoluzioni scientifiche come progressivo superamento di paradigmi, Thomas Kuhn richiama, nel suo libro “La rivoluzione Copernicana”, il lavoro di Kepl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la descrizione delle tre leggi che governano i moti planetari è infatti possibile riconoscere lo sviluppo e l’applicazione del un nuovo paradigma Copernicano capace di spiegare anche fenomeni non interpretabili alla luce del precedente paradigma Tolemai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La_rivoluzione_copernicana" descr=""/>
          <p:cNvPicPr/>
          <p:nvPr/>
        </p:nvPicPr>
        <p:blipFill>
          <a:blip r:embed="rId1"/>
          <a:stretch/>
        </p:blipFill>
        <p:spPr>
          <a:xfrm>
            <a:off x="6708600" y="1163520"/>
            <a:ext cx="1944720" cy="3364200"/>
          </a:xfrm>
          <a:prstGeom prst="rect">
            <a:avLst/>
          </a:prstGeom>
          <a:ln w="0">
            <a:noFill/>
          </a:ln>
        </p:spPr>
      </p:pic>
      <p:pic>
        <p:nvPicPr>
          <p:cNvPr id="240" name="image002" descr=""/>
          <p:cNvPicPr/>
          <p:nvPr/>
        </p:nvPicPr>
        <p:blipFill>
          <a:blip r:embed="rId2"/>
          <a:stretch/>
        </p:blipFill>
        <p:spPr>
          <a:xfrm>
            <a:off x="4203720" y="3763800"/>
            <a:ext cx="1930320" cy="2401920"/>
          </a:xfrm>
          <a:prstGeom prst="rect">
            <a:avLst/>
          </a:prstGeom>
          <a:ln w="0">
            <a:noFill/>
          </a:ln>
        </p:spPr>
      </p:pic>
      <p:pic>
        <p:nvPicPr>
          <p:cNvPr id="241" name="tolomeo" descr=""/>
          <p:cNvPicPr/>
          <p:nvPr/>
        </p:nvPicPr>
        <p:blipFill>
          <a:blip r:embed="rId3"/>
          <a:stretch/>
        </p:blipFill>
        <p:spPr>
          <a:xfrm>
            <a:off x="1177920" y="3728880"/>
            <a:ext cx="1987560" cy="24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E06C-1506-43C9-8F07-E3ECB4980A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889fb"/>
                </a:solidFill>
                <a:latin typeface="Arial"/>
              </a:rPr>
              <a:t>Sezione Aurea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6640" y="1287360"/>
            <a:ext cx="855180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80000"/>
              </a:lnSpc>
              <a:buClr>
                <a:srgbClr val="0066ff"/>
              </a:buClr>
              <a:buSzPct val="11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tema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5000"/>
              </a:lnSpc>
              <a:spcBef>
                <a:spcPts val="1749"/>
              </a:spcBef>
              <a:spcAft>
                <a:spcPts val="264"/>
              </a:spcAft>
              <a:buClr>
                <a:srgbClr val="0066ff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eometr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33360" indent="-228600">
              <a:lnSpc>
                <a:spcPct val="5000"/>
              </a:lnSpc>
              <a:spcBef>
                <a:spcPts val="174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ostruzione con riga e compa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33360" indent="-228600">
              <a:lnSpc>
                <a:spcPct val="5000"/>
              </a:lnSpc>
              <a:spcBef>
                <a:spcPts val="174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decagono: un poligono d’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33360" indent="-228600">
              <a:lnSpc>
                <a:spcPct val="5000"/>
              </a:lnSpc>
              <a:spcBef>
                <a:spcPts val="174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no, coseno e tangente di alcuni angoli: 36°, 18°, 9°, 1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5000"/>
              </a:lnSpc>
              <a:spcBef>
                <a:spcPts val="1749"/>
              </a:spcBef>
              <a:spcAft>
                <a:spcPts val="264"/>
              </a:spcAft>
              <a:buClr>
                <a:srgbClr val="0066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itme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33360" indent="-228600">
              <a:lnSpc>
                <a:spcPct val="5000"/>
              </a:lnSpc>
              <a:spcBef>
                <a:spcPts val="174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razioni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33360" indent="-228600">
              <a:lnSpc>
                <a:spcPct val="5000"/>
              </a:lnSpc>
              <a:spcBef>
                <a:spcPts val="174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adici nidif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buClr>
                <a:srgbClr val="0066ff"/>
              </a:buClr>
              <a:buSzPct val="11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5000"/>
              </a:lnSpc>
              <a:spcBef>
                <a:spcPts val="1749"/>
              </a:spcBef>
              <a:spcAft>
                <a:spcPts val="264"/>
              </a:spcAft>
              <a:buClr>
                <a:srgbClr val="0066ff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sezione aurea nell’arte classica, nell’arte rinascimentale e mod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5000"/>
              </a:lnSpc>
              <a:spcBef>
                <a:spcPts val="1749"/>
              </a:spcBef>
              <a:spcAft>
                <a:spcPts val="264"/>
              </a:spcAft>
              <a:buClr>
                <a:srgbClr val="0066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iet Mondrian e l sezione a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lnSpc>
                <a:spcPct val="5000"/>
              </a:lnSpc>
              <a:spcBef>
                <a:spcPts val="1749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buClr>
                <a:srgbClr val="0066ff"/>
              </a:buClr>
              <a:buSzPct val="11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stron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5000"/>
              </a:lnSpc>
              <a:spcBef>
                <a:spcPts val="1749"/>
              </a:spcBef>
              <a:spcAft>
                <a:spcPts val="264"/>
              </a:spcAft>
              <a:buClr>
                <a:srgbClr val="0066ff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Keplero: il legame tra sezione aurea e successione di Fibonac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5000"/>
              </a:lnSpc>
              <a:spcBef>
                <a:spcPts val="1749"/>
              </a:spcBef>
              <a:spcAft>
                <a:spcPts val="264"/>
              </a:spcAft>
              <a:buClr>
                <a:srgbClr val="0066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e galassie a spirale: la sezione aurea dell’unive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lnSpc>
                <a:spcPct val="5000"/>
              </a:lnSpc>
              <a:spcBef>
                <a:spcPts val="1749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buClr>
                <a:srgbClr val="0066ff"/>
              </a:buClr>
              <a:buSzPct val="11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ilosofia: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omas Kuhn e il ruolo di Keplero nella rivoluzione copernic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lnSpc>
                <a:spcPct val="5000"/>
              </a:lnSpc>
              <a:spcBef>
                <a:spcPts val="1749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lnSpc>
                <a:spcPct val="5000"/>
              </a:lnSpc>
              <a:spcBef>
                <a:spcPts val="1500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lnSpc>
                <a:spcPct val="5000"/>
              </a:lnSpc>
              <a:spcBef>
                <a:spcPts val="1500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lnSpc>
                <a:spcPct val="5000"/>
              </a:lnSpc>
              <a:spcBef>
                <a:spcPts val="1500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65D5-78C6-4503-A479-8BBBB2B192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Geometria: la costruzione con riga e compasso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57480"/>
            <a:ext cx="7772400" cy="48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ezione aurea di un segmento è la sua divisione in 2 parti in modo che il rapporto tra l’intero segmento e la parte più lunga sia pari al rapporto tra la parte più lunga e la parte più cort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struzione con riga e compass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/>
          </p:cNvPr>
          <p:cNvSpPr/>
          <p:nvPr/>
        </p:nvSpPr>
        <p:spPr>
          <a:xfrm>
            <a:off x="32860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773440" y="2063880"/>
            <a:ext cx="3645000" cy="769680"/>
            <a:chOff x="2773440" y="2063880"/>
            <a:chExt cx="3645000" cy="7696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rcRect l="4700" t="10614" r="8710" b="73915"/>
            <a:stretch/>
          </p:blipFill>
          <p:spPr>
            <a:xfrm>
              <a:off x="2773440" y="2311560"/>
              <a:ext cx="3645000" cy="52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837600" y="2063880"/>
              <a:ext cx="18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 : AC = AC : C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257480" y="3935520"/>
            <a:ext cx="2725560" cy="1898640"/>
            <a:chOff x="1257480" y="3935520"/>
            <a:chExt cx="2725560" cy="189864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1257480" y="3935520"/>
              <a:ext cx="272556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530520" y="4869000"/>
              <a:ext cx="16776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66ff"/>
                  </a:solidFill>
                  <a:latin typeface="Arial"/>
                  <a:ea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89080" y="4526280"/>
              <a:ext cx="1677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04840" y="5021640"/>
              <a:ext cx="1681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ff0000"/>
                  </a:solidFill>
                  <a:latin typeface="Arial"/>
                  <a:ea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0800" y="5173920"/>
              <a:ext cx="16776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ff0000"/>
                  </a:solidFill>
                  <a:latin typeface="Arial"/>
                  <a:ea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947880" y="3684600"/>
            <a:ext cx="334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Dato il segmento, trovare la sua sezione au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71800" y="3684600"/>
            <a:ext cx="305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Data la sezione aurea, trovare il seg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270400" y="4054320"/>
            <a:ext cx="2057400" cy="1797120"/>
            <a:chOff x="5270400" y="4054320"/>
            <a:chExt cx="2057400" cy="1797120"/>
          </a:xfrm>
        </p:grpSpPr>
        <p:pic>
          <p:nvPicPr>
            <p:cNvPr id="144" name="Sezione_aurea_dimostrazione_2" descr="Immagine:Sezione aurea dimostrazione 2.gif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270400" y="4054320"/>
              <a:ext cx="205740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995800" y="4379760"/>
              <a:ext cx="16812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66ff"/>
                  </a:solidFill>
                  <a:latin typeface="Arial"/>
                  <a:ea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48080" y="4781520"/>
              <a:ext cx="1684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60960" y="4379760"/>
              <a:ext cx="1684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19840" y="5032080"/>
              <a:ext cx="16812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66ff"/>
                  </a:solidFill>
                  <a:latin typeface="Arial"/>
                  <a:ea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510240" y="2063880"/>
                <a:ext cx="13082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: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: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4900-A306-4C12-BB61-3DB2E3C8A7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Geometria: il decagono, poligono d’oro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35120" y="1119240"/>
            <a:ext cx="3161880" cy="3336480"/>
            <a:chOff x="735120" y="1119240"/>
            <a:chExt cx="3161880" cy="3336480"/>
          </a:xfrm>
        </p:grpSpPr>
        <p:pic>
          <p:nvPicPr>
            <p:cNvPr id="152" name="image31" descr=""/>
            <p:cNvPicPr/>
            <p:nvPr/>
          </p:nvPicPr>
          <p:blipFill>
            <a:blip r:embed="rId1"/>
            <a:stretch/>
          </p:blipFill>
          <p:spPr>
            <a:xfrm>
              <a:off x="1612440" y="2589840"/>
              <a:ext cx="1484280" cy="186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5120" y="1119240"/>
              <a:ext cx="3161880" cy="3226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33800" y="1311120"/>
            <a:ext cx="443880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Dimostriamo che il lato del decagono inscritto in una circonferenza è la sezione aurea del raggio della circonferenza, ovvero che risulta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AC : BC = BC : (AC – BC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Tracciata la bisettrice dell’angolo alla base B, otteniamo il triangolo ABD che è isoscele per avere 2 angoli congruenti ABD </a:t>
            </a:r>
            <a:r>
              <a:rPr b="0" lang="it-IT" sz="1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DAB. Ne segue che BD </a:t>
            </a:r>
            <a:r>
              <a:rPr b="0" lang="it-IT" sz="1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A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Anche il triangolo CBD è d’altra parte isoscele per avere congruenti due angoli BDC </a:t>
            </a:r>
            <a:r>
              <a:rPr b="0" lang="it-IT" sz="1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BCD. Ne segue che BD </a:t>
            </a:r>
            <a:r>
              <a:rPr b="0" lang="it-IT" sz="1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Mostriamo ora che i triangoli BAC e CBD sono simili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’angolo DBC </a:t>
            </a:r>
            <a:r>
              <a:rPr b="0" lang="it-IT" sz="1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BAC poiché entrambe misurano 36°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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’angolo CDB </a:t>
            </a:r>
            <a:r>
              <a:rPr b="0" lang="it-IT" sz="1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ACB poiché entrambe misurano  180° - (36° + 72°) = 72°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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’angolo in C è comune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I 2 triangoli sono pertanto simili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Possiamo pertanto impostare la proporzione seguente: AB :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BC = BC : D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Sostituendo a DC = AC – AD = AC –BD = AC - BC, si ottiene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AB : BC = BC : (AC – BC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2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r : l</a:t>
            </a:r>
            <a:r>
              <a:rPr b="0" i="1" lang="it-IT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= l</a:t>
            </a:r>
            <a:r>
              <a:rPr b="0" i="1" lang="it-IT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: (r - l</a:t>
            </a:r>
            <a:r>
              <a:rPr b="0" i="1" lang="it-IT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it-IT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it-IT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= r·(r - l</a:t>
            </a:r>
            <a:r>
              <a:rPr b="0" i="1" lang="it-IT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it-IT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it-IT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+ r·l</a:t>
            </a:r>
            <a:r>
              <a:rPr b="0" i="1" lang="it-IT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– r</a:t>
            </a:r>
            <a:r>
              <a:rPr b="0" i="1" lang="it-IT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 = 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00000">
            <a:off x="4679640" y="5278320"/>
            <a:ext cx="788760" cy="392400"/>
          </a:xfrm>
          <a:custGeom>
            <a:avLst/>
            <a:gdLst>
              <a:gd name="textAreaLeft" fmla="*/ 123120 w 788760"/>
              <a:gd name="textAreaRight" fmla="*/ 690480 w 788760"/>
              <a:gd name="textAreaTop" fmla="*/ 97920 h 392400"/>
              <a:gd name="textAreaBottom" fmla="*/ 294480 h 392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46120" y="5168880"/>
                <a:ext cx="3551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φ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297000" y="4813200"/>
            <a:ext cx="4106880" cy="1333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1D7E-DE26-4F1E-8AD6-2E24D9D58A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Geometria: seno, coseno e tangente di alcuni angoli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2640" y="1311120"/>
            <a:ext cx="559260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Dal teorema di Carnot applicato al triangolo ABC: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it-IT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 = 2r</a:t>
            </a:r>
            <a:r>
              <a:rPr b="0" i="1" lang="it-IT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(1 – cos36°).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Poiché sappiamo ch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it-IT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 = 1/φ</a:t>
            </a:r>
            <a:r>
              <a:rPr b="0" i="1" lang="it-IT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si ottiene ch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Dalla trigonometria si ricava poi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66ff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783480" y="1015920"/>
            <a:ext cx="2030400" cy="2043000"/>
            <a:chOff x="6783480" y="1015920"/>
            <a:chExt cx="2030400" cy="2043000"/>
          </a:xfrm>
        </p:grpSpPr>
        <p:pic>
          <p:nvPicPr>
            <p:cNvPr id="161" name="image31" descr=""/>
            <p:cNvPicPr/>
            <p:nvPr/>
          </p:nvPicPr>
          <p:blipFill>
            <a:blip r:embed="rId1"/>
            <a:stretch/>
          </p:blipFill>
          <p:spPr>
            <a:xfrm>
              <a:off x="7346520" y="1916280"/>
              <a:ext cx="95292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783480" y="1015920"/>
              <a:ext cx="2030400" cy="19760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17800" y="170028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36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1425600" y="3059280"/>
            <a:ext cx="6008760" cy="2334600"/>
            <a:chOff x="1425600" y="3059280"/>
            <a:chExt cx="6008760" cy="2334600"/>
          </a:xfrm>
        </p:grpSpPr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1488960" y="3122280"/>
                  <a:ext cx="148608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en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φ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φ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174760" y="3919320"/>
                  <a:ext cx="800280" cy="41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en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φ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425600" y="4873320"/>
                  <a:ext cx="15494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en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4</m:t>
                                  </m:r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φ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265800" y="3855960"/>
                  <a:ext cx="1168560" cy="48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4</m:t>
                              </m:r>
                              <m:sSup>
                                <m:e>
                                  <m:r>
                                    <m:t xml:space="preserve">φ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φ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6367320" y="3122280"/>
                  <a:ext cx="10670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36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φ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5884920" y="4873320"/>
                  <a:ext cx="15494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4</m:t>
                                  </m:r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φ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4164120" y="3059280"/>
                  <a:ext cx="11682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4</m:t>
                              </m:r>
                              <m:sSup>
                                <m:e>
                                  <m:r>
                                    <m:t xml:space="preserve">φ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sSup>
                            <m:e>
                              <m:r>
                                <m:t xml:space="preserve">φ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176720" y="3868560"/>
                  <a:ext cx="1155600" cy="46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4</m:t>
                              </m:r>
                              <m:sSup>
                                <m:e>
                                  <m:r>
                                    <m:t xml:space="preserve">φ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3821040" y="4822560"/>
                  <a:ext cx="15112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4</m:t>
                                  </m:r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rad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4</m:t>
                                  </m:r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rad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CB4E-72B9-4FB7-BE1F-08DD7C362C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080" y="533520"/>
            <a:ext cx="86090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Geometria: il decagono, poligono d’oro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0440" y="1062000"/>
            <a:ext cx="48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Determiniamo ora il valore di cos 1°. A questo scopo ricordiamo ch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36760" y="1311120"/>
                <a:ext cx="5383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2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919440" y="2292480"/>
            <a:ext cx="21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Scegliendo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 = 1°, si ottien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452600" y="2541600"/>
                <a:ext cx="21556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1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925560" y="3127320"/>
            <a:ext cx="731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Poichè 1° è un angolo piccolo dovrà risultare cos1° circa pari a 1. Per ottenere un’approssimazione del valore preciso scriviamo cos1° = 1 - </a:t>
            </a:r>
            <a:r>
              <a:rPr b="0" lang="it-IT" sz="1200" spc="-1" strike="noStrike">
                <a:solidFill>
                  <a:srgbClr val="000000"/>
                </a:solidFill>
                <a:latin typeface="Math A"/>
                <a:ea typeface="Math A"/>
              </a:rPr>
              <a:t>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, con </a:t>
            </a:r>
            <a:r>
              <a:rPr b="0" lang="it-IT" sz="1200" spc="-1" strike="noStrike">
                <a:solidFill>
                  <a:srgbClr val="000000"/>
                </a:solidFill>
                <a:latin typeface="Math A"/>
                <a:ea typeface="Math A"/>
              </a:rPr>
              <a:t>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 ≈ 0. Sostituendo nella equazione, si ricava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11200" y="3630600"/>
                <a:ext cx="20113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4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δ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48600" y="4338720"/>
            <a:ext cx="48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Essendo </a:t>
            </a:r>
            <a:r>
              <a:rPr b="0" lang="it-IT" sz="1200" spc="-1" strike="noStrike">
                <a:solidFill>
                  <a:srgbClr val="000000"/>
                </a:solidFill>
                <a:latin typeface="Math A"/>
                <a:ea typeface="Math A"/>
              </a:rPr>
              <a:t>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 ≈ 0, </a:t>
            </a:r>
            <a:r>
              <a:rPr b="0" lang="it-IT" sz="1200" spc="-1" strike="noStrike">
                <a:solidFill>
                  <a:srgbClr val="000000"/>
                </a:solidFill>
                <a:latin typeface="Math A"/>
                <a:ea typeface="Math A"/>
              </a:rPr>
              <a:t></a:t>
            </a:r>
            <a:r>
              <a:rPr b="0" lang="it-IT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sarà ancora più piccolo e dunque si può trascurare: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335240" y="4692600"/>
                <a:ext cx="400032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δ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3</m:t>
                            </m:r>
                            <m:r>
                              <m:t xml:space="preserve">°</m:t>
                            </m:r>
                          </m:e>
                        </m:d>
                        <m:r>
                          <m:t xml:space="preserve">≈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°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t xml:space="preserve">≈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°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°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A135-1E36-4D0F-BB3F-76871D582E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Aritmetica: frazioni continue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sezione aurea è un numero davvero magico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siste infatti una bellissima formula basata su una frazione continua infinita che fornisce esattamente il valore della sezione aurea utilizzando solo il più semplice dei numeri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962000" y="2435400"/>
            <a:ext cx="5530680" cy="2872800"/>
            <a:chOff x="1962000" y="2435400"/>
            <a:chExt cx="5530680" cy="2872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1962000" y="2435400"/>
                  <a:ext cx="5530680" cy="287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φ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φ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φ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φ</m:t>
                              </m:r>
                            </m:den>
                          </m:f>
                        </m:e>
                        <m:e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φ</m:t>
                                  </m:r>
                                </m:den>
                              </m:f>
                            </m:den>
                          </m:f>
                          <m:m>
                            <m:mr>
                              <m:e/>
                              <m:e/>
                            </m:mr>
                          </m:m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φ</m:t>
                                      </m:r>
                                    </m:den>
                                  </m:f>
                                </m:den>
                              </m:f>
                            </m:den>
                          </m:f>
                          <m:m>
                            <m:mr>
                              <m:e/>
                              <m:e/>
                            </m:mr>
                          </m:m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den>
                                      </m:f>
                                    </m:den>
                                  </m:f>
                                </m:den>
                              </m:f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>
              <a:off x="3291840" y="3248280"/>
              <a:ext cx="271800" cy="382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98960" y="3634920"/>
              <a:ext cx="225360" cy="612720"/>
            </a:xfrm>
            <a:custGeom>
              <a:avLst/>
              <a:gdLst/>
              <a:ahLst/>
              <a:rect l="l" t="t" r="r" b="b"/>
              <a:pathLst>
                <a:path w="152" h="365">
                  <a:moveTo>
                    <a:pt x="148" y="0"/>
                  </a:moveTo>
                  <a:cubicBezTo>
                    <a:pt x="150" y="70"/>
                    <a:pt x="152" y="140"/>
                    <a:pt x="127" y="201"/>
                  </a:cubicBezTo>
                  <a:cubicBezTo>
                    <a:pt x="102" y="262"/>
                    <a:pt x="51" y="313"/>
                    <a:pt x="0" y="3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22600" y="4000320"/>
              <a:ext cx="606960" cy="77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45320" y="4681800"/>
              <a:ext cx="1381320" cy="245520"/>
            </a:xfrm>
            <a:custGeom>
              <a:avLst/>
              <a:gdLst/>
              <a:ahLst/>
              <a:rect l="l" t="t" r="r" b="b"/>
              <a:pathLst>
                <a:path w="803" h="129">
                  <a:moveTo>
                    <a:pt x="0" y="0"/>
                  </a:moveTo>
                  <a:cubicBezTo>
                    <a:pt x="120" y="62"/>
                    <a:pt x="241" y="125"/>
                    <a:pt x="375" y="127"/>
                  </a:cubicBezTo>
                  <a:cubicBezTo>
                    <a:pt x="509" y="129"/>
                    <a:pt x="732" y="29"/>
                    <a:pt x="803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0200" y="4343040"/>
              <a:ext cx="606960" cy="723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80760" y="4771080"/>
              <a:ext cx="1854360" cy="462600"/>
            </a:xfrm>
            <a:custGeom>
              <a:avLst/>
              <a:gdLst/>
              <a:ahLst/>
              <a:rect l="l" t="t" r="r" b="b"/>
              <a:pathLst>
                <a:path w="1078" h="243">
                  <a:moveTo>
                    <a:pt x="0" y="0"/>
                  </a:moveTo>
                  <a:cubicBezTo>
                    <a:pt x="150" y="59"/>
                    <a:pt x="301" y="119"/>
                    <a:pt x="481" y="159"/>
                  </a:cubicBezTo>
                  <a:cubicBezTo>
                    <a:pt x="661" y="199"/>
                    <a:pt x="869" y="221"/>
                    <a:pt x="1078" y="2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9BB7-3499-4B31-8A59-1DD1727B8A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Aritmetica: radici nidificate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sezione aurea non finisce mai di stupire ! Non solo frazioni continue, ma anche radici nidificate possono esprimerne il valo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344760" y="1884240"/>
            <a:ext cx="3054240" cy="3152520"/>
            <a:chOff x="3344760" y="1884240"/>
            <a:chExt cx="3054240" cy="315252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3344760" y="1884240"/>
                  <a:ext cx="2937240" cy="31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φ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rad>
                        </m:e>
                        <m:e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φ</m:t>
                                  </m:r>
                                </m:e>
                              </m:rad>
                            </m:e>
                          </m:rad>
                        </m:e>
                        <m:e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φ</m:t>
                                      </m:r>
                                    </m:e>
                                  </m:rad>
                                </m:e>
                              </m:rad>
                            </m:e>
                          </m:rad>
                        </m:e>
                        <m:e>
                          <m:r>
                            <m:t xml:space="preserve">φ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rad>
                                    </m:e>
                                  </m:rad>
                                </m:e>
                              </m:rad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4421160" y="2467800"/>
              <a:ext cx="362880" cy="45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02160" y="2812320"/>
              <a:ext cx="813240" cy="91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76000" y="3484080"/>
              <a:ext cx="811080" cy="852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7560" y="4140360"/>
              <a:ext cx="811440" cy="85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1BA4-603B-48F8-B559-AF7074DEF6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7000" y="608040"/>
            <a:ext cx="8609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889fb"/>
                </a:solidFill>
                <a:latin typeface="Arial"/>
              </a:rPr>
              <a:t>Arte: sezione aurea nell’arte classica, rinascimentale e modern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02" name="doriciV13" descr=""/>
          <p:cNvPicPr/>
          <p:nvPr/>
        </p:nvPicPr>
        <p:blipFill>
          <a:blip r:embed="rId1"/>
          <a:stretch/>
        </p:blipFill>
        <p:spPr>
          <a:xfrm>
            <a:off x="4832280" y="3313080"/>
            <a:ext cx="3249720" cy="1925640"/>
          </a:xfrm>
          <a:prstGeom prst="rect">
            <a:avLst/>
          </a:prstGeom>
          <a:ln w="0">
            <a:noFill/>
          </a:ln>
        </p:spPr>
      </p:pic>
      <p:pic>
        <p:nvPicPr>
          <p:cNvPr id="203" name="image6bis" descr=""/>
          <p:cNvPicPr/>
          <p:nvPr/>
        </p:nvPicPr>
        <p:blipFill>
          <a:blip r:embed="rId2"/>
          <a:stretch/>
        </p:blipFill>
        <p:spPr>
          <a:xfrm>
            <a:off x="906480" y="3273480"/>
            <a:ext cx="3319560" cy="201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Partenone è il più celebre monumento dell'architettura Ellenica e contiene molti rettangoli aurei e le stesse proporzioni auree si riscontrano nelle statue in esso presen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proiezione ortogonale della facciata mostra come essa sia stata concepita ispirandosi ad un rettangolo aureo, in modo che la larghezza e l'altezza stiano nel rapporto: </a:t>
            </a: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4D3D-F342-4D7F-A289-DA2E853375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via</cp:lastModifiedBy>
  <dcterms:modified xsi:type="dcterms:W3CDTF">2007-06-19T16:10:37Z</dcterms:modified>
  <cp:revision>313</cp:revision>
  <dc:subject/>
  <dc:title>PowerPoint Presentation</dc:title>
</cp:coreProperties>
</file>