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0CC-CE08-4D27-BC96-F2403373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3FF-B8AD-4DDE-B096-7E9B87C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8E7-E73B-4456-B2BB-CB012F62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FB6-B026-4489-BF6A-1B5D6D03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FE7-6732-47C2-A36F-D9809F3D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1BB-97D0-4EE0-9FDF-C90E586A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BFA-D192-4CE5-99E6-3CE4A17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A16-4FAC-463E-A911-D5DC3BB1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145-9288-4653-8AB8-3617938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E00-0C35-423D-AAD0-C88BF0F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95A-AA65-47CC-849E-20154E2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745-BC15-4054-B36A-F509C99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C2F-4C69-4EDD-9D7B-A6C0FC757D5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28600" y="2575080"/>
            <a:ext cx="86868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ampi di Concentramento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taliani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33"/>
                </a:solidFill>
                <a:latin typeface="Arial"/>
              </a:rPr>
              <a:t>INGL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agina iniziale 2"/>
          <p:cNvSpPr/>
          <p:nvPr/>
        </p:nvSpPr>
        <p:spPr>
          <a:xfrm>
            <a:off x="857268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3"/>
          <p:cNvSpPr/>
          <p:nvPr/>
        </p:nvSpPr>
        <p:spPr>
          <a:xfrm>
            <a:off x="214200" y="142884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The second wor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Welfar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Irel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2714760" y="2928960"/>
            <a:ext cx="3313080" cy="647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mpi di concentr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taliani e Fasc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 flipH="1" flipV="1">
            <a:off x="2050920" y="1844280"/>
            <a:ext cx="719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>
            <a:hlinkClick r:id="rId1" action="ppaction://hlinksldjump"/>
          </p:cNvPr>
          <p:cNvSpPr/>
          <p:nvPr/>
        </p:nvSpPr>
        <p:spPr>
          <a:xfrm>
            <a:off x="468360" y="981000"/>
            <a:ext cx="2519280" cy="86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o L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 flipV="1">
            <a:off x="4356000" y="1700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3276720" y="476280"/>
            <a:ext cx="2447640" cy="1225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2° Guerra Mond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l Fasc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V="1">
            <a:off x="5796000" y="1844280"/>
            <a:ext cx="1079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1"/>
          <p:cNvSpPr/>
          <p:nvPr/>
        </p:nvSpPr>
        <p:spPr>
          <a:xfrm>
            <a:off x="6084720" y="549360"/>
            <a:ext cx="288000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Ing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econd World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97964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0" y="2565360"/>
            <a:ext cx="1979640" cy="12952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Op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6732720" y="2565360"/>
            <a:ext cx="241128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stemi Inform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endali e informa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 flipH="1">
            <a:off x="1979640" y="3573360"/>
            <a:ext cx="7905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250920" y="4581360"/>
            <a:ext cx="2663640" cy="1152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na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anificazione fiscale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4356000" y="3573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3059280" y="5373720"/>
            <a:ext cx="2952720" cy="1224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Ec. Azien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ianificazione Strateg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stemi Inform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5724360" y="357336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1"/>
          <p:cNvSpPr/>
          <p:nvPr/>
        </p:nvSpPr>
        <p:spPr>
          <a:xfrm>
            <a:off x="6443640" y="4292640"/>
            <a:ext cx="2484360" cy="1295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ir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smo,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ttore 2 21"/>
          <p:cNvCxnSpPr>
            <a:stCxn id="42" idx="3"/>
            <a:endCxn id="51" idx="2"/>
          </p:cNvCxnSpPr>
          <p:nvPr/>
        </p:nvCxnSpPr>
        <p:spPr>
          <a:xfrm flipV="1">
            <a:off x="6027840" y="3212280"/>
            <a:ext cx="705240" cy="40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9" name="Connettore 2 29"/>
          <p:cNvCxnSpPr>
            <a:stCxn id="42" idx="3"/>
            <a:endCxn id="51" idx="2"/>
          </p:cNvCxnSpPr>
          <p:nvPr/>
        </p:nvCxnSpPr>
        <p:spPr>
          <a:xfrm flipV="1">
            <a:off x="6027840" y="3212280"/>
            <a:ext cx="705240" cy="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00"/>
                </a:solidFill>
                <a:latin typeface="Arial"/>
              </a:rPr>
              <a:t>ITA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imo Le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Se questo è un uo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Vita e O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agina iniziale 5">
            <a:hlinkClick r:id="rId2" action="ppaction://hlinksldjump"/>
          </p:cNvPr>
          <p:cNvSpPr/>
          <p:nvPr/>
        </p:nvSpPr>
        <p:spPr>
          <a:xfrm>
            <a:off x="21420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16193" y="3837"/>
                </a:moveTo>
                <a:lnTo>
                  <a:pt x="18770" y="6448"/>
                </a:lnTo>
                <a:lnTo>
                  <a:pt x="18770" y="4707"/>
                </a:lnTo>
                <a:lnTo>
                  <a:pt x="20545" y="4707"/>
                </a:lnTo>
                <a:lnTo>
                  <a:pt x="20545" y="8224"/>
                </a:lnTo>
                <a:lnTo>
                  <a:pt x="23156" y="10800"/>
                </a:lnTo>
                <a:lnTo>
                  <a:pt x="21502" y="10800"/>
                </a:lnTo>
                <a:lnTo>
                  <a:pt x="21502" y="17989"/>
                </a:lnTo>
                <a:lnTo>
                  <a:pt x="10884" y="17989"/>
                </a:lnTo>
                <a:lnTo>
                  <a:pt x="10884" y="10800"/>
                </a:lnTo>
                <a:lnTo>
                  <a:pt x="9230" y="10800"/>
                </a:lnTo>
                <a:close/>
              </a:path>
              <a:path fill="darkenLess" w="32386" h="21600">
                <a:moveTo>
                  <a:pt x="18770" y="6448"/>
                </a:moveTo>
                <a:lnTo>
                  <a:pt x="18770" y="4707"/>
                </a:lnTo>
                <a:lnTo>
                  <a:pt x="20545" y="4707"/>
                </a:lnTo>
                <a:lnTo>
                  <a:pt x="20545" y="8224"/>
                </a:lnTo>
                <a:close/>
              </a:path>
              <a:path fill="darkenLess" w="32386" h="21600">
                <a:moveTo>
                  <a:pt x="15271" y="14299"/>
                </a:moveTo>
                <a:lnTo>
                  <a:pt x="17116" y="14299"/>
                </a:lnTo>
                <a:lnTo>
                  <a:pt x="17116" y="17989"/>
                </a:lnTo>
                <a:lnTo>
                  <a:pt x="21502" y="17989"/>
                </a:lnTo>
                <a:lnTo>
                  <a:pt x="21502" y="10800"/>
                </a:lnTo>
                <a:lnTo>
                  <a:pt x="10884" y="10800"/>
                </a:lnTo>
                <a:lnTo>
                  <a:pt x="10884" y="17989"/>
                </a:lnTo>
                <a:lnTo>
                  <a:pt x="1527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33"/>
                </a:solidFill>
                <a:latin typeface="Arial"/>
              </a:rPr>
              <a:t>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Fasc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2° Guerra mon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agina iniziale 6"/>
          <p:cNvSpPr/>
          <p:nvPr/>
        </p:nvSpPr>
        <p:spPr>
          <a:xfrm>
            <a:off x="828684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00"/>
                </a:solidFill>
                <a:latin typeface="Arial"/>
              </a:rPr>
              <a:t>DIRI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sellaDiTesto 5"/>
          <p:cNvSpPr/>
          <p:nvPr/>
        </p:nvSpPr>
        <p:spPr>
          <a:xfrm>
            <a:off x="285840" y="1643040"/>
            <a:ext cx="8643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Fascistizzazione dello S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Leggi Raz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agina iniziale 7"/>
          <p:cNvSpPr/>
          <p:nvPr/>
        </p:nvSpPr>
        <p:spPr>
          <a:xfrm>
            <a:off x="828684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33"/>
                </a:solidFill>
                <a:latin typeface="Arial"/>
              </a:rPr>
              <a:t>SCIENZA DELLE FINA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2"/>
          <p:cNvSpPr/>
          <p:nvPr/>
        </p:nvSpPr>
        <p:spPr>
          <a:xfrm>
            <a:off x="214200" y="1714680"/>
            <a:ext cx="85010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Battaglia del gr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“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Quota 9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incipali opere economiche del fasc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L’Istituto per la Ricostruzione Industri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L’Istituto Mobiliare Ital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agina iniziale 4"/>
          <p:cNvSpPr/>
          <p:nvPr/>
        </p:nvSpPr>
        <p:spPr>
          <a:xfrm>
            <a:off x="828684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00"/>
                </a:solidFill>
                <a:latin typeface="Arial"/>
              </a:rPr>
              <a:t>INFORMAR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2"/>
          <p:cNvSpPr/>
          <p:nvPr/>
        </p:nvSpPr>
        <p:spPr>
          <a:xfrm>
            <a:off x="500040" y="15717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Sistemi informativi aziendali e infor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Critt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agina iniziale 3"/>
          <p:cNvSpPr/>
          <p:nvPr/>
        </p:nvSpPr>
        <p:spPr>
          <a:xfrm>
            <a:off x="857268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33"/>
                </a:solidFill>
                <a:latin typeface="Arial"/>
              </a:rPr>
              <a:t>MAT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sellaDiTesto 2"/>
          <p:cNvSpPr/>
          <p:nvPr/>
        </p:nvSpPr>
        <p:spPr>
          <a:xfrm>
            <a:off x="142920" y="164304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Ricerca Operativa,nascita ed evol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roblemi di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agina iniziale 3"/>
          <p:cNvSpPr/>
          <p:nvPr/>
        </p:nvSpPr>
        <p:spPr>
          <a:xfrm>
            <a:off x="857268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9900"/>
                </a:solidFill>
                <a:latin typeface="Arial"/>
              </a:rPr>
              <a:t>ECONOMIA AZIEND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2"/>
          <p:cNvSpPr/>
          <p:nvPr/>
        </p:nvSpPr>
        <p:spPr>
          <a:xfrm>
            <a:off x="285840" y="164304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ianificazione Strate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Sistemi informativi aziend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agina iniziale 3"/>
          <p:cNvSpPr/>
          <p:nvPr/>
        </p:nvSpPr>
        <p:spPr>
          <a:xfrm>
            <a:off x="8572680" y="63579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16180" y="3837"/>
                </a:moveTo>
                <a:lnTo>
                  <a:pt x="18756" y="6448"/>
                </a:ln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lnTo>
                  <a:pt x="23143" y="10800"/>
                </a:lnTo>
                <a:lnTo>
                  <a:pt x="21489" y="10800"/>
                </a:lnTo>
                <a:lnTo>
                  <a:pt x="21489" y="17989"/>
                </a:lnTo>
                <a:lnTo>
                  <a:pt x="10870" y="17989"/>
                </a:lnTo>
                <a:lnTo>
                  <a:pt x="10870" y="10800"/>
                </a:lnTo>
                <a:lnTo>
                  <a:pt x="9217" y="10800"/>
                </a:lnTo>
                <a:close/>
              </a:path>
              <a:path fill="darkenLess" w="32359" h="21600">
                <a:moveTo>
                  <a:pt x="18756" y="6448"/>
                </a:moveTo>
                <a:lnTo>
                  <a:pt x="18756" y="4707"/>
                </a:lnTo>
                <a:lnTo>
                  <a:pt x="20531" y="4707"/>
                </a:lnTo>
                <a:lnTo>
                  <a:pt x="20531" y="8224"/>
                </a:lnTo>
                <a:close/>
              </a:path>
              <a:path fill="darkenLess" w="32359" h="21600">
                <a:moveTo>
                  <a:pt x="15257" y="14299"/>
                </a:moveTo>
                <a:lnTo>
                  <a:pt x="17102" y="14299"/>
                </a:lnTo>
                <a:lnTo>
                  <a:pt x="17102" y="17989"/>
                </a:lnTo>
                <a:lnTo>
                  <a:pt x="21489" y="17989"/>
                </a:lnTo>
                <a:lnTo>
                  <a:pt x="21489" y="10800"/>
                </a:lnTo>
                <a:lnTo>
                  <a:pt x="10870" y="10800"/>
                </a:lnTo>
                <a:lnTo>
                  <a:pt x="10870" y="17989"/>
                </a:lnTo>
                <a:lnTo>
                  <a:pt x="152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6:22:32Z</dcterms:created>
  <dc:creator>GD ROMAGNOSI</dc:creator>
  <dc:description/>
  <dc:language>en-US</dc:language>
  <cp:lastModifiedBy>Giorgio</cp:lastModifiedBy>
  <dcterms:modified xsi:type="dcterms:W3CDTF">2007-06-19T13:43:36Z</dcterms:modified>
  <cp:revision>26</cp:revision>
  <dc:subject/>
  <dc:title>Diapositiva 1</dc:title>
</cp:coreProperties>
</file>