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gif" ContentType="image/gif"/>
  <Override PartName="/ppt/media/image7.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AF747-5E30-4F7E-BC6D-5AF2BAB40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43E84-D732-42BD-8A85-3BA9B267D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BB0FC-1528-474A-88F1-C7E20BD7B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AEE3E-83B0-4CD1-8F91-8ACEFE934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4DA2B2-7B56-4ACF-AD48-BC8D7A97A1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1C34F-3018-4692-BB2E-5297F8DE3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D3085-F9A2-483E-94FE-DE3CE828E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BABA6-07DE-4D41-87FE-2FFD2FF37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99442-5EB5-4C6D-8777-B4B2F423E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A2402-33D4-469F-9205-7377B5296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BE54A-9C5D-4BAE-AD54-2F34C9AA3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77DA5-62D3-4199-BA8E-A0F59E2B5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99F26-DBEC-44F1-BE74-96C6DA025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B89DA-5713-4210-AA8A-29DDC7D5B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549AC-5E3C-4F0E-BBF1-0F44F135C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CDFEAE-F7F1-492F-84BC-5FB1C9470D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D3F1D4-CBD4-437B-B979-A777AB8C6B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7A010-90A2-472E-839A-996E2BA3F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48A42-A9EB-4B64-B517-BDEF08D2D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9950E-69E2-4F4A-9599-A7389FFBA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4DFEE-403C-4BA1-8F72-6DEDB4D66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253F0-0234-4314-8A5F-B94D3573F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35269-947C-4E04-89B4-AC14E60C3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6D31D-ED5B-40AC-B8CC-BCFA3357F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7367-EFBB-4AE2-93C6-9DAAF9478D7F}"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3A7CF-B8BF-4FB0-84EF-5D1D973E744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txBox="1"/>
          <p:nvPr/>
        </p:nvSpPr>
        <p:spPr>
          <a:xfrm>
            <a:off x="838080" y="2133720"/>
            <a:ext cx="7496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ff00ff">
                    <a:alpha val="50000"/>
                  </a:srgbClr>
                </a:solidFill>
                <a:effectLst>
                  <a:outerShdw dist="40186" dir="1096358" blurRad="0" rotWithShape="0">
                    <a:srgbClr val="9999ff"/>
                  </a:outerShdw>
                </a:effectLst>
                <a:latin typeface="Arial Black"/>
              </a:rPr>
              <a:t>LA COGNIZIONE DEL DOLORE</a:t>
            </a:r>
            <a:endParaRPr b="0" lang="en-US" sz="2400" spc="1" strike="noStrike">
              <a:ln w="12600">
                <a:solidFill>
                  <a:srgbClr val="3333cc"/>
                </a:solidFill>
                <a:miter/>
              </a:ln>
              <a:solidFill>
                <a:srgbClr val="ff00ff">
                  <a:alpha val="50000"/>
                </a:srgbClr>
              </a:solidFill>
              <a:effectLst>
                <a:outerShdw dist="40186" dir="1096358" blurRad="0" rotWithShape="0">
                  <a:srgbClr val="9999ff"/>
                </a:outerShdw>
              </a:effectLst>
              <a:latin typeface="Arial Black"/>
              <a:ea typeface="Arial Black"/>
            </a:endParaRPr>
          </a:p>
        </p:txBody>
      </p:sp>
      <p:sp>
        <p:nvSpPr>
          <p:cNvPr id="141" name=""/>
          <p:cNvSpPr txBox="1"/>
          <p:nvPr/>
        </p:nvSpPr>
        <p:spPr>
          <a:xfrm>
            <a:off x="1295280" y="3581280"/>
            <a:ext cx="64864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RA STORIA E FILOSOFIA</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42" name=""/>
          <p:cNvSpPr/>
          <p:nvPr/>
        </p:nvSpPr>
        <p:spPr>
          <a:xfrm>
            <a:off x="228600" y="64008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sentazione di Cappelletti Francesca, classe III 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
          <p:cNvSpPr txBox="1"/>
          <p:nvPr/>
        </p:nvSpPr>
        <p:spPr>
          <a:xfrm>
            <a:off x="2590920" y="380880"/>
            <a:ext cx="38098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ff00ff">
                    <a:alpha val="50000"/>
                  </a:srgbClr>
                </a:solidFill>
                <a:effectLst>
                  <a:outerShdw dist="40186" dir="1096358" blurRad="0" rotWithShape="0">
                    <a:srgbClr val="9999ff"/>
                  </a:outerShdw>
                </a:effectLst>
                <a:latin typeface="Arial Black"/>
              </a:rPr>
              <a:t>CURIOSITA'</a:t>
            </a:r>
            <a:endParaRPr b="0" lang="en-US" sz="2400" spc="1" strike="noStrike">
              <a:ln w="12600">
                <a:solidFill>
                  <a:srgbClr val="3333cc"/>
                </a:solidFill>
                <a:miter/>
              </a:ln>
              <a:solidFill>
                <a:srgbClr val="ff00ff">
                  <a:alpha val="50000"/>
                </a:srgbClr>
              </a:solidFill>
              <a:effectLst>
                <a:outerShdw dist="40186" dir="1096358" blurRad="0" rotWithShape="0">
                  <a:srgbClr val="9999ff"/>
                </a:outerShdw>
              </a:effectLst>
              <a:latin typeface="Arial Black"/>
              <a:ea typeface="Arial Black"/>
            </a:endParaRPr>
          </a:p>
        </p:txBody>
      </p:sp>
      <p:sp>
        <p:nvSpPr>
          <p:cNvPr id="164" name=""/>
          <p:cNvSpPr txBox="1"/>
          <p:nvPr/>
        </p:nvSpPr>
        <p:spPr>
          <a:xfrm>
            <a:off x="1676520" y="1371600"/>
            <a:ext cx="56671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 LUOGHI DELL'OPERA</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65" name=""/>
          <p:cNvSpPr/>
          <p:nvPr/>
        </p:nvSpPr>
        <p:spPr>
          <a:xfrm>
            <a:off x="152280" y="2209680"/>
            <a:ext cx="5257800" cy="433260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uoghi inventati sono specchio di luoghi reali della giovinezza dell’autore</a:t>
            </a:r>
            <a:endParaRPr b="0" lang="en-US" sz="2200" spc="-1" strike="noStrike">
              <a:solidFill>
                <a:srgbClr val="ffffff"/>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ea Keltikè</a:t>
            </a:r>
            <a:r>
              <a:rPr b="0" lang="en-US" sz="2200" spc="-1" strike="noStrike">
                <a:solidFill>
                  <a:srgbClr val="ffffff"/>
                </a:solidFill>
                <a:latin typeface="Wingdings"/>
                <a:ea typeface="Wingdings"/>
              </a:rPr>
              <a:t></a:t>
            </a:r>
            <a:r>
              <a:rPr b="0" lang="en-US" sz="2200" spc="-1" strike="noStrike">
                <a:solidFill>
                  <a:srgbClr val="ffffff"/>
                </a:solidFill>
                <a:latin typeface="Times New Roman"/>
              </a:rPr>
              <a:t>Lombardia</a:t>
            </a:r>
            <a:endParaRPr b="0" lang="en-US" sz="2200" spc="-1" strike="noStrike">
              <a:solidFill>
                <a:srgbClr val="ffffff"/>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rruchòn</a:t>
            </a:r>
            <a:r>
              <a:rPr b="0" lang="en-US" sz="2200" spc="-1" strike="noStrike">
                <a:solidFill>
                  <a:srgbClr val="ffffff"/>
                </a:solidFill>
                <a:latin typeface="Wingdings"/>
                <a:ea typeface="Wingdings"/>
              </a:rPr>
              <a:t></a:t>
            </a:r>
            <a:r>
              <a:rPr b="0" lang="en-US" sz="2200" spc="-1" strike="noStrike">
                <a:solidFill>
                  <a:srgbClr val="ffffff"/>
                </a:solidFill>
                <a:latin typeface="Times New Roman"/>
              </a:rPr>
              <a:t>Resegone, Brianza</a:t>
            </a:r>
            <a:endParaRPr b="0" lang="en-US" sz="2200" spc="-1" strike="noStrike">
              <a:solidFill>
                <a:srgbClr val="ffffff"/>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astrufazio</a:t>
            </a:r>
            <a:r>
              <a:rPr b="0" lang="en-US" sz="2200" spc="-1" strike="noStrike">
                <a:solidFill>
                  <a:srgbClr val="ffffff"/>
                </a:solidFill>
                <a:latin typeface="Wingdings"/>
                <a:ea typeface="Wingdings"/>
              </a:rPr>
              <a:t></a:t>
            </a:r>
            <a:r>
              <a:rPr b="0" lang="en-US" sz="2200" spc="-1" strike="noStrike">
                <a:solidFill>
                  <a:srgbClr val="ffffff"/>
                </a:solidFill>
                <a:latin typeface="Times New Roman"/>
              </a:rPr>
              <a:t>Milano</a:t>
            </a:r>
            <a:endParaRPr b="0" lang="en-US" sz="2200" spc="-1" strike="noStrike">
              <a:solidFill>
                <a:srgbClr val="ffffff"/>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rapàttola</a:t>
            </a:r>
            <a:r>
              <a:rPr b="0" lang="en-US" sz="2200" spc="-1" strike="noStrike">
                <a:solidFill>
                  <a:srgbClr val="ffffff"/>
                </a:solidFill>
                <a:latin typeface="Wingdings"/>
                <a:ea typeface="Wingdings"/>
              </a:rPr>
              <a:t></a:t>
            </a:r>
            <a:r>
              <a:rPr b="0" lang="en-US" sz="2200" spc="-1" strike="noStrike">
                <a:solidFill>
                  <a:srgbClr val="ffffff"/>
                </a:solidFill>
                <a:latin typeface="Times New Roman"/>
              </a:rPr>
              <a:t>Lecco</a:t>
            </a:r>
            <a:endParaRPr b="0" lang="en-US" sz="2200" spc="-1" strike="noStrike">
              <a:solidFill>
                <a:srgbClr val="ffffff"/>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rado</a:t>
            </a:r>
            <a:r>
              <a:rPr b="0" lang="en-US" sz="2200" spc="-1" strike="noStrike">
                <a:solidFill>
                  <a:srgbClr val="ffffff"/>
                </a:solidFill>
                <a:latin typeface="Wingdings"/>
                <a:ea typeface="Wingdings"/>
              </a:rPr>
              <a:t></a:t>
            </a:r>
            <a:r>
              <a:rPr b="0" lang="en-US" sz="2200" spc="-1" strike="noStrike">
                <a:solidFill>
                  <a:srgbClr val="ffffff"/>
                </a:solidFill>
                <a:latin typeface="Times New Roman"/>
              </a:rPr>
              <a:t>Erba</a:t>
            </a:r>
            <a:endParaRPr b="0" lang="en-US" sz="2200" spc="-1" strike="noStrike">
              <a:solidFill>
                <a:srgbClr val="ffffff"/>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ukones</a:t>
            </a:r>
            <a:r>
              <a:rPr b="0" lang="en-US" sz="2200" spc="-1" strike="noStrike">
                <a:solidFill>
                  <a:srgbClr val="ffffff"/>
                </a:solidFill>
                <a:latin typeface="Wingdings"/>
                <a:ea typeface="Wingdings"/>
              </a:rPr>
              <a:t></a:t>
            </a:r>
            <a:r>
              <a:rPr b="0" lang="en-US" sz="2200" spc="-1" strike="noStrike">
                <a:solidFill>
                  <a:srgbClr val="ffffff"/>
                </a:solidFill>
                <a:latin typeface="Times New Roman"/>
              </a:rPr>
              <a:t>Longone al Segrino</a:t>
            </a:r>
            <a:endParaRPr b="0" lang="en-US" sz="2200" spc="-1" strike="noStrike">
              <a:solidFill>
                <a:srgbClr val="ffffff"/>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egrun</a:t>
            </a:r>
            <a:r>
              <a:rPr b="0" lang="en-US" sz="2200" spc="-1" strike="noStrike">
                <a:solidFill>
                  <a:srgbClr val="ffffff"/>
                </a:solidFill>
                <a:latin typeface="Wingdings"/>
                <a:ea typeface="Wingdings"/>
              </a:rPr>
              <a:t></a:t>
            </a:r>
            <a:r>
              <a:rPr b="0" lang="en-US" sz="2200" spc="-1" strike="noStrike">
                <a:solidFill>
                  <a:srgbClr val="ffffff"/>
                </a:solidFill>
                <a:latin typeface="Times New Roman"/>
              </a:rPr>
              <a:t>Lago del Segrino</a:t>
            </a:r>
            <a:endParaRPr b="0" lang="en-US" sz="2200" spc="-1" strike="noStrike">
              <a:solidFill>
                <a:srgbClr val="ffffff"/>
              </a:solidFill>
              <a:latin typeface="Times New Roman"/>
            </a:endParaRPr>
          </a:p>
        </p:txBody>
      </p:sp>
      <p:pic>
        <p:nvPicPr>
          <p:cNvPr id="166" name="altabrianza" descr=""/>
          <p:cNvPicPr/>
          <p:nvPr/>
        </p:nvPicPr>
        <p:blipFill>
          <a:blip r:embed="rId1"/>
          <a:stretch/>
        </p:blipFill>
        <p:spPr>
          <a:xfrm>
            <a:off x="4038480" y="2819520"/>
            <a:ext cx="5105520" cy="315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152280" y="152280"/>
            <a:ext cx="8991720" cy="277524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Gadda, La cognizione del dolore: “Il Serruchòn [..] è una lunga erta montana tutta triangoli e punte, quasi la groppa-minaccia del dinosauro: di levatura pressoché orizzontale salvo il giù e su feroce di quelle cuspidi e relative bocchette, portelli del vento. [..] Dietro nere cime il sole improvvisamente risfolgora. I suoi raggi si frangono sulla scheggiatura del crinale e se ne diffondono al di qua verso il Prado, scese a dorare le brume della terra, di cui emergono colline, tra i velati laghi. Qualcosa di simile, per il nome e più per l’aspetto, al manzoniano Resegone.”</a:t>
            </a:r>
            <a:endParaRPr b="0" lang="en-US" sz="2200" spc="-1" strike="noStrike">
              <a:solidFill>
                <a:srgbClr val="ffffff"/>
              </a:solidFill>
              <a:latin typeface="Times New Roman"/>
            </a:endParaRPr>
          </a:p>
        </p:txBody>
      </p:sp>
      <p:pic>
        <p:nvPicPr>
          <p:cNvPr id="168" name="dolomit3" descr=""/>
          <p:cNvPicPr/>
          <p:nvPr/>
        </p:nvPicPr>
        <p:blipFill>
          <a:blip r:embed="rId1"/>
          <a:stretch/>
        </p:blipFill>
        <p:spPr>
          <a:xfrm>
            <a:off x="1371600" y="3124080"/>
            <a:ext cx="6248520" cy="37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txBox="1"/>
          <p:nvPr/>
        </p:nvSpPr>
        <p:spPr>
          <a:xfrm>
            <a:off x="2362320" y="380880"/>
            <a:ext cx="411480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ff00ff">
                    <a:alpha val="50000"/>
                  </a:srgbClr>
                </a:solidFill>
                <a:effectLst>
                  <a:outerShdw dist="40186" dir="1096358" blurRad="0" rotWithShape="0">
                    <a:srgbClr val="9999ff"/>
                  </a:outerShdw>
                </a:effectLst>
                <a:latin typeface="Arial Black"/>
              </a:rPr>
              <a:t>BIBLIOGRAFIA</a:t>
            </a:r>
            <a:endParaRPr b="0" lang="en-US" sz="2400" spc="1" strike="noStrike">
              <a:ln w="12600">
                <a:solidFill>
                  <a:srgbClr val="3333cc"/>
                </a:solidFill>
                <a:miter/>
              </a:ln>
              <a:solidFill>
                <a:srgbClr val="ff00ff">
                  <a:alpha val="50000"/>
                </a:srgbClr>
              </a:solidFill>
              <a:effectLst>
                <a:outerShdw dist="40186" dir="1096358" blurRad="0" rotWithShape="0">
                  <a:srgbClr val="9999ff"/>
                </a:outerShdw>
              </a:effectLst>
              <a:latin typeface="Arial Black"/>
              <a:ea typeface="Arial Black"/>
            </a:endParaRPr>
          </a:p>
        </p:txBody>
      </p:sp>
      <p:sp>
        <p:nvSpPr>
          <p:cNvPr id="170" name=""/>
          <p:cNvSpPr/>
          <p:nvPr/>
        </p:nvSpPr>
        <p:spPr>
          <a:xfrm>
            <a:off x="152280" y="1828800"/>
            <a:ext cx="8077320" cy="465372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Carlo Emilio Gadda “La cognizione del dolore”, edizione critica commentata a cura di Emilio Manzotti, 1987, Einaudi</a:t>
            </a:r>
            <a:endParaRPr b="0" lang="en-US" sz="2200" spc="-1" strike="noStrike">
              <a:solidFill>
                <a:srgbClr val="ffffff"/>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Friedrich Nietzsche “Così parlò Zarathustra”, 1986, Adelphi</a:t>
            </a:r>
            <a:endParaRPr b="0" lang="en-US" sz="2200" spc="-1" strike="noStrike">
              <a:solidFill>
                <a:srgbClr val="ffffff"/>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Luperini-Cataldi-Marchiani-Tinacci “La scrittura e l’interpretazione–Dal Naturalismo al Postmoderno (Dall’unità d’Italia ai giorni nostri)” </a:t>
            </a:r>
            <a:r>
              <a:rPr b="0" lang="it-IT" sz="1800" spc="-1" strike="noStrike">
                <a:solidFill>
                  <a:srgbClr val="ffffff"/>
                </a:solidFill>
                <a:latin typeface="Times New Roman"/>
              </a:rPr>
              <a:t>TOMO SECONDO</a:t>
            </a:r>
            <a:r>
              <a:rPr b="0" lang="it-IT" sz="2200" spc="-1" strike="noStrike">
                <a:solidFill>
                  <a:srgbClr val="ffffff"/>
                </a:solidFill>
                <a:latin typeface="Times New Roman"/>
              </a:rPr>
              <a:t>, 2005, Palumbo Editore</a:t>
            </a:r>
            <a:endParaRPr b="0" lang="en-US" sz="2200" spc="-1" strike="noStrike">
              <a:solidFill>
                <a:srgbClr val="ffffff"/>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The Edinburgh Journal of Gadda studies © 2000-2004 http://www.arts.ed.ac.uk/italian/gadda/</a:t>
            </a:r>
            <a:endParaRPr b="0" lang="en-US" sz="2200" spc="-1" strike="noStrike">
              <a:solidFill>
                <a:srgbClr val="ffffff"/>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Anna Bianchi “Individuo/Massa”, in Cioffi, Vigorelli, Zanetti et alii “I filosofi e le idee” </a:t>
            </a:r>
            <a:r>
              <a:rPr b="0" lang="it-IT" sz="1800" spc="-1" strike="noStrike">
                <a:solidFill>
                  <a:srgbClr val="ffffff"/>
                </a:solidFill>
                <a:latin typeface="Times New Roman"/>
              </a:rPr>
              <a:t>VOLUME TERZO</a:t>
            </a:r>
            <a:r>
              <a:rPr b="0" lang="it-IT" sz="2200" spc="-1" strike="noStrike">
                <a:solidFill>
                  <a:srgbClr val="ffffff"/>
                </a:solidFill>
                <a:latin typeface="Times New Roman"/>
              </a:rPr>
              <a:t>, 2004, Mondadori</a:t>
            </a:r>
            <a:endParaRPr b="0" lang="en-US" sz="2200" spc="-1" strike="noStrike">
              <a:solidFill>
                <a:srgbClr val="ffffff"/>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3" name="cognizionefirstedition" descr=""/>
          <p:cNvPicPr/>
          <p:nvPr/>
        </p:nvPicPr>
        <p:blipFill>
          <a:blip r:embed="rId1"/>
          <a:stretch/>
        </p:blipFill>
        <p:spPr>
          <a:xfrm>
            <a:off x="6095880" y="1676520"/>
            <a:ext cx="3048120" cy="4724280"/>
          </a:xfrm>
          <a:prstGeom prst="rect">
            <a:avLst/>
          </a:prstGeom>
          <a:ln w="0">
            <a:noFill/>
          </a:ln>
        </p:spPr>
      </p:pic>
      <p:sp>
        <p:nvSpPr>
          <p:cNvPr id="144" name=""/>
          <p:cNvSpPr txBox="1"/>
          <p:nvPr/>
        </p:nvSpPr>
        <p:spPr>
          <a:xfrm>
            <a:off x="1143000" y="152280"/>
            <a:ext cx="6858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ff00ff">
                    <a:alpha val="50000"/>
                  </a:srgbClr>
                </a:solidFill>
                <a:effectLst>
                  <a:outerShdw dist="40186" dir="1096358" blurRad="0" rotWithShape="0">
                    <a:srgbClr val="9999ff"/>
                  </a:outerShdw>
                </a:effectLst>
                <a:latin typeface="Arial Black"/>
              </a:rPr>
              <a:t>IL ROMANZO E L'AUTORE</a:t>
            </a:r>
            <a:endParaRPr b="0" lang="en-US" sz="2400" spc="1" strike="noStrike">
              <a:ln w="12600">
                <a:solidFill>
                  <a:srgbClr val="3333cc"/>
                </a:solidFill>
                <a:miter/>
              </a:ln>
              <a:solidFill>
                <a:srgbClr val="ff00ff">
                  <a:alpha val="50000"/>
                </a:srgbClr>
              </a:solidFill>
              <a:effectLst>
                <a:outerShdw dist="40186" dir="1096358" blurRad="0" rotWithShape="0">
                  <a:srgbClr val="9999ff"/>
                </a:outerShdw>
              </a:effectLst>
              <a:latin typeface="Arial Black"/>
              <a:ea typeface="Arial Black"/>
            </a:endParaRPr>
          </a:p>
        </p:txBody>
      </p:sp>
      <p:sp>
        <p:nvSpPr>
          <p:cNvPr id="145" name=""/>
          <p:cNvSpPr/>
          <p:nvPr/>
        </p:nvSpPr>
        <p:spPr>
          <a:xfrm>
            <a:off x="304920" y="1752480"/>
            <a:ext cx="5029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0" y="762120"/>
            <a:ext cx="6172200" cy="61268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Nato nel 1893 a Milano da famiglia medio borghese, Gadda compie nella città natale i suoi studi, iscrivendosi nel 1912 alla facoltà di ingegneria del Politecnico. Partecipa, volontario, alla prima guerra mondiale: fatto prigioniero, trae dall'esperienza spunto per “Giornale di guerra e di prigionia”, pubblicato nel ‘55. Dal ‘26, inizia a collaborare con la rivista “Solaria”. Nel ‘40 si trasferisce da Milano a Firenze e vi resta per un decennio: è del ‘44 “L'Adalgisa”. Dal ‘50 è a Roma, dove lavora ai servizi culturali del terzo programma radiofonico. Nel ‘57 dà alle stampe ”Quer pasticciaccio brutto de via Merulana”. Nel ‘63 compare in volume, iniziata nel ‘36 alla morte della madre, “La cognizione del dolore”, che viene accolta da entusiastici giudizi della critica. Tra i molti lavori minori successivi, spicca “Eros e Priapo” sui miti del ventennio fascista. Muore nel ‘73, all'età di ottant'anni.</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
          <p:cNvSpPr/>
          <p:nvPr/>
        </p:nvSpPr>
        <p:spPr>
          <a:xfrm>
            <a:off x="152280" y="1143000"/>
            <a:ext cx="8305920" cy="52959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Trama dallo scarno sviluppo narrativo. </a:t>
            </a:r>
            <a:endParaRPr b="0" lang="en-US" sz="22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Gonzalo, presentato attraverso un dialogo con il medico del paese, preoccupato per la sua nevrosi, odia i borghesi, i popolani, il clima culturale e soprattutto la disponibilità sociale della madre. Questo lo porta a scontri violenti con l’anziana donna, a chiudersi sempre più in se stesso e a rifiutare la protezione del Nistituos, cosa che lo espone a probabili ritorsioni per mano della stessa organizzazione, che opera ai limiti della legalità (basti vedere la vicenda esemplare di Manganones, vigilante di Lukones).Forse da quest’ultima scelta dipende l’aggressione della madre in circostanze misteriose, di notte, durante l’assenza del figlio. Tra le altre possibili soluzioni della vicenda, un rilievo particolare ha però anche l’ipotesi del matricidio, visto come possibilità di liberazione dal vincolo nevrotico. L’attenzione dell’autore, tuttavia, è chiaramente incentrata sull’analisi psicologica dei personaggi più che sull’effettivo sviluppo dell’intreccio.</a:t>
            </a:r>
            <a:endParaRPr b="0" lang="en-US" sz="2200" spc="-1" strike="noStrike">
              <a:solidFill>
                <a:srgbClr val="ffffff"/>
              </a:solidFill>
              <a:latin typeface="Times New Roman"/>
            </a:endParaRPr>
          </a:p>
        </p:txBody>
      </p:sp>
      <p:sp>
        <p:nvSpPr>
          <p:cNvPr id="148" name=""/>
          <p:cNvSpPr txBox="1"/>
          <p:nvPr/>
        </p:nvSpPr>
        <p:spPr>
          <a:xfrm>
            <a:off x="3048120" y="304920"/>
            <a:ext cx="30477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RAMA</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
          <p:cNvSpPr txBox="1"/>
          <p:nvPr/>
        </p:nvSpPr>
        <p:spPr>
          <a:xfrm>
            <a:off x="3124080" y="304920"/>
            <a:ext cx="28958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TIL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50" name=""/>
          <p:cNvSpPr/>
          <p:nvPr/>
        </p:nvSpPr>
        <p:spPr>
          <a:xfrm>
            <a:off x="228600" y="1143000"/>
            <a:ext cx="8077320" cy="46256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a lingua viene pensata come doppio della realtà (particolare attenzione al linguaggio brianzolo, spagnoleggiante e ricco di tecnicismi dell’opera in questione), la mescolanza dei codici linguistici ricostruisce le relazioni del reale, vi è una fusione dei linguaggi nel cosiddetto pastiche letterario: una deformazione espressionistica con carica ironica, sarcastica e grottesca. L’effetto di straniamento linguistico mette in luce la non normalità, mentre diviene inutile la ricerca dei nessi consequenziali, persi nelle continue distrazioni.</a:t>
            </a:r>
            <a:endParaRPr b="0" lang="en-US" sz="22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Per quanto riguarda la non compiutezza del romanzo, essa sottolinea l’impossibilità della letteratura di ricostruire la realtà, da cui derivano frustrazione e pessimismo dell’autore. La letteratura viene intesa, quindi, in sola funzione critica dell’assurdità del real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
          <p:cNvSpPr txBox="1"/>
          <p:nvPr/>
        </p:nvSpPr>
        <p:spPr>
          <a:xfrm>
            <a:off x="2743200" y="152280"/>
            <a:ext cx="3811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ff00ff">
                    <a:alpha val="50000"/>
                  </a:srgbClr>
                </a:solidFill>
                <a:effectLst>
                  <a:outerShdw dist="40186" dir="1096358" blurRad="0" rotWithShape="0">
                    <a:srgbClr val="9999ff"/>
                  </a:outerShdw>
                </a:effectLst>
                <a:latin typeface="Arial Black"/>
              </a:rPr>
              <a:t>TRA STORIA...</a:t>
            </a:r>
            <a:endParaRPr b="0" lang="en-US" sz="2400" spc="1" strike="noStrike">
              <a:ln w="12600">
                <a:solidFill>
                  <a:srgbClr val="3333cc"/>
                </a:solidFill>
                <a:miter/>
              </a:ln>
              <a:solidFill>
                <a:srgbClr val="ff00ff">
                  <a:alpha val="50000"/>
                </a:srgbClr>
              </a:solidFill>
              <a:effectLst>
                <a:outerShdw dist="40186" dir="1096358" blurRad="0" rotWithShape="0">
                  <a:srgbClr val="9999ff"/>
                </a:outerShdw>
              </a:effectLst>
              <a:latin typeface="Arial Black"/>
              <a:ea typeface="Arial Black"/>
            </a:endParaRPr>
          </a:p>
        </p:txBody>
      </p:sp>
      <p:sp>
        <p:nvSpPr>
          <p:cNvPr id="152" name=""/>
          <p:cNvSpPr/>
          <p:nvPr/>
        </p:nvSpPr>
        <p:spPr>
          <a:xfrm>
            <a:off x="228600" y="14479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152280" y="990720"/>
            <a:ext cx="5486400" cy="598032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l romanzo è autobiografico, viene rievocato il vissuto doloroso dell’autore, la conoscenza autoanalitica della propria sofferenza.</a:t>
            </a:r>
            <a:endParaRPr b="0" lang="en-US" sz="2200" spc="-1" strike="noStrike">
              <a:solidFill>
                <a:srgbClr val="ffffff"/>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a villa del padre era il simbolo di una posizione sociale, da mantenere faticosamente dopo la morte del genitore.</a:t>
            </a:r>
            <a:endParaRPr b="0" lang="en-US" sz="2200" spc="-1" strike="noStrike">
              <a:solidFill>
                <a:srgbClr val="ffffff"/>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ammirazione per l’intelligenza della madre e il dispetto per i sacrifici da lei imposti per leggi di apparenza sociale si ripropongono nell’ambiguo rapporto di Gonzalo con la donna.</a:t>
            </a:r>
            <a:endParaRPr b="0" lang="en-US" sz="2200" spc="-1" strike="noStrike">
              <a:solidFill>
                <a:srgbClr val="ffffff"/>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Gadda viene chiamato alle armi durante la prima guerra mondiale, in cui muore il fratello. L’evento mina l’equilibrio dei rapporti familiari e porta Gadda pian piano alla misantropia.</a:t>
            </a:r>
            <a:endParaRPr b="0" lang="en-US" sz="2200" spc="-1" strike="noStrike">
              <a:solidFill>
                <a:srgbClr val="ffffff"/>
              </a:solidFill>
              <a:latin typeface="Times New Roman"/>
            </a:endParaRPr>
          </a:p>
        </p:txBody>
      </p:sp>
      <p:pic>
        <p:nvPicPr>
          <p:cNvPr id="154" name="image" descr=""/>
          <p:cNvPicPr/>
          <p:nvPr/>
        </p:nvPicPr>
        <p:blipFill>
          <a:blip r:embed="rId1"/>
          <a:stretch/>
        </p:blipFill>
        <p:spPr>
          <a:xfrm>
            <a:off x="5638680" y="1600200"/>
            <a:ext cx="3505320" cy="464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
          <p:cNvSpPr/>
          <p:nvPr/>
        </p:nvSpPr>
        <p:spPr>
          <a:xfrm>
            <a:off x="152280" y="228600"/>
            <a:ext cx="853452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a guerra appena cessata fra Maradagàl (Italia) e Parapagàl (Austria) è specchio della Prima Guerra Mondiale. Si sottolinea che la guerra porta molti morti e mutilati e distrugge anche psicologicamente le persone, che è un’esperienza negativa ed inutile fra popoli molto simili, di cui nessuno vuole attribuirsi il merito (o la colpa).</a:t>
            </a:r>
            <a:endParaRPr b="0" lang="en-US" sz="2200" spc="-1" strike="noStrike">
              <a:solidFill>
                <a:srgbClr val="ffffff"/>
              </a:solidFill>
              <a:latin typeface="Times New Roman"/>
            </a:endParaRPr>
          </a:p>
        </p:txBody>
      </p:sp>
      <p:pic>
        <p:nvPicPr>
          <p:cNvPr id="156" name="marcia_roma1" descr=""/>
          <p:cNvPicPr/>
          <p:nvPr/>
        </p:nvPicPr>
        <p:blipFill>
          <a:blip r:embed="rId1"/>
          <a:stretch/>
        </p:blipFill>
        <p:spPr>
          <a:xfrm>
            <a:off x="4495680" y="3429000"/>
            <a:ext cx="4648320" cy="3429000"/>
          </a:xfrm>
          <a:prstGeom prst="rect">
            <a:avLst/>
          </a:prstGeom>
          <a:ln w="0">
            <a:noFill/>
          </a:ln>
        </p:spPr>
      </p:pic>
      <p:sp>
        <p:nvSpPr>
          <p:cNvPr id="157" name=""/>
          <p:cNvSpPr/>
          <p:nvPr/>
        </p:nvSpPr>
        <p:spPr>
          <a:xfrm>
            <a:off x="152280" y="2057400"/>
            <a:ext cx="899172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l Nistituos de vigilancia para la noche parodia è chiara rivisitazione degli squadroni fascisti, e ne si denuncia la violenza e l’illegalità, sottolineando come si fosse costretti ad aderirvi, pena ritorsioni. </a:t>
            </a:r>
            <a:endParaRPr b="0" lang="en-US" sz="2200" spc="-1" strike="noStrike">
              <a:solidFill>
                <a:srgbClr val="ffffff"/>
              </a:solidFill>
              <a:latin typeface="Times New Roman"/>
            </a:endParaRPr>
          </a:p>
        </p:txBody>
      </p:sp>
      <p:sp>
        <p:nvSpPr>
          <p:cNvPr id="158" name=""/>
          <p:cNvSpPr/>
          <p:nvPr/>
        </p:nvSpPr>
        <p:spPr>
          <a:xfrm>
            <a:off x="152280" y="3200400"/>
            <a:ext cx="4114800" cy="395532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Gadda si schiera in posizione anti-fascista, anche se non oppone ancora un netto rifiuto, egli critica soprattutto l’abbassamento culturale dovuto all’instaurarsi di un regime totalitario e il fatto che esso sia espressione delle pulsioni più mediocri del volgo, di cui approfitta per influenzarne il pensiero.</a:t>
            </a:r>
            <a:endParaRPr b="0" lang="en-US" sz="22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txBox="1"/>
          <p:nvPr/>
        </p:nvSpPr>
        <p:spPr>
          <a:xfrm>
            <a:off x="2057400" y="304920"/>
            <a:ext cx="4724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ff00ff">
                    <a:alpha val="50000"/>
                  </a:srgbClr>
                </a:solidFill>
                <a:effectLst>
                  <a:outerShdw dist="40186" dir="1096358" blurRad="0" rotWithShape="0">
                    <a:srgbClr val="9999ff"/>
                  </a:outerShdw>
                </a:effectLst>
                <a:latin typeface="Arial Black"/>
              </a:rPr>
              <a:t>...E FILOSOFIA</a:t>
            </a:r>
            <a:endParaRPr b="0" lang="en-US" sz="2400" spc="1" strike="noStrike">
              <a:ln w="12600">
                <a:solidFill>
                  <a:srgbClr val="3333cc"/>
                </a:solidFill>
                <a:miter/>
              </a:ln>
              <a:solidFill>
                <a:srgbClr val="ff00ff">
                  <a:alpha val="50000"/>
                </a:srgbClr>
              </a:solidFill>
              <a:effectLst>
                <a:outerShdw dist="40186" dir="1096358" blurRad="0" rotWithShape="0">
                  <a:srgbClr val="9999ff"/>
                </a:outerShdw>
              </a:effectLst>
              <a:latin typeface="Arial Black"/>
              <a:ea typeface="Arial Black"/>
            </a:endParaRPr>
          </a:p>
        </p:txBody>
      </p:sp>
      <p:sp>
        <p:nvSpPr>
          <p:cNvPr id="160" name=""/>
          <p:cNvSpPr/>
          <p:nvPr/>
        </p:nvSpPr>
        <p:spPr>
          <a:xfrm>
            <a:off x="228600" y="1219320"/>
            <a:ext cx="8686800" cy="5121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l titolo può essere interpretato con varie modalità: conoscenza del dolore consustanziale all’uomo e conoscenza del mondo attraverso il dolore. Il motivo, ripreso da Gadda, è già nietzscheano e l’analogia appare chiara. Infatti il Nietzsche afferma in Così parlò Zarathustra, Del cammino del creatore: “E quando dirai &lt;&lt;Io non ho più la vostra stessa conoscenza&gt;&gt;, ciò sarà un lamento e un dolore. Vedi, quella coscienza stessa generò anche questo dolore: e sulla tua melanconia si riverbera, ardente, ancora l’ultimo bagliore di questa coscienza.”, e ancora, sempre in Così parlò Zarathustra, Dei saggi illustri: “Spirito è la vita che taglia nella propria carne: nel suo patire essa accresce il suo sapere – lo sapevate? E la felicità dello spirito è questa: essere unto e consacrato dalle lacrime come vittima del sacrificio – lo sapevate?”, mentre Gadda così scrive nell’opera: “Lo hidalgo, forse, era a negare se stesso. Rivendicando a sé le ragioni del dolore, la conoscenza e la verità del dolore, nulla rimaneva alla possibilità. Tutto andava esaurito dalla rapina del dolor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228600" y="152280"/>
            <a:ext cx="8534520" cy="69717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Altro tema presente nel romanzo e riconducibile anch’esso a motivo nietzscheano è quello dell’isolamento del saggio contro la massa ignorante e paralizzata nella propria condizione. Il filosofo scrive a proposito in Così parlò Zarathustra, Del cammino del creatore: “&lt;&lt;Ogni solitudine è una colpa&gt;&gt;: così parla il gregge.”, “Il tuo cammino è al di sopra di loro: ma quanto più in alto sali, tanto più piccolo ti vede l’occhio dell’invidia. Ma più di tutti è invidiato colui che vola.”, “Ingiustizia e lordura essi gettano verso il solitario: ma, fratello, se vuoi essere una stella, devi nondimeno rilucere anche per loro!”, e ancora afferma, nella sezione Dei saggi illustri: “Ma colui che è odioso al popolo è come un lupo per i cani: è lo spirito libero, il nemico della catena, il non-adoratore, randagio pei boschi.”, “Libera dalla felicità dei servi, redenta da dei e adorazioni, impavida e terribile, grande e solitaria: così è la volontà del verace.”.  Un esempio della tematica nel testo gaddiano è dato dal seguente estratto: “Il disgusto che lo aveva tenuto fanciullo, per tutti gli anni di scuola, il disprezzo che nei mesi dopo guerra aveva rivolto alle voci dei cosiddetti uomini: per la vie di Pastrufazio s’era veduto cacciare, come fosse un a belva, dalla loro carità inferocita, di uomini: di consorzio, di mille. Egli era uno.”.</a:t>
            </a:r>
            <a:endParaRPr b="0" lang="en-US" sz="22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
          <p:cNvSpPr/>
          <p:nvPr/>
        </p:nvSpPr>
        <p:spPr>
          <a:xfrm>
            <a:off x="152280" y="228600"/>
            <a:ext cx="8686800" cy="647604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Dalla fine dell’800 si afferma un crescente interesse per lo studio dei fenomeni collettivi. La psicologia delle folle indaga i rapporti fra individuo e folla.</a:t>
            </a:r>
            <a:endParaRPr b="0" lang="en-US" sz="2200" spc="-1" strike="noStrike">
              <a:solidFill>
                <a:srgbClr val="ffffff"/>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Secondo Le Bon l’era delle folle costituisce una delle ultime tappe della società. Egli contrappone alle masse le élites e all’individuo isolato quello trasformato nell’ambito della folla, dove acquista un’anima collettiva data dal prevalere del substrato incosciente. Nella folla l’uomo acquisisce anche un sentimento di potenza invincibile che lo spinge a cedere agli istinti, mentre la suggestione causa un contagio mentale operato dal conduttore di folle. Si nota quindi un legame tra capo e massa che verrà ripreso per analizzare i meccanismi dei regimi totalitari.</a:t>
            </a:r>
            <a:endParaRPr b="0" lang="en-US" sz="2200" spc="-1" strike="noStrike">
              <a:solidFill>
                <a:srgbClr val="ffffff"/>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Secondo Ortega la massa è un modo di essere uomini, contrapposto alla minoranza delle élites. La massa è l’uomo medio, prodotto automatico della civiltà moderna, caratterizzato da ingratitudine per la propria condizione, conformismo all’inquadramento del gregge e preferenza per l’azione diretta e violenta. L’affermazione dell’uomo massa porta una crisi culturale causata dalla sua mancanza di istruzione e dall’incapacità delle minoranze di svolgere un ruolo di guida.</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13:00:05Z</dcterms:created>
  <dc:creator>laura cappelletti</dc:creator>
  <dc:description/>
  <dc:language>en-US</dc:language>
  <cp:lastModifiedBy>laura cappelletti</cp:lastModifiedBy>
  <dcterms:modified xsi:type="dcterms:W3CDTF">2007-06-24T09:54:47Z</dcterms:modified>
  <cp:revision>63</cp:revision>
  <dc:subject/>
  <dc:title>Presentazione di PowerPoint</dc:title>
</cp:coreProperties>
</file>