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8FE-405B-4910-9E7D-FFB6781E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764-5523-4073-BEF9-5F736F9F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E17-E31B-46CC-95A1-68AC038E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8A6-4894-4B2F-83B4-E3B7F5A0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A38-9D54-456E-9CD0-DA51A546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375-9800-431A-9125-4084D507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D2A-E35F-4505-A782-215E2BD8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576-2D89-4A53-BBBF-71AFA156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47F-2F64-4A82-8BE7-5D98E3D8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2FE-8C85-4B97-AB67-2A67840F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EB4-8CE7-44A4-8055-E0BB0F36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841-993F-4D77-88DB-DF4AEAF3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6EED-9C89-4C79-A869-900D95272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4365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w Cen MT"/>
              </a:rPr>
              <a:t>IL VOLO</a:t>
            </a:r>
            <a:br>
              <a:rPr sz="6000"/>
            </a:br>
            <a:r>
              <a:rPr b="1" i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superamento di un lim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360" y="-67464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Gianmarco Corradi _ Classe 5D _ Liceo Scientifico “Alfano da Termoli” _ Termoli (CB)</a:t>
            </a:r>
            <a:r>
              <a:rPr b="1" lang="it-IT" sz="6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29680" y="301680"/>
            <a:ext cx="81432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36360" y="3332160"/>
            <a:ext cx="2390760" cy="3552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329680" y="1353960"/>
            <a:ext cx="814320" cy="1067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329680" y="3429000"/>
            <a:ext cx="814320" cy="1066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8329680" y="2362320"/>
            <a:ext cx="814320" cy="1066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8329680" y="4451400"/>
            <a:ext cx="81432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8329680" y="5516640"/>
            <a:ext cx="814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40000" y="5891040"/>
            <a:ext cx="590400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Dedalo ed Icaro _ OVIDIO _ Le metamorf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189000"/>
            <a:ext cx="5545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w Cen MT"/>
              </a:rPr>
              <a:t>DEDALO, geniale inventore, rinchiuso col figlio ICARO nel labirinto dal Re Minosse, ne fuggì in volo fabbricando per sé e per il figlio due paia d’ali, con penne tenute insieme da cera. Ma Icaro, non ascoltando le raccomandazioni del padre, si avvicinò troppo al sole: la cera si sciolse, precipitò in mare e annegò.</a:t>
            </a:r>
            <a:br>
              <a:rPr sz="18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87776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84360" y="2427480"/>
            <a:ext cx="561672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it-IT" sz="1600" spc="-1" strike="noStrike">
                <a:solidFill>
                  <a:srgbClr val="000000"/>
                </a:solidFill>
                <a:latin typeface="Tw Cen MT"/>
              </a:rPr>
              <a:t>Daedalus interea Creten longumque perosus exilium tactusque loci natalis amore, clausus erat pelago."Terras licet" inquit "et undas obstruat, at caelum certe patet.Ibimus illac; omnia possideat, non possidet aera Minos". Dixit et ignotas animum dimittit in artes naturamque novat. Nam ponit in ordine pennas,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w Cen MT"/>
              </a:rPr>
              <a:t>a minima coeptas, longam breviore sequenti, ut clivo crevisse putes; sic rusticam quondam fistula disparibus paulatim surgit avenis. Tum lino medias et ceris alligat imas ut veras imitetur aves. Puer Icarus una stabat et, ignarus sua se tractare pericla,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w Cen MT"/>
              </a:rPr>
              <a:t>ore renidenti modo, quas vaga moverat aura, captabat plumas, flavam modo pollice ceram mollibat lusuque suo mirabile patris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w Cen MT"/>
              </a:rPr>
              <a:t>impediebat opus.”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w Cen MT"/>
              </a:rPr>
              <a:t>                                    </a:t>
            </a:r>
            <a:r>
              <a:rPr b="1" lang="it-IT" sz="1800" spc="-1" strike="noStrike">
                <a:solidFill>
                  <a:srgbClr val="000000"/>
                </a:solidFill>
                <a:latin typeface="Tw Cen MT"/>
              </a:rPr>
              <a:t>Liber VIII vv. 183-2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w Cen MT"/>
              </a:rPr>
              <a:t>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18040" cy="6885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771640" cy="2506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56360" y="5157720"/>
            <a:ext cx="28065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TONIO CANO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dalo ed Ic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2637000"/>
            <a:ext cx="28069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NTONIO CANOV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more e Ps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38468" r="0" b="0"/>
          <a:stretch/>
        </p:blipFill>
        <p:spPr>
          <a:xfrm>
            <a:off x="0" y="1125360"/>
            <a:ext cx="8675640" cy="5550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76720" y="367632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Vorrei poter inventare un nuovo metodo … più fluido e aderente al </a:t>
            </a:r>
            <a:r>
              <a:rPr b="1" i="1" lang="en-US" sz="2400" spc="-1" strike="noStrike">
                <a:solidFill>
                  <a:srgbClr val="000000"/>
                </a:solidFill>
                <a:latin typeface="Tw Cen MT"/>
              </a:rPr>
              <a:t>volo della mente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0" t="0" r="3148" b="0"/>
          <a:stretch/>
        </p:blipFill>
        <p:spPr>
          <a:xfrm>
            <a:off x="6443640" y="95400"/>
            <a:ext cx="2592360" cy="3333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87640" y="685440"/>
            <a:ext cx="31669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w Cen MT"/>
              </a:rPr>
              <a:t>Il "Volo della mente " di Virginia Woolf è una tecnica di scrittura che  si discosta dal “flusso di coscienza” di Joyce, in quanto, a differenza della pragmaticità di quest’ultimo, vi è la dissoluzione della realtà in forme senza peso </a:t>
            </a: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000" y="-24840"/>
            <a:ext cx="57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w Cen MT"/>
              </a:rPr>
              <a:t>Virginia Woolf _ The flight of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bright="30000"/>
          </a:blip>
          <a:srcRect l="4991" t="7559" r="4991" b="7698"/>
          <a:stretch/>
        </p:blipFill>
        <p:spPr>
          <a:xfrm>
            <a:off x="0" y="0"/>
            <a:ext cx="10476000" cy="6869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27120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Presentazione creata da Gianmarco Corra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57080" y="-387360"/>
            <a:ext cx="10188360" cy="765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48000" y="1341360"/>
            <a:ext cx="56167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N VOLO CONTINUO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amo tutti in vol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i lasciamo trasportare dal ven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 ci giochiamo anche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ventiamo tanti IO che decidon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quali movimenti f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 sentirsi felici nel ciel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gari a volte sbagliamo rot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 c’è una folata troppo for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 c’è il tempo di riprendersi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 continuare a vola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 o senza storm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 o senza me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’unica cosa davvero importan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è sentire che il vento c’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4299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w Cen MT"/>
              </a:rPr>
              <a:t>Gianm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166680"/>
            <a:ext cx="8712360" cy="3368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IL VOLO</a:t>
            </a:r>
            <a:r>
              <a:rPr b="1" i="1" lang="en-US" sz="2000" spc="-1" strike="noStrike">
                <a:solidFill>
                  <a:srgbClr val="000000"/>
                </a:solidFill>
                <a:latin typeface="Tw Cen MT"/>
              </a:rPr>
              <a:t>  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peramento di un limit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2854440"/>
            <a:ext cx="165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fis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4560" y="1916280"/>
            <a:ext cx="1944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spiritu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5751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4726080"/>
            <a:ext cx="3166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Il primo volo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 La forza di gravità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 La guerra aerea: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 Pearl Harbour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 I kamik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263700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3789360"/>
            <a:ext cx="302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Ovidio: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  Dedalo ed Icaro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  Antonio Canova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  Virginia Woolf: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 “the flight of mi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4920" y="4294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6360" y="4726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36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3357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4221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044720" y="-4680"/>
            <a:ext cx="10188720" cy="6862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144360" y="0"/>
            <a:ext cx="9288360" cy="6872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18900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w Cen MT"/>
              </a:rPr>
              <a:t>1903: primo volo della storia. Il protagonista è il “</a:t>
            </a:r>
            <a:r>
              <a:rPr b="1" lang="it-IT" sz="2400" spc="-1" strike="noStrike">
                <a:solidFill>
                  <a:srgbClr val="000000"/>
                </a:solidFill>
                <a:latin typeface="Tw Cen MT"/>
              </a:rPr>
              <a:t>Flyer</a:t>
            </a:r>
            <a:r>
              <a:rPr b="0" lang="it-IT" sz="2400" spc="-1" strike="noStrike">
                <a:solidFill>
                  <a:srgbClr val="000000"/>
                </a:solidFill>
                <a:latin typeface="Tw Cen MT"/>
              </a:rPr>
              <a:t>”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w Cen MT"/>
              </a:rPr>
              <a:t>velivolo a motore realizzato dai fratelli W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18900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orza di gravità e Resistenza dell’ari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erzo principio della dinamica: ad ogni azione corrisponde una reazione uguale e contr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1506600"/>
            <a:ext cx="7777080" cy="3578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71640" y="527220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w Cen MT"/>
              </a:rPr>
              <a:t>Forza peso </a:t>
            </a:r>
            <a:r>
              <a:rPr b="1" lang="it-IT" sz="2800" spc="-1" strike="noStrike">
                <a:solidFill>
                  <a:srgbClr val="000000"/>
                </a:solidFill>
                <a:latin typeface="Tw Cen MT"/>
              </a:rPr>
              <a:t>vs</a:t>
            </a:r>
            <a:r>
              <a:rPr b="0" lang="it-IT" sz="2400" spc="-1" strike="noStrike">
                <a:solidFill>
                  <a:srgbClr val="000000"/>
                </a:solidFill>
                <a:latin typeface="Tw Cen MT"/>
              </a:rPr>
              <a:t> Portanza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w Cen MT"/>
              </a:rPr>
              <a:t>Resistenza dell’aria </a:t>
            </a:r>
            <a:r>
              <a:rPr b="1" lang="it-IT" sz="2800" spc="-1" strike="noStrike">
                <a:solidFill>
                  <a:srgbClr val="000000"/>
                </a:solidFill>
                <a:latin typeface="Tw Cen MT"/>
              </a:rPr>
              <a:t>vs</a:t>
            </a:r>
            <a:r>
              <a:rPr b="0" lang="it-IT" sz="2400" spc="-1" strike="noStrike">
                <a:solidFill>
                  <a:srgbClr val="000000"/>
                </a:solidFill>
                <a:latin typeface="Tw Cen MT"/>
              </a:rPr>
              <a:t> Spinta del mo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20909" r="0" b="0"/>
          <a:stretch/>
        </p:blipFill>
        <p:spPr>
          <a:xfrm>
            <a:off x="0" y="-27000"/>
            <a:ext cx="9144000" cy="1262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0" r="0" b="11636"/>
          <a:stretch/>
        </p:blipFill>
        <p:spPr>
          <a:xfrm>
            <a:off x="1187280" y="3114720"/>
            <a:ext cx="6985080" cy="3557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836640"/>
            <a:ext cx="8064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urtroppo il progresso tecnologico è trainato da esigenze belliche e così un’azione talmente straordinaria facilmente diventa veicolo distruttivo e mortale. L’ aereo da combattimento è destinato in breve  a rivoluzionare la guerra modern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bright="12000"/>
          </a:blip>
          <a:srcRect l="3570" t="4603" r="3059" b="4603"/>
          <a:stretch/>
        </p:blipFill>
        <p:spPr>
          <a:xfrm>
            <a:off x="-612720" y="0"/>
            <a:ext cx="10404360" cy="6940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87280" y="260280"/>
            <a:ext cx="6624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w Cen MT"/>
              </a:rPr>
              <a:t>7 Dicembre 1941: attacco a sorpresa alla base di Pearl Harbour ad opera di aerosiluranti giappones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78544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1514520" cy="514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-272880"/>
            <a:ext cx="662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kamikaz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4000" y="2733840"/>
            <a:ext cx="5040000" cy="3919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651640" y="4724280"/>
            <a:ext cx="3155760" cy="1932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651640" y="2708280"/>
            <a:ext cx="3152520" cy="1951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rcRect l="0" t="0" r="0" b="17611"/>
          <a:stretch/>
        </p:blipFill>
        <p:spPr>
          <a:xfrm>
            <a:off x="5651640" y="44280"/>
            <a:ext cx="3146400" cy="2592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969840"/>
            <a:ext cx="529272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iloti disposti a trasformare il loro volo in suicidio pur di infliggere gravi perdite al nemico. La morte era ritenuta un valoroso sacrificio supremo in nome della fedeltà all'imperatore e dell'amore per la propria patri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1207" b="35006"/>
          <a:stretch/>
        </p:blipFill>
        <p:spPr>
          <a:xfrm>
            <a:off x="1979640" y="189000"/>
            <a:ext cx="5184720" cy="5256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58920" y="5532480"/>
            <a:ext cx="662472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er portare a compimento la nostra giusta causa, adesso io partirò. Il mio corpo cadrà come un fiore di ciliegio …”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Yuzuku Og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08:39:05Z</dcterms:created>
  <dc:creator>X</dc:creator>
  <dc:description/>
  <dc:language>en-US</dc:language>
  <cp:lastModifiedBy>X</cp:lastModifiedBy>
  <dcterms:modified xsi:type="dcterms:W3CDTF">2007-06-25T14:31:08Z</dcterms:modified>
  <cp:revision>25</cp:revision>
  <dc:subject/>
  <dc:title>IL VOLO</dc:title>
</cp:coreProperties>
</file>