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1310-8917-4DEF-8B3A-DC5B65E43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4C67-26E1-4268-86ED-305825F90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1AD9-694F-4A15-88EA-B7EFB5ACD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C91E-77F5-4DFD-A7C5-F1590B3E5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3346-ECB5-48A5-8441-EF56BC08D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5B61-4388-4924-AF9F-946ECED1C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9A33-EE37-4DBF-8247-92FCF97D8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23F5-D0F8-4DEB-BAB3-9D70423FF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11A9-5E29-4113-8426-64AA54DEA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C469-BABC-4CE5-AA1D-2924A89B9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66CE-C001-46C2-8E1E-6005F6494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D8D4-A8F8-42E7-849A-3B971DE2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AC183-5E57-4AED-869B-4B141AB0B6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04920"/>
            <a:ext cx="8305920" cy="80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Monotype Corsiva"/>
              </a:rPr>
              <a:t>Anno scolastico 2006/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Monotype Corsiva"/>
              </a:rPr>
              <a:t>Istituto Massimiliano Massi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Monotype Corsiva"/>
              </a:rPr>
              <a:t>III Classico Sez.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Monotype Corsiva"/>
              </a:rPr>
              <a:t>Alienazione e fuga dalla realtà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Monotype Corsiva"/>
              </a:rPr>
              <a:t>un tema attua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Monotype Corsiva"/>
              </a:rPr>
              <a:t>Tesina di Maturità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Monotype Corsiva"/>
              </a:rPr>
              <a:t>d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Monotype Corsiva"/>
              </a:rPr>
              <a:t>Samantha Barbagall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22960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2133720" y="3505320"/>
            <a:ext cx="4800600" cy="1143000"/>
            <a:chOff x="2133720" y="3505320"/>
            <a:chExt cx="4800600" cy="1143000"/>
          </a:xfrm>
        </p:grpSpPr>
        <p:sp>
          <p:nvSpPr>
            <p:cNvPr id="152" name=""/>
            <p:cNvSpPr/>
            <p:nvPr/>
          </p:nvSpPr>
          <p:spPr>
            <a:xfrm>
              <a:off x="2133720" y="3505320"/>
              <a:ext cx="4800600" cy="114300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 txBox="1"/>
            <p:nvPr/>
          </p:nvSpPr>
          <p:spPr>
            <a:xfrm>
              <a:off x="3352680" y="4079880"/>
              <a:ext cx="2305080" cy="49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ffff00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GENERAZIONE "Y"</a:t>
              </a:r>
              <a:endPara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2133720" y="75960"/>
            <a:ext cx="4800600" cy="1143000"/>
            <a:chOff x="2133720" y="75960"/>
            <a:chExt cx="4800600" cy="1143000"/>
          </a:xfrm>
        </p:grpSpPr>
        <p:sp>
          <p:nvSpPr>
            <p:cNvPr id="155" name=""/>
            <p:cNvSpPr/>
            <p:nvPr/>
          </p:nvSpPr>
          <p:spPr>
            <a:xfrm flipV="1">
              <a:off x="2133720" y="75240"/>
              <a:ext cx="4800600" cy="114300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 txBox="1"/>
            <p:nvPr/>
          </p:nvSpPr>
          <p:spPr>
            <a:xfrm>
              <a:off x="3429000" y="228960"/>
              <a:ext cx="2305080" cy="49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660033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GENERAZIONE "X"</a:t>
              </a:r>
              <a:endPara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660033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76320" y="1295280"/>
            <a:ext cx="891540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taneo BT"/>
              </a:rPr>
              <a:t>IL TERMINE GENERAZIONE “X”, CONIATO NEL ’64 DA C.HAMBLETT CON RIFERIMENTO AGLI STUD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taneo BT"/>
              </a:rPr>
              <a:t>DI J.DEVERSON, E’ STATO RESO POPOLARE DALLO SCRITTORE CANADESE DOUGLAS COUPL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19040" y="1905120"/>
            <a:ext cx="8229600" cy="8380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taneo BT"/>
              </a:rPr>
              <a:t>LA “X” SI RIFERIVA ALLA DIFFICOLTÀ DI DARE UN’IDENTITÀ AI NATI NEGLI ANNI ’60/’70 CH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taneo BT"/>
              </a:rPr>
              <a:t>DIFFERIVANO DALLA GENERAZIONE PRECEDENTE (BABY BOOMERS),  NON AVEND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taneo BT"/>
              </a:rPr>
              <a:t>NIENTE DA DIRE E NULLA IN CUI CRED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19040" y="2819520"/>
            <a:ext cx="8229600" cy="609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taneo BT"/>
              </a:rPr>
              <a:t>SOSTENEVA LA DEVERSON A PROPOSITO DEI </a:t>
            </a:r>
            <a:r>
              <a:rPr b="1" i="1" lang="en-US" sz="1400" spc="-1" strike="noStrike">
                <a:solidFill>
                  <a:srgbClr val="000000"/>
                </a:solidFill>
                <a:latin typeface="Cataneo BT"/>
              </a:rPr>
              <a:t>TEEN-AGERS</a:t>
            </a:r>
            <a:r>
              <a:rPr b="1" lang="en-US" sz="1400" spc="-1" strike="noStrike">
                <a:solidFill>
                  <a:srgbClr val="000000"/>
                </a:solidFill>
                <a:latin typeface="Cataneo BT"/>
              </a:rPr>
              <a:t> INGLESI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taneo BT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Cataneo BT"/>
              </a:rPr>
              <a:t>NON CREDONO IN DIO, NON RICONOSCONO LE ISTITUZIONI, NON RISPETTANO I GENITORI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320" y="4724280"/>
            <a:ext cx="8915400" cy="53352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taneo BT"/>
              </a:rPr>
              <a:t>IL TERMINE “</a:t>
            </a:r>
            <a:r>
              <a:rPr b="1" i="1" lang="en-US" sz="1400" spc="-1" strike="noStrike">
                <a:solidFill>
                  <a:srgbClr val="000000"/>
                </a:solidFill>
                <a:latin typeface="Cataneo BT"/>
              </a:rPr>
              <a:t>Y GENERATION</a:t>
            </a:r>
            <a:r>
              <a:rPr b="1" lang="en-US" sz="1400" spc="-1" strike="noStrike">
                <a:solidFill>
                  <a:srgbClr val="000000"/>
                </a:solidFill>
                <a:latin typeface="Cataneo BT"/>
              </a:rPr>
              <a:t>” (’93) IDENTIFICA I NATI NEGLI ANNI ’80/’90 E HA MOLTI SIGNIFICATI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5334120"/>
            <a:ext cx="7696080" cy="38088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taneo BT"/>
              </a:rPr>
              <a:t>- E’ SEMPLICEMENTE LA LETTERA CHE, NELL’ALFABETO INGLESE, SEGUE LA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5791320"/>
            <a:ext cx="7696080" cy="38088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taneo BT"/>
              </a:rPr>
              <a:t>- Y IN INGLESE SI LEGGE “WHY” E ALLUDE A UNA GENERAZIONE CHE SI INTERROG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320" y="6248520"/>
            <a:ext cx="8915400" cy="38088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taneo BT"/>
              </a:rPr>
              <a:t>- FA RIFERIMENTO ALLA Y DI “YOUTUBE”, SITO NEL QUALE L’</a:t>
            </a:r>
            <a:r>
              <a:rPr b="1" i="1" lang="en-US" sz="1400" spc="-1" strike="noStrike">
                <a:solidFill>
                  <a:srgbClr val="000000"/>
                </a:solidFill>
                <a:latin typeface="Cataneo BT"/>
              </a:rPr>
              <a:t>INTERNET GENERATION</a:t>
            </a:r>
            <a:r>
              <a:rPr b="1" lang="en-US" sz="1400" spc="-1" strike="noStrike">
                <a:solidFill>
                  <a:srgbClr val="000000"/>
                </a:solidFill>
                <a:latin typeface="Cataneo BT"/>
              </a:rPr>
              <a:t> SI INCONT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BD04972_" descr=""/>
          <p:cNvPicPr/>
          <p:nvPr/>
        </p:nvPicPr>
        <p:blipFill>
          <a:blip r:embed="rId1"/>
          <a:stretch/>
        </p:blipFill>
        <p:spPr>
          <a:xfrm>
            <a:off x="5486400" y="4495680"/>
            <a:ext cx="3429000" cy="21337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76320" y="152280"/>
            <a:ext cx="8915400" cy="457200"/>
          </a:xfrm>
          <a:prstGeom prst="ellipse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taneo BT"/>
              </a:rPr>
              <a:t>SECONDO ALCUNI LA GENERAZIONE “Y” SAREBBE PEGGIORE DELLA “X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2133720"/>
            <a:ext cx="8915400" cy="533160"/>
          </a:xfrm>
          <a:prstGeom prst="ellips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taneo BT"/>
              </a:rPr>
              <a:t>- A DIFFERENZA DELLA “X” NON CONTESTA LA REALTA’ PERCHE’ LE E’ INDIFFER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52280" y="2743200"/>
            <a:ext cx="8891280" cy="766080"/>
            <a:chOff x="152280" y="2743200"/>
            <a:chExt cx="8891280" cy="766080"/>
          </a:xfrm>
        </p:grpSpPr>
        <p:sp>
          <p:nvSpPr>
            <p:cNvPr id="168" name=""/>
            <p:cNvSpPr/>
            <p:nvPr/>
          </p:nvSpPr>
          <p:spPr>
            <a:xfrm>
              <a:off x="152280" y="2743200"/>
              <a:ext cx="8839440" cy="68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91160" y="2775960"/>
              <a:ext cx="88524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Cataneo BT"/>
                </a:rPr>
                <a:t>PER DIRLA CON HUSSERL “LA SCIENZA HA PORTATO IL PROGRESSO MA NON HA AIUTATO L’UOMO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Cataneo BT"/>
                </a:rPr>
                <a:t>(“LA CRISI DELLE SCIENZE EUROPEE E LA FENOMENOLOGIA TRASCENDENTALE”- 1950)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Cataneo BT"/>
                </a:rPr>
                <a:t>LA SCIENZA PUO’ ALIMENTARE L’ALIENAZIONE DELL’UOMO MODERNO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304920" y="4595760"/>
            <a:ext cx="5086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Monotype Corsiva"/>
              </a:rPr>
              <a:t>Anche noi giovani possiamo recuperare tale senso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Monotype Corsiva"/>
              </a:rPr>
              <a:t>Non siamo tutti come ci dipingon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Monotype Corsiva"/>
              </a:rPr>
              <a:t>Siamo persone che cercano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Monotype Corsiva"/>
              </a:rPr>
              <a:t>che rifiutano risposte superficiali …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Monotype Corsiva"/>
              </a:rPr>
              <a:t>Y può stare per Yearning Gener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Monotype Corsiva"/>
              </a:rPr>
              <a:t>(Mary Ann Glendon, Harvard University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359720" y="4325760"/>
            <a:ext cx="257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onotype Corsiva"/>
              </a:rPr>
              <a:t>Per concludere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6320" y="685800"/>
            <a:ext cx="8991360" cy="1347840"/>
          </a:xfrm>
          <a:prstGeom prst="bevel">
            <a:avLst>
              <a:gd name="adj" fmla="val 12500"/>
            </a:avLst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taneo BT"/>
              </a:rPr>
              <a:t>ALLA VITA REALE SOSTITUISCE QUELLA VIRTUALE, PUBBLICA MA IMPERSONAL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taneo BT"/>
              </a:rPr>
              <a:t>- I PENSIERI PIU’ PRIVATI SONO SCAMBIATI NEI </a:t>
            </a:r>
            <a:r>
              <a:rPr b="1" i="1" lang="it-IT" sz="1600" spc="-1" strike="noStrike">
                <a:solidFill>
                  <a:srgbClr val="000000"/>
                </a:solidFill>
                <a:latin typeface="Cataneo BT"/>
              </a:rPr>
              <a:t>BLOG</a:t>
            </a:r>
            <a:r>
              <a:rPr b="1" lang="it-IT" sz="1600" spc="-1" strike="noStrike">
                <a:solidFill>
                  <a:srgbClr val="000000"/>
                </a:solidFill>
                <a:latin typeface="Cataneo BT"/>
              </a:rPr>
              <a:t> O IN </a:t>
            </a:r>
            <a:r>
              <a:rPr b="1" i="1" lang="it-IT" sz="1600" spc="-1" strike="noStrike">
                <a:solidFill>
                  <a:srgbClr val="000000"/>
                </a:solidFill>
                <a:latin typeface="Cataneo BT"/>
              </a:rPr>
              <a:t>CHAT</a:t>
            </a:r>
            <a:r>
              <a:rPr b="1" lang="it-IT" sz="1600" spc="-1" strike="noStrike">
                <a:solidFill>
                  <a:srgbClr val="000000"/>
                </a:solidFill>
                <a:latin typeface="Cataneo BT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taneo BT"/>
              </a:rPr>
              <a:t>- LE FOTO, PROPRIE E DI ALTRI, SONO PUBBLICATE SU </a:t>
            </a:r>
            <a:r>
              <a:rPr b="1" i="1" lang="it-IT" sz="1600" spc="-1" strike="noStrike">
                <a:solidFill>
                  <a:srgbClr val="000000"/>
                </a:solidFill>
                <a:latin typeface="Cataneo BT"/>
              </a:rPr>
              <a:t>MY 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taneo BT"/>
              </a:rPr>
              <a:t>- I VIDEO, ANCHE NON AUTORIZZATI, SONO DISPONIBILI SU </a:t>
            </a:r>
            <a:r>
              <a:rPr b="1" i="1" lang="it-IT" sz="1600" spc="-1" strike="noStrike">
                <a:solidFill>
                  <a:srgbClr val="000000"/>
                </a:solidFill>
                <a:latin typeface="Cataneo BT"/>
              </a:rPr>
              <a:t>YOUTU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" y="3581280"/>
            <a:ext cx="8305920" cy="762120"/>
          </a:xfrm>
          <a:custGeom>
            <a:avLst/>
            <a:gdLst>
              <a:gd name="textAreaLeft" fmla="*/ 89640 w 8305920"/>
              <a:gd name="textAreaRight" fmla="*/ 8216280 w 8305920"/>
              <a:gd name="textAreaTop" fmla="*/ 89640 h 762120"/>
              <a:gd name="textAreaBottom" fmla="*/ 672480 h 762120"/>
            </a:gdLst>
            <a:ahLst/>
            <a:rect l="textAreaLeft" t="textAreaTop" r="textAreaRight" b="textAreaBottom"/>
            <a:pathLst>
              <a:path w="23530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31705" y="21600"/>
                </a:lnTo>
                <a:arcTo wR="3600" hR="3600" stAng="10800000" swAng="5400000"/>
                <a:lnTo>
                  <a:pt x="235305" y="3600"/>
                </a:lnTo>
                <a:arcTo wR="3600" hR="3600" stAng="5400000" swAng="5400000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taneo BT"/>
              </a:rPr>
              <a:t>MA LA SCIENZA È IN SÉ NEUTRA. PUÒ ESSERE UN PERICOLO. O UN’OPPORTUNITÀ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taneo BT"/>
              </a:rPr>
              <a:t>A CONDIZIONE CHE SI RECUPERI, DICE ANCORA HUSSERL, IL “SENSO DELLA VITA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558440" y="1447920"/>
            <a:ext cx="54097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Monotype Corsiva"/>
              </a:rPr>
              <a:t>GRAZIE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Monotype Corsiva"/>
              </a:rPr>
              <a:t>PER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000000"/>
                </a:solidFill>
                <a:latin typeface="Monotype Corsiva"/>
              </a:rPr>
              <a:t>L’ATTENZION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153280" y="6172200"/>
            <a:ext cx="38124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57200" y="152280"/>
            <a:ext cx="8001000" cy="85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0" lang="it-IT" sz="3600" spc="-1" strike="noStrike">
                <a:solidFill>
                  <a:srgbClr val="000000"/>
                </a:solidFill>
                <a:latin typeface="Monotype Corsiva"/>
              </a:rPr>
              <a:t>Cenni bibliografici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Book Antiqua"/>
              </a:rPr>
              <a:t>Sigmund Freud, </a:t>
            </a:r>
            <a:r>
              <a:rPr b="0" i="1" lang="it-IT" sz="2200" spc="-1" strike="noStrike">
                <a:solidFill>
                  <a:srgbClr val="000000"/>
                </a:solidFill>
                <a:latin typeface="Book Antiqua"/>
              </a:rPr>
              <a:t>Le neuropsicosi di difesa</a:t>
            </a:r>
            <a:r>
              <a:rPr b="0" lang="it-IT" sz="2200" spc="-1" strike="noStrike">
                <a:solidFill>
                  <a:srgbClr val="000000"/>
                </a:solidFill>
                <a:latin typeface="Book Antiqua"/>
              </a:rPr>
              <a:t>, 1894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Book Antiqua"/>
              </a:rPr>
              <a:t>Sigmund Freud, </a:t>
            </a:r>
            <a:r>
              <a:rPr b="0" i="1" lang="it-IT" sz="2200" spc="-1" strike="noStrike">
                <a:solidFill>
                  <a:srgbClr val="000000"/>
                </a:solidFill>
                <a:latin typeface="Book Antiqua"/>
              </a:rPr>
              <a:t>Ossessioni e fobie</a:t>
            </a:r>
            <a:r>
              <a:rPr b="0" lang="it-IT" sz="2200" spc="-1" strike="noStrike">
                <a:solidFill>
                  <a:srgbClr val="000000"/>
                </a:solidFill>
                <a:latin typeface="Book Antiqua"/>
              </a:rPr>
              <a:t>, 1895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Book Antiqua"/>
              </a:rPr>
              <a:t>Soren Kierkegaard, </a:t>
            </a:r>
            <a:r>
              <a:rPr b="0" i="1" lang="it-IT" sz="2200" spc="-1" strike="noStrike">
                <a:solidFill>
                  <a:srgbClr val="000000"/>
                </a:solidFill>
                <a:latin typeface="Book Antiqua"/>
              </a:rPr>
              <a:t>Diario di un seduttore</a:t>
            </a:r>
            <a:r>
              <a:rPr b="0" lang="it-IT" sz="2200" spc="-1" strike="noStrike">
                <a:solidFill>
                  <a:srgbClr val="000000"/>
                </a:solidFill>
                <a:latin typeface="Book Antiqua"/>
              </a:rPr>
              <a:t>, 1843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Book Antiqua"/>
              </a:rPr>
              <a:t>Soren Kierkegaard, </a:t>
            </a:r>
            <a:r>
              <a:rPr b="0" i="1" lang="it-IT" sz="2200" spc="-1" strike="noStrike">
                <a:solidFill>
                  <a:srgbClr val="000000"/>
                </a:solidFill>
                <a:latin typeface="Book Antiqua"/>
              </a:rPr>
              <a:t>Aut aut</a:t>
            </a:r>
            <a:r>
              <a:rPr b="0" lang="it-IT" sz="2200" spc="-1" strike="noStrike">
                <a:solidFill>
                  <a:srgbClr val="000000"/>
                </a:solidFill>
                <a:latin typeface="Book Antiqua"/>
              </a:rPr>
              <a:t>, 1843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Book Antiqua"/>
              </a:rPr>
              <a:t>Miguel de Cervantes, </a:t>
            </a:r>
            <a:r>
              <a:rPr b="0" i="1" lang="it-IT" sz="2200" spc="-1" strike="noStrike">
                <a:solidFill>
                  <a:srgbClr val="000000"/>
                </a:solidFill>
                <a:latin typeface="Book Antiqua"/>
              </a:rPr>
              <a:t>Don Chisciotte della Mancia</a:t>
            </a:r>
            <a:r>
              <a:rPr b="0" lang="it-IT" sz="2200" spc="-1" strike="noStrike">
                <a:solidFill>
                  <a:srgbClr val="000000"/>
                </a:solidFill>
                <a:latin typeface="Book Antiqua"/>
              </a:rPr>
              <a:t>, 1605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Book Antiqua"/>
              </a:rPr>
              <a:t>Italo Calvino, </a:t>
            </a:r>
            <a:r>
              <a:rPr b="0" i="1" lang="it-IT" sz="2200" spc="-1" strike="noStrike">
                <a:solidFill>
                  <a:srgbClr val="000000"/>
                </a:solidFill>
                <a:latin typeface="Book Antiqua"/>
              </a:rPr>
              <a:t>Il barone rampante</a:t>
            </a:r>
            <a:r>
              <a:rPr b="0" lang="it-IT" sz="2200" spc="-1" strike="noStrike">
                <a:solidFill>
                  <a:srgbClr val="000000"/>
                </a:solidFill>
                <a:latin typeface="Book Antiqua"/>
              </a:rPr>
              <a:t>, 1957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Book Antiqua"/>
              </a:rPr>
              <a:t>Friedrich Nietzsche, </a:t>
            </a:r>
            <a:r>
              <a:rPr b="0" i="1" lang="it-IT" sz="2200" spc="-1" strike="noStrike">
                <a:solidFill>
                  <a:srgbClr val="000000"/>
                </a:solidFill>
                <a:latin typeface="Book Antiqua"/>
              </a:rPr>
              <a:t>La gaia scienza</a:t>
            </a:r>
            <a:r>
              <a:rPr b="0" lang="it-IT" sz="2200" spc="-1" strike="noStrike">
                <a:solidFill>
                  <a:srgbClr val="000000"/>
                </a:solidFill>
                <a:latin typeface="Book Antiqua"/>
              </a:rPr>
              <a:t>, 1882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Book Antiqua"/>
              </a:rPr>
              <a:t>Aldous Huxley, </a:t>
            </a:r>
            <a:r>
              <a:rPr b="0" i="1" lang="it-IT" sz="2200" spc="-1" strike="noStrike">
                <a:solidFill>
                  <a:srgbClr val="000000"/>
                </a:solidFill>
                <a:latin typeface="Book Antiqua"/>
              </a:rPr>
              <a:t>Brave new world</a:t>
            </a:r>
            <a:r>
              <a:rPr b="0" lang="it-IT" sz="2200" spc="-1" strike="noStrike">
                <a:solidFill>
                  <a:srgbClr val="000000"/>
                </a:solidFill>
                <a:latin typeface="Book Antiqua"/>
              </a:rPr>
              <a:t>, 1932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Book Antiqua"/>
              </a:rPr>
              <a:t>George Orwell, </a:t>
            </a:r>
            <a:r>
              <a:rPr b="0" i="1" lang="it-IT" sz="2200" spc="-1" strike="noStrike">
                <a:solidFill>
                  <a:srgbClr val="000000"/>
                </a:solidFill>
                <a:latin typeface="Book Antiqua"/>
              </a:rPr>
              <a:t>1984</a:t>
            </a:r>
            <a:r>
              <a:rPr b="0" lang="it-IT" sz="2200" spc="-1" strike="noStrike">
                <a:solidFill>
                  <a:srgbClr val="000000"/>
                </a:solidFill>
                <a:latin typeface="Book Antiqua"/>
              </a:rPr>
              <a:t>, 1948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Book Antiqua"/>
              </a:rPr>
              <a:t>Edmund Husserl, </a:t>
            </a:r>
            <a:r>
              <a:rPr b="0" i="1" lang="it-IT" sz="2200" spc="-1" strike="noStrike">
                <a:solidFill>
                  <a:srgbClr val="000000"/>
                </a:solidFill>
                <a:latin typeface="Book Antiqua"/>
              </a:rPr>
              <a:t>La crisi delle scienze europee e</a:t>
            </a:r>
            <a:r>
              <a:rPr b="0" lang="it-IT" sz="2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i="1" lang="it-IT" sz="2200" spc="-1" strike="noStrike">
                <a:solidFill>
                  <a:srgbClr val="000000"/>
                </a:solidFill>
                <a:latin typeface="Book Antiqua"/>
              </a:rPr>
              <a:t>la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i="1" lang="it-IT" sz="2200" spc="-1" strike="noStrike">
                <a:solidFill>
                  <a:srgbClr val="000000"/>
                </a:solidFill>
                <a:latin typeface="Book Antiqua"/>
              </a:rPr>
              <a:t>fenomenologia trascendentale</a:t>
            </a:r>
            <a:r>
              <a:rPr b="0" lang="it-IT" sz="2200" spc="-1" strike="noStrike">
                <a:solidFill>
                  <a:srgbClr val="000000"/>
                </a:solidFill>
                <a:latin typeface="Book Antiqua"/>
              </a:rPr>
              <a:t>”, 195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Book Antiqua"/>
              </a:rPr>
              <a:t>Douglas Coupland, </a:t>
            </a:r>
            <a:r>
              <a:rPr b="0" i="1" lang="it-IT" sz="2200" spc="-1" strike="noStrike">
                <a:solidFill>
                  <a:srgbClr val="000000"/>
                </a:solidFill>
                <a:latin typeface="Book Antiqua"/>
              </a:rPr>
              <a:t>Generation X: Tales for an Accelerate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i="1" lang="it-IT" sz="2200" spc="-1" strike="noStrike">
                <a:solidFill>
                  <a:srgbClr val="000000"/>
                </a:solidFill>
                <a:latin typeface="Book Antiqua"/>
              </a:rPr>
              <a:t>Culture, 1991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Book Antiqua"/>
              </a:rPr>
              <a:t>Mary Ann Glendon (Harvard University),</a:t>
            </a:r>
            <a:r>
              <a:rPr b="0" i="1" lang="it-IT" sz="2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i="1" lang="it-IT" sz="2200" spc="-1" strike="noStrike">
                <a:solidFill>
                  <a:srgbClr val="000000"/>
                </a:solidFill>
                <a:latin typeface="Book Antiqua"/>
                <a:ea typeface="Arial"/>
              </a:rPr>
              <a:t>Generation Y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000000"/>
                </a:solidFill>
                <a:latin typeface="Book Antiqua"/>
                <a:ea typeface="Arial"/>
              </a:rPr>
              <a:t>   </a:t>
            </a:r>
            <a:r>
              <a:rPr b="0" i="1" lang="it-IT" sz="2200" spc="-1" strike="noStrike">
                <a:solidFill>
                  <a:srgbClr val="000000"/>
                </a:solidFill>
                <a:latin typeface="Book Antiqua"/>
                <a:ea typeface="Arial"/>
              </a:rPr>
              <a:t>Bears Unusual Burdens,</a:t>
            </a:r>
            <a:r>
              <a:rPr b="1" i="1" lang="it-IT" sz="2200" spc="-1" strike="noStrike">
                <a:solidFill>
                  <a:srgbClr val="000000"/>
                </a:solidFill>
                <a:latin typeface="Book Antiqua"/>
                <a:ea typeface="Arial"/>
              </a:rPr>
              <a:t> </a:t>
            </a:r>
            <a:r>
              <a:rPr b="0" i="1" lang="it-IT" sz="2200" spc="-1" strike="noStrike">
                <a:solidFill>
                  <a:srgbClr val="000000"/>
                </a:solidFill>
                <a:latin typeface="Book Antiqua"/>
                <a:ea typeface="Arial"/>
              </a:rPr>
              <a:t>2004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183320" y="-15840"/>
            <a:ext cx="70617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Alienazione e fuga dalla realtà: un tema attua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taneo BT"/>
              </a:rPr>
              <a:t>- INDICE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52280" y="380880"/>
            <a:ext cx="8686800" cy="2133720"/>
            <a:chOff x="152280" y="380880"/>
            <a:chExt cx="8686800" cy="2133720"/>
          </a:xfrm>
        </p:grpSpPr>
        <p:sp>
          <p:nvSpPr>
            <p:cNvPr id="45" name=""/>
            <p:cNvSpPr/>
            <p:nvPr/>
          </p:nvSpPr>
          <p:spPr>
            <a:xfrm>
              <a:off x="152280" y="380880"/>
              <a:ext cx="1905120" cy="1600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taneo BT"/>
                </a:rPr>
                <a:t>1. FREUD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taneo BT"/>
                </a:rPr>
                <a:t>INQUADRAM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taneo BT"/>
                </a:rPr>
                <a:t>PSICOLOGI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209680" y="762120"/>
              <a:ext cx="2057400" cy="1752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taneo BT"/>
                </a:rPr>
                <a:t>2. ALIENAZION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taneo BT"/>
                </a:rPr>
                <a:t>E SEDUZIONE:</a:t>
              </a:r>
              <a:r>
                <a:rPr b="1" lang="en-US" sz="1400" spc="-1" strike="noStrike">
                  <a:solidFill>
                    <a:srgbClr val="000000"/>
                  </a:solidFill>
                  <a:latin typeface="Cataneo BT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taneo BT"/>
                </a:rPr>
                <a:t>DON JUA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taneo BT"/>
                </a:rPr>
                <a:t>DE MAR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72000" y="762120"/>
              <a:ext cx="1981080" cy="1752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taneo BT"/>
                </a:rPr>
                <a:t>3. </a:t>
              </a:r>
              <a:r>
                <a:rPr b="1" lang="en-US" sz="1600" spc="-1" strike="noStrike">
                  <a:solidFill>
                    <a:srgbClr val="000000"/>
                  </a:solidFill>
                  <a:latin typeface="Cataneo BT"/>
                </a:rPr>
                <a:t>ALIENAZION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taneo BT"/>
                </a:rPr>
                <a:t>E SEDUZIONE:</a:t>
              </a:r>
              <a:r>
                <a:rPr b="1" lang="en-US" sz="1400" spc="-1" strike="noStrike">
                  <a:solidFill>
                    <a:srgbClr val="000000"/>
                  </a:solidFill>
                  <a:latin typeface="Cataneo BT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taneo BT"/>
                </a:rPr>
                <a:t>IL DON GIOVANNI D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taneo BT"/>
                </a:rPr>
                <a:t>KIERKEGAAR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781680" y="762120"/>
              <a:ext cx="2057400" cy="1752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taneo BT"/>
                </a:rPr>
                <a:t>4. ALIENAZIO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taneo BT"/>
                </a:rPr>
                <a:t>E FUGA DALLA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taneo BT"/>
                </a:rPr>
                <a:t>REALTA’:</a:t>
              </a:r>
              <a:r>
                <a:rPr b="1" lang="en-US" sz="1400" spc="-1" strike="noStrike">
                  <a:solidFill>
                    <a:srgbClr val="000000"/>
                  </a:solidFill>
                  <a:latin typeface="Cataneo BT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taneo BT"/>
                </a:rPr>
                <a:t>DON CHISCIOTT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taneo BT"/>
                </a:rPr>
                <a:t>E IL BARON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taneo BT"/>
                </a:rPr>
                <a:t>RAMPAN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" name=""/>
            <p:cNvCxnSpPr>
              <a:stCxn id="46" idx="6"/>
              <a:endCxn id="47" idx="2"/>
            </p:cNvCxnSpPr>
            <p:nvPr/>
          </p:nvCxnSpPr>
          <p:spPr>
            <a:xfrm>
              <a:off x="4266720" y="1638000"/>
              <a:ext cx="305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0" name=""/>
            <p:cNvCxnSpPr>
              <a:stCxn id="47" idx="6"/>
              <a:endCxn id="48" idx="2"/>
            </p:cNvCxnSpPr>
            <p:nvPr/>
          </p:nvCxnSpPr>
          <p:spPr>
            <a:xfrm>
              <a:off x="6552720" y="1638000"/>
              <a:ext cx="229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1" name=""/>
            <p:cNvCxnSpPr>
              <a:stCxn id="46" idx="2"/>
              <a:endCxn id="46" idx="2"/>
            </p:cNvCxnSpPr>
            <p:nvPr/>
          </p:nvCxnSpPr>
          <p:spPr>
            <a:xfrm>
              <a:off x="2209320" y="1638000"/>
              <a:ext cx="1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2" name=""/>
            <p:cNvCxnSpPr>
              <a:stCxn id="45" idx="6"/>
              <a:endCxn id="46" idx="2"/>
            </p:cNvCxnSpPr>
            <p:nvPr/>
          </p:nvCxnSpPr>
          <p:spPr>
            <a:xfrm>
              <a:off x="2057040" y="1181160"/>
              <a:ext cx="15300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53" name=""/>
          <p:cNvGrpSpPr/>
          <p:nvPr/>
        </p:nvGrpSpPr>
        <p:grpSpPr>
          <a:xfrm>
            <a:off x="152280" y="2438280"/>
            <a:ext cx="8686800" cy="2286000"/>
            <a:chOff x="152280" y="2438280"/>
            <a:chExt cx="8686800" cy="2286000"/>
          </a:xfrm>
        </p:grpSpPr>
        <p:sp>
          <p:nvSpPr>
            <p:cNvPr id="54" name=""/>
            <p:cNvSpPr/>
            <p:nvPr/>
          </p:nvSpPr>
          <p:spPr>
            <a:xfrm>
              <a:off x="152280" y="2438280"/>
              <a:ext cx="1905120" cy="16765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taneo BT"/>
                </a:rPr>
                <a:t>5. NIETZSCHE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taneo BT"/>
                </a:rPr>
                <a:t>LA MORTE DI 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taneo BT"/>
                </a:rPr>
                <a:t>TRAUM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taneo BT"/>
                </a:rPr>
                <a:t>DELL’UOM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taneo BT"/>
                </a:rPr>
                <a:t>MODER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209680" y="3124080"/>
              <a:ext cx="2133720" cy="1600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taneo BT"/>
                </a:rPr>
                <a:t>6. HUXLEY 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taneo BT"/>
                </a:rPr>
                <a:t>ORWELL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taneo BT"/>
                </a:rPr>
                <a:t>L’EVOLUZION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taneo BT"/>
                </a:rPr>
                <a:t>DELLA TECNICA 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taneo BT"/>
                </a:rPr>
                <a:t>LA FUGA DALL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taneo BT"/>
                </a:rPr>
                <a:t>REALTA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648320" y="3124080"/>
              <a:ext cx="2057400" cy="1600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taneo BT"/>
                </a:rPr>
                <a:t>7. </a:t>
              </a:r>
              <a:r>
                <a:rPr b="1" lang="en-US" sz="1600" spc="-1" strike="noStrike">
                  <a:solidFill>
                    <a:srgbClr val="000000"/>
                  </a:solidFill>
                  <a:latin typeface="Cataneo BT"/>
                </a:rPr>
                <a:t>L’USO IMPROPRIO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taneo BT"/>
                </a:rPr>
                <a:t>DELLA TECNICA</a:t>
              </a:r>
              <a:r>
                <a:rPr b="1" lang="en-US" sz="1400" spc="-1" strike="noStrike">
                  <a:solidFill>
                    <a:srgbClr val="000000"/>
                  </a:solidFill>
                  <a:latin typeface="Cataneo BT"/>
                </a:rPr>
                <a:t>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taneo BT"/>
                </a:rPr>
                <a:t>LE PAURE DELL’UOM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taneo BT"/>
                </a:rPr>
                <a:t>MODER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934320" y="3124080"/>
              <a:ext cx="1904760" cy="1600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taneo BT"/>
                </a:rPr>
                <a:t>8. DALLA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taneo BT"/>
                </a:rPr>
                <a:t>GENERAZIONE X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taneo BT"/>
                </a:rPr>
                <a:t>ALLA Y</a:t>
              </a:r>
              <a:r>
                <a:rPr b="1" lang="en-US" sz="1400" spc="-1" strike="noStrike">
                  <a:solidFill>
                    <a:srgbClr val="000000"/>
                  </a:solidFill>
                  <a:latin typeface="Cataneo BT"/>
                </a:rPr>
                <a:t>: NUOV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taneo BT"/>
                </a:rPr>
                <a:t>FORME D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taneo BT"/>
                </a:rPr>
                <a:t>ALIENAZI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" name=""/>
            <p:cNvCxnSpPr>
              <a:stCxn id="54" idx="6"/>
              <a:endCxn id="55" idx="2"/>
            </p:cNvCxnSpPr>
            <p:nvPr/>
          </p:nvCxnSpPr>
          <p:spPr>
            <a:xfrm>
              <a:off x="2057040" y="3276360"/>
              <a:ext cx="153000" cy="648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9" name=""/>
            <p:cNvCxnSpPr>
              <a:stCxn id="56" idx="6"/>
              <a:endCxn id="57" idx="2"/>
            </p:cNvCxnSpPr>
            <p:nvPr/>
          </p:nvCxnSpPr>
          <p:spPr>
            <a:xfrm>
              <a:off x="6705360" y="3924000"/>
              <a:ext cx="229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0" name=""/>
            <p:cNvCxnSpPr>
              <a:stCxn id="48" idx="4"/>
            </p:cNvCxnSpPr>
            <p:nvPr/>
          </p:nvCxnSpPr>
          <p:spPr>
            <a:xfrm flipH="1">
              <a:off x="2094840" y="2514240"/>
              <a:ext cx="5715720" cy="76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1" name=""/>
            <p:cNvCxnSpPr>
              <a:stCxn id="55" idx="6"/>
              <a:endCxn id="55" idx="6"/>
            </p:cNvCxnSpPr>
            <p:nvPr/>
          </p:nvCxnSpPr>
          <p:spPr>
            <a:xfrm>
              <a:off x="4343040" y="3924000"/>
              <a:ext cx="1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2" name=""/>
            <p:cNvCxnSpPr>
              <a:stCxn id="55" idx="6"/>
              <a:endCxn id="56" idx="2"/>
            </p:cNvCxnSpPr>
            <p:nvPr/>
          </p:nvCxnSpPr>
          <p:spPr>
            <a:xfrm>
              <a:off x="4343040" y="3924000"/>
              <a:ext cx="305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63" name=""/>
          <p:cNvGrpSpPr/>
          <p:nvPr/>
        </p:nvGrpSpPr>
        <p:grpSpPr>
          <a:xfrm>
            <a:off x="228600" y="4572000"/>
            <a:ext cx="7657920" cy="2133720"/>
            <a:chOff x="228600" y="4572000"/>
            <a:chExt cx="7657920" cy="2133720"/>
          </a:xfrm>
        </p:grpSpPr>
        <p:cxnSp>
          <p:nvCxnSpPr>
            <p:cNvPr id="64" name=""/>
            <p:cNvCxnSpPr>
              <a:stCxn id="57" idx="4"/>
              <a:endCxn id="65" idx="6"/>
            </p:cNvCxnSpPr>
            <p:nvPr/>
          </p:nvCxnSpPr>
          <p:spPr>
            <a:xfrm flipH="1">
              <a:off x="2133000" y="4724280"/>
              <a:ext cx="5753880" cy="610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66" name=""/>
            <p:cNvGrpSpPr/>
            <p:nvPr/>
          </p:nvGrpSpPr>
          <p:grpSpPr>
            <a:xfrm>
              <a:off x="228600" y="4572000"/>
              <a:ext cx="6553080" cy="2133720"/>
              <a:chOff x="228600" y="4572000"/>
              <a:chExt cx="6553080" cy="2133720"/>
            </a:xfrm>
          </p:grpSpPr>
          <p:sp>
            <p:nvSpPr>
              <p:cNvPr id="65" name=""/>
              <p:cNvSpPr/>
              <p:nvPr/>
            </p:nvSpPr>
            <p:spPr>
              <a:xfrm>
                <a:off x="228600" y="4572000"/>
                <a:ext cx="1905120" cy="152388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ataneo BT"/>
                  </a:rPr>
                  <a:t>9. HUSSERL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ataneo BT"/>
                  </a:rPr>
                  <a:t>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ataneo BT"/>
                  </a:rPr>
                  <a:t>RECUPERARE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ataneo BT"/>
                  </a:rPr>
                  <a:t>IL “SENSO DELL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ataneo BT"/>
                  </a:rPr>
                  <a:t>VITA”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572000" y="5105520"/>
                <a:ext cx="2209680" cy="1600200"/>
              </a:xfrm>
              <a:prstGeom prst="ellipse">
                <a:avLst/>
              </a:prstGeom>
              <a:solidFill>
                <a:srgbClr val="00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ataneo BT"/>
                  </a:rPr>
                  <a:t>10. Y COME 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ataneo BT"/>
                  </a:rPr>
                  <a:t>YEARNING: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ataneo BT"/>
                  </a:rPr>
                  <a:t>L’USO CORRETT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ataneo BT"/>
                  </a:rPr>
                  <a:t>DELLA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ataneo BT"/>
                  </a:rPr>
                  <a:t>TECNIC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8" name=""/>
              <p:cNvCxnSpPr>
                <a:stCxn id="65" idx="6"/>
                <a:endCxn id="67" idx="2"/>
              </p:cNvCxnSpPr>
              <p:nvPr/>
            </p:nvCxnSpPr>
            <p:spPr>
              <a:xfrm>
                <a:off x="2133360" y="5333760"/>
                <a:ext cx="2439000" cy="572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09480" y="3809880"/>
            <a:ext cx="7696440" cy="914400"/>
          </a:xfrm>
          <a:prstGeom prst="ellips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D E A  “I N T O L L E R A B I L 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76520" y="2057400"/>
            <a:ext cx="556236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taneo BT"/>
              </a:rPr>
              <a:t>IDEA OSTILE O CONTRARIA ALLA PROPRIA MOR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76520" y="2057400"/>
            <a:ext cx="5562360" cy="5335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taneo BT"/>
              </a:rPr>
              <a:t>R I M O Z I O N E      D A L L A     M E N T 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003680" y="974880"/>
            <a:ext cx="6896880" cy="642600"/>
            <a:chOff x="1003680" y="974880"/>
            <a:chExt cx="6896880" cy="642600"/>
          </a:xfrm>
        </p:grpSpPr>
        <p:sp>
          <p:nvSpPr>
            <p:cNvPr id="73" name=""/>
            <p:cNvSpPr/>
            <p:nvPr/>
          </p:nvSpPr>
          <p:spPr>
            <a:xfrm>
              <a:off x="1752480" y="990720"/>
              <a:ext cx="5410440" cy="609480"/>
            </a:xfrm>
            <a:custGeom>
              <a:avLst/>
              <a:gdLst>
                <a:gd name="textAreaLeft" fmla="*/ 71640 w 5410440"/>
                <a:gd name="textAreaRight" fmla="*/ 5338800 w 5410440"/>
                <a:gd name="textAreaTop" fmla="*/ 71640 h 609480"/>
                <a:gd name="textAreaBottom" fmla="*/ 537840 h 609480"/>
              </a:gdLst>
              <a:ahLst/>
              <a:rect l="textAreaLeft" t="textAreaTop" r="textAreaRight" b="textAreaBottom"/>
              <a:pathLst>
                <a:path w="191646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188046" y="21600"/>
                  </a:lnTo>
                  <a:arcTo wR="3600" hR="3600" stAng="10800000" swAng="5400000"/>
                  <a:lnTo>
                    <a:pt x="191646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003680" y="974880"/>
              <a:ext cx="6896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600" spc="-1" strike="noStrike">
                  <a:solidFill>
                    <a:srgbClr val="000000"/>
                  </a:solidFill>
                  <a:latin typeface="Monotype Corsiva"/>
                </a:rPr>
                <a:t>Le neuropsicosi di difesa - 1894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1728360" y="2819520"/>
            <a:ext cx="5606280" cy="642600"/>
            <a:chOff x="1728360" y="2819520"/>
            <a:chExt cx="5606280" cy="642600"/>
          </a:xfrm>
        </p:grpSpPr>
        <p:sp>
          <p:nvSpPr>
            <p:cNvPr id="76" name=""/>
            <p:cNvSpPr/>
            <p:nvPr/>
          </p:nvSpPr>
          <p:spPr>
            <a:xfrm>
              <a:off x="2286000" y="2895480"/>
              <a:ext cx="4495680" cy="533520"/>
            </a:xfrm>
            <a:prstGeom prst="plus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728360" y="2819520"/>
              <a:ext cx="5606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Monotype Corsiva"/>
                </a:rPr>
                <a:t>Ossessioni e fobie  - 189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609480" y="3809880"/>
            <a:ext cx="7696440" cy="9144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STITUZIONE CON UNA REALTA’ ALTERN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22720" y="125280"/>
            <a:ext cx="4206960" cy="764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Monotype Corsiva"/>
              </a:rPr>
              <a:t>Sigmund Freu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914400" y="4648320"/>
            <a:ext cx="7086600" cy="1981080"/>
            <a:chOff x="914400" y="4648320"/>
            <a:chExt cx="7086600" cy="1981080"/>
          </a:xfrm>
        </p:grpSpPr>
        <p:sp>
          <p:nvSpPr>
            <p:cNvPr id="81" name=""/>
            <p:cNvSpPr/>
            <p:nvPr/>
          </p:nvSpPr>
          <p:spPr>
            <a:xfrm>
              <a:off x="914400" y="4952880"/>
              <a:ext cx="7086600" cy="1676520"/>
            </a:xfrm>
            <a:prstGeom prst="bevel">
              <a:avLst>
                <a:gd name="adj" fmla="val 12500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343400" y="4648320"/>
              <a:ext cx="228600" cy="685800"/>
            </a:xfrm>
            <a:prstGeom prst="upArrow">
              <a:avLst>
                <a:gd name="adj1" fmla="val 50000"/>
                <a:gd name="adj2" fmla="val 7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 txBox="1"/>
            <p:nvPr/>
          </p:nvSpPr>
          <p:spPr>
            <a:xfrm>
              <a:off x="1371600" y="5486400"/>
              <a:ext cx="617220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1"/>
                    <a:srcRect/>
                    <a:tile tx="0" ty="0" sx="100000" sy="100000" algn="ctr"/>
                  </a:blipFill>
                  <a:latin typeface="Arial Black"/>
                </a:rPr>
                <a:t>TRAUMI IN  ETA' INFANTIL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657000" y="380880"/>
            <a:ext cx="7372440" cy="648360"/>
            <a:chOff x="-657000" y="380880"/>
            <a:chExt cx="7372440" cy="648360"/>
          </a:xfrm>
        </p:grpSpPr>
        <p:sp>
          <p:nvSpPr>
            <p:cNvPr id="85" name=""/>
            <p:cNvSpPr/>
            <p:nvPr/>
          </p:nvSpPr>
          <p:spPr>
            <a:xfrm>
              <a:off x="74520" y="380880"/>
              <a:ext cx="5868720" cy="60984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-657000" y="508680"/>
              <a:ext cx="737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000000"/>
                  </a:solidFill>
                  <a:latin typeface="Monotype Corsiva"/>
                </a:rPr>
                <a:t>Don Juan De Marco - Jeremy Leven - 199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7" name="Don%2520Juan%2520de%2520Marco" descr=""/>
          <p:cNvPicPr/>
          <p:nvPr/>
        </p:nvPicPr>
        <p:blipFill>
          <a:blip r:embed="rId1"/>
          <a:stretch/>
        </p:blipFill>
        <p:spPr>
          <a:xfrm>
            <a:off x="6248520" y="152280"/>
            <a:ext cx="2666880" cy="632484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</p:pic>
      <p:sp>
        <p:nvSpPr>
          <p:cNvPr id="88" name=""/>
          <p:cNvSpPr/>
          <p:nvPr/>
        </p:nvSpPr>
        <p:spPr>
          <a:xfrm>
            <a:off x="228600" y="1371600"/>
            <a:ext cx="2590920" cy="114300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Monotype Corsiva"/>
              </a:rPr>
              <a:t>Don Juan è rifiutat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Monotype Corsiva"/>
              </a:rPr>
              <a:t>dalla donna am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00400" y="1371600"/>
            <a:ext cx="2666880" cy="1143000"/>
          </a:xfrm>
          <a:prstGeom prst="ellipse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Monotype Corsiva"/>
              </a:rPr>
              <a:t>La madre di Don Ju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Monotype Corsiva"/>
              </a:rPr>
              <a:t>tradiva il padre;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Monotype Corsiva"/>
              </a:rPr>
              <a:t>alla sua morte si fece suo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3581280"/>
            <a:ext cx="3124080" cy="1295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All’ennesimo rifiu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della donna amata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280" y="5257800"/>
            <a:ext cx="5639040" cy="9144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Monotype Corsiva"/>
              </a:rPr>
              <a:t>… </a:t>
            </a:r>
            <a:r>
              <a:rPr b="1" lang="it-IT" sz="2800" spc="-1" strike="noStrike">
                <a:solidFill>
                  <a:srgbClr val="000000"/>
                </a:solidFill>
                <a:latin typeface="Monotype Corsiva"/>
              </a:rPr>
              <a:t>Don Juan si crede un abile sedutt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5400000">
            <a:off x="2743200" y="2438280"/>
            <a:ext cx="533160" cy="1295280"/>
          </a:xfrm>
          <a:custGeom>
            <a:avLst/>
            <a:gdLst>
              <a:gd name="textAreaLeft" fmla="*/ 66600 w 533160"/>
              <a:gd name="textAreaRight" fmla="*/ 466560 w 53316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43200" y="495288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04720" y="2362320"/>
            <a:ext cx="2009880" cy="69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(TRAUMA)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324240" y="2347920"/>
            <a:ext cx="254304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(RIMOZIONE)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352520" y="6095880"/>
            <a:ext cx="314316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(SOSTITUZIONE)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76320" y="228600"/>
            <a:ext cx="8915400" cy="838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taneo BT"/>
              </a:rPr>
              <a:t>DON JUAN DE MARCO E’ SOLO UNO DEI NUMEROSI ESEMPI DI  TRATTAZIO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taneo BT"/>
              </a:rPr>
              <a:t>ARTISTICA DEL MITO DI DON GIOVANNI, NATO NEL ‘600 E RIPRESO DA MOZART NEL 178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4267080"/>
            <a:ext cx="3048120" cy="160020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La “vita estetica” na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dalla fuga  dalla monoto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della vita quotidiana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porta alla disper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880" y="2514600"/>
            <a:ext cx="2971800" cy="1523880"/>
          </a:xfrm>
          <a:prstGeom prst="ellipse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Giovanni (Diario del seduttor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dedica la propria vita a conquista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le donne; egli sperimen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la “vita estetica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320" y="1295280"/>
            <a:ext cx="8915400" cy="838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taneo BT"/>
              </a:rPr>
              <a:t>ISPIRANDOSI A MOZART, KIERKEGAARD ASSUME DON GIOVANNI A FIGURA CARD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taneo BT"/>
              </a:rPr>
              <a:t>DELLA SUA SPECULAZIONE FILOSOFICA, ANCHE SE IL SUO GIOVANNI (CHE E’ LO STES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taneo BT"/>
              </a:rPr>
              <a:t>KIERKEGAARD IN ETA’  GIOVANILE) E’ UN SEDUTTORE INTELLETTUALE, NON SENSU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3886200" y="2666880"/>
            <a:ext cx="1447560" cy="3429000"/>
            <a:chOff x="3886200" y="2666880"/>
            <a:chExt cx="1447560" cy="3429000"/>
          </a:xfrm>
        </p:grpSpPr>
        <p:pic>
          <p:nvPicPr>
            <p:cNvPr id="102" name="dongiovanni06" descr=""/>
            <p:cNvPicPr/>
            <p:nvPr/>
          </p:nvPicPr>
          <p:blipFill>
            <a:blip r:embed="rId1"/>
            <a:stretch/>
          </p:blipFill>
          <p:spPr>
            <a:xfrm>
              <a:off x="3886200" y="2666880"/>
              <a:ext cx="139356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dongiovanni" descr=""/>
            <p:cNvPicPr/>
            <p:nvPr/>
          </p:nvPicPr>
          <p:blipFill>
            <a:blip r:embed="rId2"/>
            <a:stretch/>
          </p:blipFill>
          <p:spPr>
            <a:xfrm>
              <a:off x="3900240" y="4267080"/>
              <a:ext cx="1433520" cy="1828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" name=""/>
          <p:cNvSpPr/>
          <p:nvPr/>
        </p:nvSpPr>
        <p:spPr>
          <a:xfrm>
            <a:off x="5638680" y="2514600"/>
            <a:ext cx="2971800" cy="1523880"/>
          </a:xfrm>
          <a:prstGeom prst="ellipse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Monotype Corsiva"/>
              </a:rPr>
              <a:t>La vita estetica è, secon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Monotype Corsiva"/>
              </a:rPr>
              <a:t>Kierkegaard (Aut Aut – 1843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Monotype Corsiva"/>
              </a:rPr>
              <a:t>uno degli stadi dell’esistenza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Monotype Corsiva"/>
              </a:rPr>
              <a:t>assieme alla vita “etica”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Monotype Corsiva"/>
              </a:rPr>
              <a:t>e a quella “religiosa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76320" y="5715000"/>
            <a:ext cx="360036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(La seduzione è fuga 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dalla realtà/alienazione)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4267080"/>
            <a:ext cx="3048120" cy="160020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Monotype Corsiva"/>
              </a:rPr>
              <a:t>Nell’uomo Kierkegaard la v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Monotype Corsiva"/>
              </a:rPr>
              <a:t>estetica è anche una risposta a  u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Monotype Corsiva"/>
              </a:rPr>
              <a:t>infanzia difficile, traumatica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Monotype Corsiva"/>
              </a:rPr>
              <a:t>segnata dal  problema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Monotype Corsiva"/>
              </a:rPr>
              <a:t>rapporto col pad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467320" y="5724360"/>
            <a:ext cx="3600360" cy="75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(L'alienazione può essere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la risposta a un trauma)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don-quichotte2" descr=""/>
          <p:cNvPicPr/>
          <p:nvPr/>
        </p:nvPicPr>
        <p:blipFill>
          <a:blip r:embed="rId1"/>
          <a:stretch/>
        </p:blipFill>
        <p:spPr>
          <a:xfrm>
            <a:off x="914400" y="3505320"/>
            <a:ext cx="2803680" cy="2590560"/>
          </a:xfrm>
          <a:prstGeom prst="rect">
            <a:avLst/>
          </a:prstGeom>
          <a:ln w="0">
            <a:noFill/>
          </a:ln>
        </p:spPr>
      </p:pic>
      <p:pic>
        <p:nvPicPr>
          <p:cNvPr id="110" name="Baronerampante" descr=""/>
          <p:cNvPicPr/>
          <p:nvPr/>
        </p:nvPicPr>
        <p:blipFill>
          <a:blip r:embed="rId2"/>
          <a:stretch/>
        </p:blipFill>
        <p:spPr>
          <a:xfrm>
            <a:off x="5257800" y="3505320"/>
            <a:ext cx="2819520" cy="25905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28600" y="304920"/>
            <a:ext cx="8534520" cy="83808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taneo BT"/>
              </a:rPr>
              <a:t>ALTRE DUE FIGURE – EMBLEMATICHE DI SITUAZIONI DI FUGA DALLA REALTA’ – SONO IL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taneo BT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Cataneo BT"/>
              </a:rPr>
              <a:t>DON CHISCIOTTE DI CERVANTES (1605) E IL BARONE RAMPANTE DI CALVINO (1957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-375120" y="1371600"/>
            <a:ext cx="5484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onotype Corsiva"/>
              </a:rPr>
              <a:t>D.C. è un appassionato di letteratu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onotype Corsiva"/>
              </a:rPr>
              <a:t>cavalleresca; d’un tratto, decide d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onotype Corsiva"/>
              </a:rPr>
              <a:t>diventare uno dei cavalieri, le cu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onotype Corsiva"/>
              </a:rPr>
              <a:t>imprese tanto apprezzava. Le gest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onotype Corsiva"/>
              </a:rPr>
              <a:t>di D.C. riescono però solo a suscita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onotype Corsiva"/>
              </a:rPr>
              <a:t>l’ilarità degli altri personaggi e dei lettor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85160" y="1371600"/>
            <a:ext cx="6532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onotype Corsiva"/>
              </a:rPr>
              <a:t>In seguito a un litigio, il 12enne Cosimo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onotype Corsiva"/>
              </a:rPr>
              <a:t>figlio di un barone ligure - la cui educazion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onotype Corsiva"/>
              </a:rPr>
              <a:t>troppo dura determina un  rapport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onotype Corsiva"/>
              </a:rPr>
              <a:t>conflittuale tra i due - decide di vivere sugl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onotype Corsiva"/>
              </a:rPr>
              <a:t>alberi il resto della vita, incontrando personagg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onotype Corsiva"/>
              </a:rPr>
              <a:t>famosi e raggiungendo Paesi lontan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4267080" y="4572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1905120" y="6029280"/>
            <a:ext cx="472428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L'alienazione è qui un espediente: la simpatia 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per i personaggi induce ad accettarne la "diversità" 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(originata da un fatto traumatico?)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310440" y="4267080"/>
            <a:ext cx="2147760" cy="2438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taneo BT"/>
              </a:rPr>
              <a:t>SOL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taneo BT"/>
              </a:rPr>
              <a:t>L’</a:t>
            </a:r>
            <a:r>
              <a:rPr b="1" i="1" lang="it-IT" sz="1600" spc="-1" strike="noStrike">
                <a:solidFill>
                  <a:srgbClr val="000000"/>
                </a:solidFill>
                <a:latin typeface="Cataneo BT"/>
              </a:rPr>
              <a:t>OLTRE-UOM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taneo BT"/>
              </a:rPr>
              <a:t>(</a:t>
            </a:r>
            <a:r>
              <a:rPr b="1" i="1" lang="it-IT" sz="1600" spc="-1" strike="noStrike">
                <a:solidFill>
                  <a:srgbClr val="000000"/>
                </a:solidFill>
                <a:latin typeface="Cataneo BT"/>
              </a:rPr>
              <a:t>UBERMENSCH</a:t>
            </a:r>
            <a:r>
              <a:rPr b="1" lang="it-IT" sz="1600" spc="-1" strike="noStrike">
                <a:solidFill>
                  <a:srgbClr val="000000"/>
                </a:solidFill>
                <a:latin typeface="Cataneo BT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taneo BT"/>
              </a:rPr>
              <a:t>PUO’ SUPERA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taneo BT"/>
              </a:rPr>
              <a:t>LE MENZOG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taneo BT"/>
              </a:rPr>
              <a:t>METAFISI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taneo BT"/>
              </a:rPr>
              <a:t>E QUEL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taneo BT"/>
              </a:rPr>
              <a:t>SCIENTIFI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49520" y="4267080"/>
            <a:ext cx="2148120" cy="2438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taneo BT"/>
              </a:rPr>
              <a:t>ALLE ANTI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taneo BT"/>
              </a:rPr>
              <a:t>MENZOG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taneo BT"/>
              </a:rPr>
              <a:t>METAFISI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taneo BT"/>
              </a:rPr>
              <a:t>SI AGGIUNGO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taneo BT"/>
              </a:rPr>
              <a:t>LE NUOV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taneo BT"/>
              </a:rPr>
              <a:t>MENZOG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taneo BT"/>
              </a:rPr>
              <a:t>SCIENTIFI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4267080"/>
            <a:ext cx="2148120" cy="2438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taneo BT"/>
              </a:rPr>
              <a:t>L’UOMO DEB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taneo BT"/>
              </a:rPr>
              <a:t>SI SENTE 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taneo BT"/>
              </a:rPr>
              <a:t>SICU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taneo BT"/>
              </a:rPr>
              <a:t>GRAZIE AL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taneo BT"/>
              </a:rPr>
              <a:t>SCIENZA 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taneo BT"/>
              </a:rPr>
              <a:t>ALLA TECNI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taneo BT"/>
              </a:rPr>
              <a:t>IN REALTA’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13040" y="1295280"/>
            <a:ext cx="5418000" cy="113184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taneo BT"/>
              </a:rPr>
              <a:t>NELLA “GAIA SCIENZA” (1882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taneo BT"/>
              </a:rPr>
              <a:t>DI FRIEDRICH NIETZSCHE L’UOMO FOL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taneo BT"/>
              </a:rPr>
              <a:t>AFFERMA CHE </a:t>
            </a:r>
            <a:r>
              <a:rPr b="1" i="1" lang="en-US" sz="1600" spc="-1" strike="noStrike">
                <a:solidFill>
                  <a:srgbClr val="000000"/>
                </a:solidFill>
                <a:latin typeface="Cataneo BT"/>
              </a:rPr>
              <a:t>DIO E’ MORTO</a:t>
            </a:r>
            <a:r>
              <a:rPr b="1" lang="en-US" sz="1600" spc="-1" strike="noStrike">
                <a:solidFill>
                  <a:srgbClr val="000000"/>
                </a:solidFill>
                <a:latin typeface="Cataneo B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55760" y="2362320"/>
            <a:ext cx="6446880" cy="1131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taneo BT"/>
              </a:rPr>
              <a:t>NIETZSCHE SI FA INTERPRETE DELLA CRISI D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taneo BT"/>
              </a:rPr>
              <a:t>MONDO OCCIDENTALE, AFFETTO DA UN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taneo BT"/>
              </a:rPr>
              <a:t>MALATTIA MORTALE: IL “NICHILISMO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3429000"/>
            <a:ext cx="7848720" cy="95724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taneo BT"/>
              </a:rPr>
              <a:t>L’UOMO MODERNO E’ COLPITO DA UN TRAUMA FONDAMENTAL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taneo BT"/>
              </a:rPr>
              <a:t>LA PERDITA DEI VALORI E DELLE CERTEZZE (NICHILISMO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419720" y="609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819520" y="1905120"/>
            <a:ext cx="3352680" cy="30477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taneo BT"/>
              </a:rPr>
              <a:t>THE LO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taneo BT"/>
              </a:rPr>
              <a:t>OF VALUE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taneo BT"/>
              </a:rPr>
              <a:t>CERTANTIES – GIVEN B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taneo BT"/>
              </a:rPr>
              <a:t>NIETZSCHE – MAKES REA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taneo BT"/>
              </a:rPr>
              <a:t>AS UNACCEPTABLE. BUT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taneo BT"/>
              </a:rPr>
              <a:t>UBER-MENSCH ARE RARE 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taneo BT"/>
              </a:rPr>
              <a:t>NOT ALIVE. FOR THE COMM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Cataneo BT"/>
              </a:rPr>
              <a:t>WEAK</a:t>
            </a:r>
            <a:r>
              <a:rPr b="1" lang="it-IT" sz="1600" spc="-1" strike="noStrike">
                <a:solidFill>
                  <a:srgbClr val="000000"/>
                </a:solidFill>
                <a:latin typeface="Cataneo BT"/>
              </a:rPr>
              <a:t> </a:t>
            </a:r>
            <a:r>
              <a:rPr b="1" i="1" lang="it-IT" sz="1600" spc="-1" strike="noStrike">
                <a:solidFill>
                  <a:srgbClr val="000000"/>
                </a:solidFill>
                <a:latin typeface="Cataneo BT"/>
              </a:rPr>
              <a:t>MAN</a:t>
            </a:r>
            <a:r>
              <a:rPr b="1" lang="it-IT" sz="1600" spc="-1" strike="noStrike">
                <a:solidFill>
                  <a:srgbClr val="000000"/>
                </a:solidFill>
                <a:latin typeface="Cataneo BT"/>
              </a:rPr>
              <a:t> IT’S NECESSAR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taneo BT"/>
              </a:rPr>
              <a:t>ESCAPING INTO 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taneo BT"/>
              </a:rPr>
              <a:t>ALTERNAT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taneo BT"/>
              </a:rPr>
              <a:t>RE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taneo B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320" y="152280"/>
            <a:ext cx="2819160" cy="2362320"/>
          </a:xfrm>
          <a:prstGeom prst="ellipse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taneo BT"/>
              </a:rPr>
              <a:t>BRAVE NEW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taneo BT"/>
              </a:rPr>
              <a:t>WORLD</a:t>
            </a:r>
            <a:r>
              <a:rPr b="1" lang="en-US" sz="1400" spc="-1" strike="noStrike">
                <a:solidFill>
                  <a:srgbClr val="000000"/>
                </a:solidFill>
                <a:latin typeface="Cataneo BT"/>
              </a:rPr>
              <a:t> (1932) IS 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taneo BT"/>
              </a:rPr>
              <a:t>NOVEL BY ALDOU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taneo BT"/>
              </a:rPr>
              <a:t>HUXLEY SET IN A FUTU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taneo BT"/>
              </a:rPr>
              <a:t>LONDON WITH NO WAREFA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taneo BT"/>
              </a:rPr>
              <a:t>AND NO POVERTY. ALL O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taneo BT"/>
              </a:rPr>
              <a:t>THESE THINGS HA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taneo BT"/>
              </a:rPr>
              <a:t>BEEN ACHIEV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taneo BT"/>
              </a:rPr>
              <a:t>BY ELIMIN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taneo BT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172200" y="152280"/>
            <a:ext cx="2590920" cy="2362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taneo BT"/>
              </a:rPr>
              <a:t>… </a:t>
            </a:r>
            <a:r>
              <a:rPr b="1" lang="en-US" sz="1400" spc="-1" strike="noStrike">
                <a:solidFill>
                  <a:srgbClr val="000000"/>
                </a:solidFill>
                <a:latin typeface="Cataneo BT"/>
              </a:rPr>
              <a:t>MANY TH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taneo BT"/>
              </a:rPr>
              <a:t>AS FAMILY, CULTU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taneo BT"/>
              </a:rPr>
              <a:t>DIVERSITY, ART, SCIENCE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taneo BT"/>
              </a:rPr>
              <a:t>LITERATURE, RELIG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taneo BT"/>
              </a:rPr>
              <a:t>AND PHILOSOPHY. 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taneo BT"/>
              </a:rPr>
              <a:t>GENERAL, FREEDO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taneo BT"/>
              </a:rPr>
              <a:t>A POSSIBLE FUTU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taneo BT"/>
              </a:rPr>
              <a:t>REALITY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4343400"/>
            <a:ext cx="2590920" cy="236232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taneo BT"/>
              </a:rPr>
              <a:t>TH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taneo BT"/>
              </a:rPr>
              <a:t>STATE W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taneo BT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taneo BT"/>
              </a:rPr>
              <a:t>SMITH LIVES IS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taneo BT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taneo BT"/>
              </a:rPr>
              <a:t>NIGHTMARISH WORLD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taneo BT"/>
              </a:rPr>
              <a:t>WITH NO PRIVACY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taneo BT"/>
              </a:rPr>
              <a:t>SLOGANS SUCH A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taneo BT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Cataneo BT"/>
              </a:rPr>
              <a:t>THE BIG BROTHER 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taneo BT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taneo BT"/>
              </a:rPr>
              <a:t>WATCHING YOU!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taneo BT"/>
              </a:rPr>
              <a:t>A PRES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taneo BT"/>
              </a:rPr>
              <a:t>MENACE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172200" y="4343400"/>
            <a:ext cx="2590920" cy="236232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00000"/>
                </a:solidFill>
                <a:latin typeface="Cataneo BT"/>
              </a:rPr>
              <a:t>1984</a:t>
            </a:r>
            <a:r>
              <a:rPr b="1" lang="it-IT" sz="1400" spc="-1" strike="noStrike">
                <a:solidFill>
                  <a:srgbClr val="000000"/>
                </a:solidFill>
                <a:latin typeface="Cataneo BT"/>
              </a:rPr>
              <a:t> IS 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taneo BT"/>
              </a:rPr>
              <a:t>NOVEL WRITTE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taneo BT"/>
              </a:rPr>
              <a:t>BY GEORGE ORWELL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taneo BT"/>
              </a:rPr>
              <a:t>IN 1948. THE BOOK T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taneo BT"/>
              </a:rPr>
              <a:t>THE STORY OF WINST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taneo BT"/>
              </a:rPr>
              <a:t>SMITH’S DEGRAD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taneo BT"/>
              </a:rPr>
              <a:t>BY THE TOTALITARI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taneo BT"/>
              </a:rPr>
              <a:t>STATE IN WIC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taneo BT"/>
              </a:rPr>
              <a:t>HE LIVES 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6200000">
            <a:off x="1409400" y="2552040"/>
            <a:ext cx="762120" cy="1447920"/>
          </a:xfrm>
          <a:custGeom>
            <a:avLst/>
            <a:gdLst>
              <a:gd name="textAreaLeft" fmla="*/ 0 w 762120"/>
              <a:gd name="textAreaRight" fmla="*/ 762480 w 76212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86200" y="1143000"/>
            <a:ext cx="1295280" cy="380880"/>
          </a:xfrm>
          <a:prstGeom prst="rightArrow">
            <a:avLst>
              <a:gd name="adj1" fmla="val 50000"/>
              <a:gd name="adj2" fmla="val 85019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610000" y="171360"/>
            <a:ext cx="37908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ESCAPING FROM THE GREAT WAR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610000" y="6324480"/>
            <a:ext cx="37908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ESCAPING FROM TOTALITARISM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32" name=""/>
          <p:cNvSpPr/>
          <p:nvPr/>
        </p:nvSpPr>
        <p:spPr>
          <a:xfrm>
            <a:off x="3124080" y="685800"/>
            <a:ext cx="2819520" cy="30492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3124080" y="5791320"/>
            <a:ext cx="2819520" cy="304560"/>
          </a:xfrm>
          <a:custGeom>
            <a:avLst/>
            <a:gdLst>
              <a:gd name="textAreaLeft" fmla="*/ 0 w 2819520"/>
              <a:gd name="textAreaRight" fmla="*/ 2819880 w 2819520"/>
              <a:gd name="textAreaTop" fmla="*/ 360 h 304560"/>
              <a:gd name="textAreaBottom" fmla="*/ 305280 h 304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5400000">
            <a:off x="6857640" y="3124080"/>
            <a:ext cx="1295640" cy="380880"/>
          </a:xfrm>
          <a:prstGeom prst="rightArrow">
            <a:avLst>
              <a:gd name="adj1" fmla="val 50000"/>
              <a:gd name="adj2" fmla="val 85043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3809160" y="5257800"/>
            <a:ext cx="1295640" cy="380880"/>
          </a:xfrm>
          <a:prstGeom prst="rightArrow">
            <a:avLst>
              <a:gd name="adj1" fmla="val 50000"/>
              <a:gd name="adj2" fmla="val 85043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52280" y="304920"/>
            <a:ext cx="8686800" cy="914400"/>
          </a:xfrm>
          <a:custGeom>
            <a:avLst/>
            <a:gdLst>
              <a:gd name="textAreaLeft" fmla="*/ 107640 w 8686800"/>
              <a:gd name="textAreaRight" fmla="*/ 8579160 w 868680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0512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01528" y="21600"/>
                </a:lnTo>
                <a:arcTo wR="3600" hR="3600" stAng="10800000" swAng="5400000"/>
                <a:lnTo>
                  <a:pt x="205128" y="3600"/>
                </a:lnTo>
                <a:arcTo wR="3600" hR="3600" stAng="5400000" swAng="5400000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taneo BT"/>
              </a:rPr>
              <a:t>ANCHE L’UOMO DI OGGI FUGG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taneo BT"/>
              </a:rPr>
              <a:t>DA COSA FUGGE? CHE COSA LO SPAVENTA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taneo BT"/>
              </a:rPr>
              <a:t>LA MINACCIA NUCLARE? IL TERRORISMO INTERNAZIONALE? IL </a:t>
            </a:r>
            <a:r>
              <a:rPr b="1" i="1" lang="en-US" sz="1600" spc="-1" strike="noStrike">
                <a:solidFill>
                  <a:srgbClr val="000000"/>
                </a:solidFill>
                <a:latin typeface="Cataneo BT"/>
              </a:rPr>
              <a:t>GLOBAL WARMING</a:t>
            </a:r>
            <a:r>
              <a:rPr b="1" lang="en-US" sz="1600" spc="-1" strike="noStrike">
                <a:solidFill>
                  <a:srgbClr val="000000"/>
                </a:solidFill>
                <a:latin typeface="Cataneo BT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38080" y="1371600"/>
            <a:ext cx="7315200" cy="838080"/>
          </a:xfrm>
          <a:custGeom>
            <a:avLst/>
            <a:gdLst>
              <a:gd name="textAreaLeft" fmla="*/ 98640 w 7315200"/>
              <a:gd name="textAreaRight" fmla="*/ 7216560 w 7315200"/>
              <a:gd name="textAreaTop" fmla="*/ 98640 h 838080"/>
              <a:gd name="textAreaBottom" fmla="*/ 739440 h 838080"/>
            </a:gdLst>
            <a:ahLst/>
            <a:rect l="textAreaLeft" t="textAreaTop" r="textAreaRight" b="textAreaBottom"/>
            <a:pathLst>
              <a:path w="188464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84864" y="21600"/>
                </a:lnTo>
                <a:arcTo wR="3600" hR="3600" stAng="10800000" swAng="5400000"/>
                <a:lnTo>
                  <a:pt x="188464" y="3600"/>
                </a:lnTo>
                <a:arcTo wR="3600" hR="3600" stAng="5400000" swAng="5400000"/>
                <a:close/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taneo BT"/>
              </a:rPr>
              <a:t>LA SCIENZA, NATA COME RISPOSTA ALLE INSICUREZZE DELL’UOMO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taneo BT"/>
              </a:rPr>
              <a:t>E’ DIVENTATA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71600" y="2362320"/>
            <a:ext cx="6172200" cy="609480"/>
          </a:xfrm>
          <a:custGeom>
            <a:avLst/>
            <a:gdLst>
              <a:gd name="textAreaLeft" fmla="*/ 71640 w 6172200"/>
              <a:gd name="textAreaRight" fmla="*/ 6100560 w 6172200"/>
              <a:gd name="textAreaTop" fmla="*/ 71640 h 609480"/>
              <a:gd name="textAreaBottom" fmla="*/ 537840 h 609480"/>
            </a:gdLst>
            <a:ahLst/>
            <a:rect l="textAreaLeft" t="textAreaTop" r="textAreaRight" b="textAreaBottom"/>
            <a:pathLst>
              <a:path w="218627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15027" y="21600"/>
                </a:lnTo>
                <a:arcTo wR="3600" hR="3600" stAng="10800000" swAng="5400000"/>
                <a:lnTo>
                  <a:pt x="218627" y="3600"/>
                </a:lnTo>
                <a:arcTo wR="3600" hR="3600" stAng="5400000" swAng="5400000"/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taneo BT"/>
              </a:rPr>
              <a:t>… </a:t>
            </a:r>
            <a:r>
              <a:rPr b="1" lang="en-US" sz="1600" spc="-1" strike="noStrike">
                <a:solidFill>
                  <a:srgbClr val="000000"/>
                </a:solidFill>
                <a:latin typeface="Cataneo BT"/>
              </a:rPr>
              <a:t>STRUMENTO DI POSSIBILE DISTRUZIONE DI MAS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81080" y="3124080"/>
            <a:ext cx="4876920" cy="762120"/>
          </a:xfrm>
          <a:custGeom>
            <a:avLst/>
            <a:gdLst>
              <a:gd name="textAreaLeft" fmla="*/ 89640 w 4876920"/>
              <a:gd name="textAreaRight" fmla="*/ 4787280 w 4876920"/>
              <a:gd name="textAreaTop" fmla="*/ 89640 h 762120"/>
              <a:gd name="textAreaBottom" fmla="*/ 672480 h 762120"/>
            </a:gdLst>
            <a:ahLst/>
            <a:rect l="textAreaLeft" t="textAreaTop" r="textAreaRight" b="textAreaBottom"/>
            <a:pathLst>
              <a:path w="138167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34567" y="21600"/>
                </a:lnTo>
                <a:arcTo wR="3600" hR="3600" stAng="10800000" swAng="5400000"/>
                <a:lnTo>
                  <a:pt x="138167" y="3600"/>
                </a:lnTo>
                <a:arcTo wR="3600" hR="3600" stAng="5400000" swAng="5400000"/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taneo BT"/>
              </a:rPr>
              <a:t>OLTRE CHE, ATTRAVERSO IL COMPUT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taneo BT"/>
              </a:rPr>
              <a:t>… </a:t>
            </a:r>
            <a:r>
              <a:rPr b="1" lang="en-US" sz="1600" spc="-1" strike="noStrike">
                <a:solidFill>
                  <a:srgbClr val="000000"/>
                </a:solidFill>
                <a:latin typeface="Cataneo BT"/>
              </a:rPr>
              <a:t>STRUMENTO DI FUGA DALLA REALTA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BS00580_" descr=""/>
          <p:cNvPicPr/>
          <p:nvPr/>
        </p:nvPicPr>
        <p:blipFill>
          <a:blip r:embed="rId1"/>
          <a:stretch/>
        </p:blipFill>
        <p:spPr>
          <a:xfrm>
            <a:off x="7238880" y="3200400"/>
            <a:ext cx="1144800" cy="963720"/>
          </a:xfrm>
          <a:prstGeom prst="rect">
            <a:avLst/>
          </a:prstGeom>
          <a:ln w="0">
            <a:noFill/>
          </a:ln>
        </p:spPr>
      </p:pic>
      <p:pic>
        <p:nvPicPr>
          <p:cNvPr id="141" name="BS00580_" descr=""/>
          <p:cNvPicPr/>
          <p:nvPr/>
        </p:nvPicPr>
        <p:blipFill>
          <a:blip r:embed="rId2"/>
          <a:stretch/>
        </p:blipFill>
        <p:spPr>
          <a:xfrm>
            <a:off x="457200" y="3200400"/>
            <a:ext cx="1144440" cy="96372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1981080" y="4114440"/>
            <a:ext cx="4800600" cy="1143000"/>
            <a:chOff x="1981080" y="4114440"/>
            <a:chExt cx="4800600" cy="1143000"/>
          </a:xfrm>
        </p:grpSpPr>
        <p:sp>
          <p:nvSpPr>
            <p:cNvPr id="143" name=""/>
            <p:cNvSpPr/>
            <p:nvPr/>
          </p:nvSpPr>
          <p:spPr>
            <a:xfrm flipV="1">
              <a:off x="1981080" y="4114080"/>
              <a:ext cx="4800600" cy="114300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 txBox="1"/>
            <p:nvPr/>
          </p:nvSpPr>
          <p:spPr>
            <a:xfrm>
              <a:off x="3276360" y="4267440"/>
              <a:ext cx="2305080" cy="49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660033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GENERAZIONE "X"</a:t>
              </a:r>
              <a:endPara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660033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905120" y="5410080"/>
            <a:ext cx="4800600" cy="1143000"/>
            <a:chOff x="1905120" y="5410080"/>
            <a:chExt cx="4800600" cy="1143000"/>
          </a:xfrm>
        </p:grpSpPr>
        <p:sp>
          <p:nvSpPr>
            <p:cNvPr id="146" name=""/>
            <p:cNvSpPr/>
            <p:nvPr/>
          </p:nvSpPr>
          <p:spPr>
            <a:xfrm>
              <a:off x="1905120" y="5410080"/>
              <a:ext cx="4800600" cy="114300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 txBox="1"/>
            <p:nvPr/>
          </p:nvSpPr>
          <p:spPr>
            <a:xfrm>
              <a:off x="3124080" y="5984640"/>
              <a:ext cx="2305080" cy="49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ffff00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GENERAZIONE "Y"</a:t>
              </a:r>
              <a:endPara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148" name=""/>
          <p:cNvSpPr/>
          <p:nvPr/>
        </p:nvSpPr>
        <p:spPr>
          <a:xfrm rot="5400000">
            <a:off x="4097520" y="5199120"/>
            <a:ext cx="474480" cy="287280"/>
          </a:xfrm>
          <a:custGeom>
            <a:avLst/>
            <a:gdLst>
              <a:gd name="textAreaLeft" fmla="*/ 74160 w 474480"/>
              <a:gd name="textAreaRight" fmla="*/ 415440 w 47448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800600"/>
            <a:ext cx="3124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I sociologi individu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nella transizi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tra le ultime generaz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67280" y="4800600"/>
            <a:ext cx="2210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i segni di una crescente fuga dalla real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2T20:05:23Z</dcterms:created>
  <dc:creator>Samantha</dc:creator>
  <dc:description/>
  <dc:language>en-US</dc:language>
  <cp:lastModifiedBy>Samantha</cp:lastModifiedBy>
  <dcterms:modified xsi:type="dcterms:W3CDTF">2007-06-17T17:43:49Z</dcterms:modified>
  <cp:revision>35</cp:revision>
  <dc:subject/>
  <dc:title>Presentazione di PowerPoint</dc:title>
</cp:coreProperties>
</file>