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6D94E-86A3-4FD1-A378-1E8F772E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6FDDD-2128-42FC-A81A-07779B40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ACE56-1560-48FC-91BC-B7153195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9AA97-31F1-4EA4-BD9D-77F0EEED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569C-BF61-489A-9A67-E7F84443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E51C-5B3F-4B73-9F64-FF00A2FD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E154-AD32-4CF0-AFA4-599C8F5D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A009-0401-4019-A4D7-4E2DDD4A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7C78-4CF3-4F5B-A755-EC69499B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5A5B-B8A8-4838-B315-F42AD77B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0951-1BA2-4BF1-8E52-1E58A417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0A5BA-3DC6-41D2-95DE-681E56C0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EF3F-F116-4152-97EE-E9432B8D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272B-30D6-4D93-B89F-2B35A176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45FE-1464-4D19-B61D-96086F00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49A4-2911-4973-AFA9-89EAA832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AA6F-9347-4A82-9F5D-DE31A244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6CC16-B070-46F2-8C5F-BB62C48A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DAFAB-2AA6-4536-9817-6A99801C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A183D-0E69-4B64-8BD0-EE45675C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E1E5D-44D8-4327-96CE-5886E8C8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721D4-8641-48A6-989C-D4268763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33E48-8896-443A-9342-13B2F342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39471-707D-4F06-82C0-9E00B1B4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765C-F67C-4592-AA0A-F076F53A90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AF35-2B59-43D7-BA78-8F8964F890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LA%20NASCITA%20DELLA%20TRAGEDIA.doc" TargetMode="External"/><Relationship Id="rId2" Type="http://schemas.openxmlformats.org/officeDocument/2006/relationships/hyperlink" Target="file:///LA%20NASCITA%20DELLA%20TRAGEDIA.doc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A%20Midsummer%20Night.doc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Notturno%20Definitivo.doc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VOYAGE.doc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MONTE%20DE%20LAS%20ANIMAS.doc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900" spc="-1" strike="noStrike">
                <a:solidFill>
                  <a:srgbClr val="dddddd"/>
                </a:solidFill>
                <a:latin typeface="Gulim"/>
              </a:rPr>
              <a:t>La notte.</a:t>
            </a:r>
            <a:endParaRPr b="1" lang="en-US" sz="109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987640" y="2708280"/>
            <a:ext cx="2952720" cy="1079640"/>
          </a:xfrm>
          <a:prstGeom prst="roundRect">
            <a:avLst>
              <a:gd name="adj" fmla="val 16667"/>
            </a:avLst>
          </a:prstGeom>
          <a:solidFill>
            <a:srgbClr val="787e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La Not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4437000"/>
            <a:ext cx="2520720" cy="1008000"/>
          </a:xfrm>
          <a:prstGeom prst="roundRect">
            <a:avLst>
              <a:gd name="adj" fmla="val 16667"/>
            </a:avLst>
          </a:prstGeom>
          <a:solidFill>
            <a:srgbClr val="787e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ietzsche e la Nasci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ella Trage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5805360"/>
            <a:ext cx="2232360" cy="792360"/>
          </a:xfrm>
          <a:prstGeom prst="roundRect">
            <a:avLst>
              <a:gd name="adj" fmla="val 16667"/>
            </a:avLst>
          </a:prstGeom>
          <a:solidFill>
            <a:srgbClr val="787e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pirito Apollin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  Spirito Dionisia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95640" y="458136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787e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abriele d’Annunz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27640" y="5805360"/>
            <a:ext cx="1871640" cy="648000"/>
          </a:xfrm>
          <a:prstGeom prst="roundRect">
            <a:avLst>
              <a:gd name="adj" fmla="val 16667"/>
            </a:avLst>
          </a:prstGeom>
          <a:solidFill>
            <a:srgbClr val="787e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l Nottu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6000" y="2924280"/>
            <a:ext cx="1655640" cy="720720"/>
          </a:xfrm>
          <a:prstGeom prst="roundRect">
            <a:avLst>
              <a:gd name="adj" fmla="val 16667"/>
            </a:avLst>
          </a:prstGeom>
          <a:solidFill>
            <a:srgbClr val="787e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ustavo Adolf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ècqu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08720" y="4076640"/>
            <a:ext cx="1656000" cy="720720"/>
          </a:xfrm>
          <a:prstGeom prst="roundRect">
            <a:avLst>
              <a:gd name="adj" fmla="val 16667"/>
            </a:avLst>
          </a:prstGeom>
          <a:solidFill>
            <a:srgbClr val="787e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l Monte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as Ani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56000" y="189000"/>
            <a:ext cx="2160720" cy="792000"/>
          </a:xfrm>
          <a:prstGeom prst="roundRect">
            <a:avLst>
              <a:gd name="adj" fmla="val 16667"/>
            </a:avLst>
          </a:prstGeom>
          <a:solidFill>
            <a:srgbClr val="787e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William Shakespe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4000" y="1341360"/>
            <a:ext cx="2087640" cy="792360"/>
          </a:xfrm>
          <a:prstGeom prst="roundRect">
            <a:avLst>
              <a:gd name="adj" fmla="val 16667"/>
            </a:avLst>
          </a:prstGeom>
          <a:solidFill>
            <a:srgbClr val="787e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 Midsumm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ight’s D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404640"/>
            <a:ext cx="1944720" cy="936720"/>
          </a:xfrm>
          <a:prstGeom prst="roundRect">
            <a:avLst>
              <a:gd name="adj" fmla="val 16667"/>
            </a:avLst>
          </a:prstGeom>
          <a:solidFill>
            <a:srgbClr val="787e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uis Ferdin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e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700280"/>
            <a:ext cx="1871640" cy="792000"/>
          </a:xfrm>
          <a:prstGeom prst="roundRect">
            <a:avLst>
              <a:gd name="adj" fmla="val 16667"/>
            </a:avLst>
          </a:prstGeom>
          <a:solidFill>
            <a:srgbClr val="787e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oyage Au B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e la Nu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618920" y="3716280"/>
            <a:ext cx="1368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378936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940360" y="3212640"/>
            <a:ext cx="129564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2195640" y="1268280"/>
            <a:ext cx="1224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67280" y="981000"/>
            <a:ext cx="64908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547640" y="5229360"/>
            <a:ext cx="14472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03640" y="5300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72360" y="3645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56360" y="98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134136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ffff"/>
                </a:solidFill>
                <a:uFillTx/>
                <a:latin typeface="Elephant"/>
                <a:hlinkClick r:id="rId1"/>
              </a:rPr>
              <a:t>Filosofia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Agency FB"/>
                <a:hlinkClick r:id="rId2"/>
              </a:rPr>
              <a:t>.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5041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Nietzsche e la contrapposizione tra Sogno e Oscurità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La nascita della traged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Spirito Apollineo e Spirito Dionisiac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64000" y="1484280"/>
            <a:ext cx="3011760" cy="466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ff"/>
                </a:solidFill>
                <a:uFillTx/>
                <a:latin typeface="Elephant"/>
                <a:hlinkClick r:id="rId1"/>
              </a:rPr>
              <a:t>Inglese.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William Shakespear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A Midsummer Night’s dream”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Act 1 Scene 1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338472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ffff"/>
                </a:solidFill>
                <a:uFillTx/>
                <a:latin typeface="Elephant"/>
                <a:hlinkClick r:id="rId1"/>
              </a:rPr>
              <a:t>Italiano.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Gabriele D’Annunzi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Il “Notturno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Un passo dal “ Notturno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724360" y="1341360"/>
            <a:ext cx="2808360" cy="468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ffff"/>
                </a:solidFill>
                <a:uFillTx/>
                <a:latin typeface="Elephant"/>
                <a:hlinkClick r:id="rId1"/>
              </a:rPr>
              <a:t>Francese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Louis Ferdinand Cel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Voyage Au Bout De La Nuit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651640" y="1268280"/>
            <a:ext cx="230508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ffff"/>
                </a:solidFill>
                <a:uFillTx/>
                <a:latin typeface="Elephant"/>
                <a:hlinkClick r:id="rId1"/>
              </a:rPr>
              <a:t>Spagnolo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Gustavo Adolfo Bècqu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El Monte De Las Animas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431928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14:48:37Z</dcterms:created>
  <dc:creator>my pc</dc:creator>
  <dc:description/>
  <dc:language>en-US</dc:language>
  <cp:lastModifiedBy>my pc</cp:lastModifiedBy>
  <dcterms:modified xsi:type="dcterms:W3CDTF">2007-06-18T15:01:04Z</dcterms:modified>
  <cp:revision>7</cp:revision>
  <dc:subject/>
  <dc:title>La notte.</dc:title>
</cp:coreProperties>
</file>