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wmf" ContentType="image/x-wmf"/>
  <Override PartName="/ppt/media/image16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5B7D-D08D-45FF-938C-F50BE650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258B-62A2-4856-86A1-B2846AC5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86B-538C-4F2A-819F-338D52D8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307-8DDD-496A-B918-4775501E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2B23-5516-4891-AA10-DCD729DA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910F-4560-48EB-831A-FD1E219B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DA76-1F4E-48D8-9665-7A14DD9E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F435-9260-4A4D-A360-751796D6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7965-B84D-4324-AD51-D43F9A74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A7E4-9297-4268-8857-1CB9E0AD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40DC-4829-48D6-9C43-704A6D83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583-053E-42E4-A313-1319F668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DFD3-2926-4FE6-9AC4-B2B97D2C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4ED9-0DC1-452A-9B3D-8F12FFC0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8A5B-B7A5-47EA-B723-4E841B5C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56CF-FBC5-4294-A34A-B5FEE37A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CF58-20A7-4CAE-BA53-6E0795FC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433E4-3E00-49AB-9614-668CFA23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CEB3C-42D3-4B43-8FAA-5DC6F82A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ED18F-06B7-4984-9048-EE571489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D1064-ED51-440D-8844-BEBA9B2C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38241-B329-4E6F-80B2-43BD8C19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5041-96B4-47EC-A13D-A79621DA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FFD2C-ED9B-4272-BB79-0FCECB30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27D08-9F76-4800-A69B-E7344CDD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23A8E-0B8A-47C3-81B0-F09FB8CC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AFE9A-125E-44ED-9200-AD01E50D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4F839-8908-416D-AFCB-1605CC5D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757B6-A577-4DB3-95D9-DA5864B0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5E03E-F775-494D-B3A8-F7F8C038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AF3F8D-C600-48D2-99B9-931DE311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4625DB-26DC-49B1-8BC0-B65D55ED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D854E7-0056-49C9-9744-4B573221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CFB-7672-43D8-9A9B-2EA512AD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0CCE0E-C4C3-4AB7-9071-003F5ACB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8B7D84-337F-43CF-B2B6-B055BCF1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EA66F6-199D-473F-B388-0BCF079F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7B5734-5D47-4537-92F1-7D053A53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3AEF95-A509-43BB-8E69-6CEB7078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8EEFC6-E1C4-49BE-B4F5-C72B305F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47B97D-B642-48D0-AE03-EAB77E6B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129153-5136-459B-95E8-D78FB685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D12330-8E5C-4E78-B41E-F3E4B9B8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0CD2-BE5A-4EB4-AF69-302FF0AC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1C2-3B58-47D2-8C01-8E1E1D99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316-35F7-4A7A-BD44-4367D9EB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9D3-A23E-4A66-A072-2BFF0F3C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45A1-6F8F-4167-9E7A-77CACBDC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9CC1-F87E-4715-A07D-C8060B600F23}" type="datetime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B477-B4FE-49C6-82AD-1CB8924E3E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B79F-928B-4ABF-8964-CF066330CBC0}" type="datetime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005A-59DC-4C48-ABD1-845AC32D8DC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2DC9-92D1-4753-B012-72B213733AA8}" type="datetime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4220-38A6-49CD-ACF1-5BD777023066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66F7-AE15-4790-AD30-DABA40D88E84}" type="datetime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46E7-34AB-473F-8974-50DE5FB38FA2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2349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3300"/>
                </a:solidFill>
                <a:latin typeface="Arial"/>
              </a:rPr>
              <a:t>Alunno Marangoni M. Nicola</a:t>
            </a:r>
            <a:br>
              <a:rPr sz="4800"/>
            </a:br>
            <a:r>
              <a:rPr b="0" lang="it-IT" sz="4800" spc="-1" strike="noStrike">
                <a:solidFill>
                  <a:srgbClr val="ff3300"/>
                </a:solidFill>
                <a:latin typeface="Arial"/>
              </a:rPr>
              <a:t>classe 5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 A Sirio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3200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tituto Tecnico Commerciale Statale e per geometr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igi Einaudi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58920" y="260280"/>
            <a:ext cx="6264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Romantic"/>
              </a:rPr>
              <a:t>Tesina della maturità2007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Romantic"/>
              <a:ea typeface="Romantic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tesina maturità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4FD56C-C988-4873-BCA4-12D6A97BF2B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16B760C7-47B6-4A2C-A2C4-A07636959D0C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9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9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9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Allegati grafici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29600" cy="37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tesina maturità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7B1D6-62AC-4904-B6CE-316D4427A4C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7BD6309C-5194-4378-B22F-FABB586A04F4}" type="datetime1">
              <a:rPr lang="en-US"/>
              <a:t>07/31/26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Allegati grafici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1951200"/>
            <a:ext cx="8229600" cy="37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tesina maturità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C1A19-4927-4B51-8188-F9414AAEAA5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1A98F58D-0C28-4F8A-A84D-0AE2A6220381}" type="datetime1">
              <a:rPr lang="en-US"/>
              <a:t>07/31/26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Impianti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95280" y="1809000"/>
            <a:ext cx="8353440" cy="2115360"/>
            <a:chOff x="395280" y="1809000"/>
            <a:chExt cx="8353440" cy="2115360"/>
          </a:xfrm>
        </p:grpSpPr>
        <p:cxnSp>
          <p:nvCxnSpPr>
            <p:cNvPr id="246" name="_s65555"/>
            <p:cNvCxnSpPr>
              <a:stCxn id="247" idx="0"/>
              <a:endCxn id="248" idx="2"/>
            </p:cNvCxnSpPr>
            <p:nvPr/>
          </p:nvCxnSpPr>
          <p:spPr>
            <a:xfrm flipV="1" rot="16200000">
              <a:off x="5799960" y="1036080"/>
              <a:ext cx="230040" cy="2686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9" name="_s65554"/>
            <p:cNvCxnSpPr>
              <a:stCxn id="250" idx="0"/>
              <a:endCxn id="248" idx="2"/>
            </p:cNvCxnSpPr>
            <p:nvPr/>
          </p:nvCxnSpPr>
          <p:spPr>
            <a:xfrm flipV="1">
              <a:off x="4572360" y="2264400"/>
              <a:ext cx="2160" cy="230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1" name="_s65553"/>
            <p:cNvCxnSpPr>
              <a:stCxn id="252" idx="0"/>
              <a:endCxn id="248" idx="2"/>
            </p:cNvCxnSpPr>
            <p:nvPr/>
          </p:nvCxnSpPr>
          <p:spPr>
            <a:xfrm flipH="1" flipV="1" rot="5400000">
              <a:off x="3114000" y="1035720"/>
              <a:ext cx="230040" cy="2687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8" name="_s65549"/>
            <p:cNvSpPr/>
            <p:nvPr/>
          </p:nvSpPr>
          <p:spPr>
            <a:xfrm>
              <a:off x="395280" y="1809000"/>
              <a:ext cx="8353440" cy="45576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Schema degli impiant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Installati nel fabbricato</a:t>
              </a:r>
              <a:r>
                <a:rPr b="0" lang="en-US" sz="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65550"/>
            <p:cNvSpPr/>
            <p:nvPr/>
          </p:nvSpPr>
          <p:spPr>
            <a:xfrm>
              <a:off x="663480" y="2494440"/>
              <a:ext cx="2445120" cy="1429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520" bIns="2520" anchor="t">
              <a:noAutofit/>
            </a:bodyPr>
            <a:p>
              <a:pPr algn="ctr">
                <a:lnSpc>
                  <a:spcPct val="100000"/>
                </a:lnSpc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impianto di rete fogna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Impianto di riscalda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Impianto elettrico interno ed este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Rete idrica dei locali di uso igien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Cappotto isolante term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Impianto di energia alternativo a </a:t>
              </a:r>
              <a:br>
                <a:rPr sz="1200"/>
              </a:b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pannelli sol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65551"/>
            <p:cNvSpPr/>
            <p:nvPr/>
          </p:nvSpPr>
          <p:spPr>
            <a:xfrm>
              <a:off x="3349440" y="2494440"/>
              <a:ext cx="2444760" cy="1429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520" bIns="25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Sistema di riscaldamento 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pannelli radianti a pavi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vantaggi e svantagg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Particolari della posa in opera</a:t>
              </a:r>
              <a:r>
                <a:rPr b="0" lang="en-US" sz="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65552"/>
            <p:cNvSpPr/>
            <p:nvPr/>
          </p:nvSpPr>
          <p:spPr>
            <a:xfrm>
              <a:off x="6035040" y="2494440"/>
              <a:ext cx="2445120" cy="1429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520" bIns="25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Sistema di energia alternati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Con pannelli solari termici 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Bassa temperatura 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Relativi contributi regionali</a:t>
              </a:r>
              <a:r>
                <a:rPr b="0" lang="en-US" sz="2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tesina maturità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F8A57-9E11-4676-B3CC-95A29CA137D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1BA66ACF-DD50-480C-8419-009B1058341A}" type="datetime1">
              <a:rPr lang="en-US"/>
              <a:t>07/31/26</a:t>
            </a:fld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4000" y="228240"/>
            <a:ext cx="83628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Particolari e caratteristiche 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dell’impianto a pannelli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radianti a pavimento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39640" y="3357720"/>
            <a:ext cx="3810240" cy="25905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5364000" y="4076640"/>
            <a:ext cx="279108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tesina maturità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F4D6E-6BBB-43C6-A19C-C62FF82BA3D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29FFA83F-B5AD-4DEF-A695-EC42D9779CF8}" type="datetime1">
              <a:rPr lang="en-US"/>
              <a:t>07/31/26</a:t>
            </a:fld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Italiano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2808360" cy="3961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11280" y="1844640"/>
            <a:ext cx="38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8360" y="1781280"/>
            <a:ext cx="4032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re G. Ver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ideologia conservatrice e il pessim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: i Malavo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ciclo dei “vin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ideale dell’ost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principio dell’impersona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tesina maturità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F91A5-F512-44C8-BA17-D5DADDBE658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783AA737-7857-48F9-9C56-6CE741299476}" type="datetime1">
              <a:rPr lang="en-US"/>
              <a:t>07/31/26</a:t>
            </a:fld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Storia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La prima guerra mondi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648320" y="1940040"/>
            <a:ext cx="4038120" cy="1092960"/>
            <a:chOff x="4648320" y="1940040"/>
            <a:chExt cx="4038120" cy="1092960"/>
          </a:xfrm>
        </p:grpSpPr>
        <p:cxnSp>
          <p:nvCxnSpPr>
            <p:cNvPr id="263" name="_s76812"/>
            <p:cNvCxnSpPr>
              <a:stCxn id="264" idx="0"/>
              <a:endCxn id="265" idx="2"/>
            </p:cNvCxnSpPr>
            <p:nvPr/>
          </p:nvCxnSpPr>
          <p:spPr>
            <a:xfrm flipV="1" rot="16200000">
              <a:off x="7259760" y="1755000"/>
              <a:ext cx="229320" cy="1414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6" name="_s76811"/>
            <p:cNvCxnSpPr>
              <a:stCxn id="267" idx="0"/>
              <a:endCxn id="265" idx="2"/>
            </p:cNvCxnSpPr>
            <p:nvPr/>
          </p:nvCxnSpPr>
          <p:spPr>
            <a:xfrm flipV="1">
              <a:off x="6667560" y="2347560"/>
              <a:ext cx="180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8" name="_s76810"/>
            <p:cNvCxnSpPr>
              <a:stCxn id="269" idx="0"/>
              <a:endCxn id="265" idx="2"/>
            </p:cNvCxnSpPr>
            <p:nvPr/>
          </p:nvCxnSpPr>
          <p:spPr>
            <a:xfrm flipH="1" flipV="1" rot="5400000">
              <a:off x="5846760" y="1755360"/>
              <a:ext cx="229320" cy="1414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5" name="_s76806"/>
            <p:cNvSpPr/>
            <p:nvPr/>
          </p:nvSpPr>
          <p:spPr>
            <a:xfrm>
              <a:off x="5996880" y="1940040"/>
              <a:ext cx="1339200" cy="4082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otivi di crisi</a:t>
              </a:r>
              <a:r>
                <a:rPr b="0" lang="en-US" sz="12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76807"/>
            <p:cNvSpPr/>
            <p:nvPr/>
          </p:nvSpPr>
          <p:spPr>
            <a:xfrm>
              <a:off x="4648320" y="2577240"/>
              <a:ext cx="1211040" cy="45576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ma fase de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flit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76808"/>
            <p:cNvSpPr/>
            <p:nvPr/>
          </p:nvSpPr>
          <p:spPr>
            <a:xfrm>
              <a:off x="6061680" y="2577240"/>
              <a:ext cx="1211040" cy="45576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conda fase 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flit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76809"/>
            <p:cNvSpPr/>
            <p:nvPr/>
          </p:nvSpPr>
          <p:spPr>
            <a:xfrm>
              <a:off x="7475400" y="2577240"/>
              <a:ext cx="1211040" cy="45576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a  pa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condizion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79280" y="2781360"/>
            <a:ext cx="354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ema delle forze in gioc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lu forze alle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nero forze degl’imperi centr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3809880" cy="19447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6483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003640" y="3860640"/>
            <a:ext cx="333396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tesina maturità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137C5-6D9C-4362-B13B-54811182E19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600F189B-30D8-467F-9B0D-967A72607695}" type="datetime1">
              <a:rPr lang="en-US"/>
              <a:t>07/31/26</a:t>
            </a:fld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500" autoRev="1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310" dur="500" autoRev="1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311" dur="500" autoRev="1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itto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permesso di costruir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il varo del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esto unic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.P.R. 380/200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 l’istituto della concessione edilizia è stato modific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caratteri del permesso di costruire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t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revocabilit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mporaneit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novabilit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rosit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tesina maturità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8BC96-505F-482D-81F6-831F8DE7E5E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5A26186D-AC2F-463E-BCE3-9088A1BA3453}" type="datetime1">
              <a:rPr lang="en-US"/>
              <a:t>07/31/26</a:t>
            </a:fld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Conclusioni finali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zie a tutta la commissione d’esame per aver lasciato lo spazio necessario all’esposizione delle mie id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cola 16/06/200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tesina maturità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6C9E3-5417-402F-89F2-4A42DECCC9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5BBABD53-4168-4B08-97A5-63375F17A55C}" type="datetime1">
              <a:rPr lang="en-US"/>
              <a:t>07/31/26</a:t>
            </a:fld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Buona giornata a tutti</a:t>
            </a:r>
            <a:endParaRPr b="0" lang="en-US" sz="8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tesina maturità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4E85A-48B8-4C9D-B726-D774BAE70E9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05AAD3D5-2ABA-4D56-8698-329FA6330779}" type="datetime1">
              <a:rPr lang="en-US"/>
              <a:t>07/31/26</a:t>
            </a:fld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9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628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resentazione dell’indice dei relativi argomenti esaminati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ograf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nologia delle costruzion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ian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ali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it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tesina maturità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6B1DB-CCEE-48EC-B1F3-C8F65AA742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2CA83004-407C-4D90-B046-257AD8ADD435}" type="datetime1">
              <a:rPr lang="en-US"/>
              <a:t>07/31/26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Times New Roman"/>
                <a:ea typeface="바탕"/>
              </a:rPr>
              <a:t>Topografia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250020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0020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250920" y="1832040"/>
            <a:ext cx="8654760" cy="2194920"/>
            <a:chOff x="250920" y="1832040"/>
            <a:chExt cx="8654760" cy="2194920"/>
          </a:xfrm>
        </p:grpSpPr>
        <p:cxnSp>
          <p:nvCxnSpPr>
            <p:cNvPr id="214" name="_s16402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969880" y="846000"/>
              <a:ext cx="228960" cy="30153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7" name="_s16401"/>
            <p:cNvCxnSpPr>
              <a:stCxn id="218" idx="0"/>
              <a:endCxn id="216" idx="2"/>
            </p:cNvCxnSpPr>
            <p:nvPr/>
          </p:nvCxnSpPr>
          <p:spPr>
            <a:xfrm flipV="1" rot="16200000">
              <a:off x="4463640" y="2352240"/>
              <a:ext cx="228960" cy="28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9" name="_s16400"/>
            <p:cNvCxnSpPr>
              <a:stCxn id="220" idx="0"/>
              <a:endCxn id="216" idx="2"/>
            </p:cNvCxnSpPr>
            <p:nvPr/>
          </p:nvCxnSpPr>
          <p:spPr>
            <a:xfrm flipH="1" flipV="1" rot="5400000">
              <a:off x="2956320" y="847440"/>
              <a:ext cx="228960" cy="30132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6" name="_s16396"/>
            <p:cNvSpPr/>
            <p:nvPr/>
          </p:nvSpPr>
          <p:spPr>
            <a:xfrm>
              <a:off x="3406680" y="1832040"/>
              <a:ext cx="2340360" cy="4078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280" rIns="5328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rogetto strada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6397"/>
            <p:cNvSpPr/>
            <p:nvPr/>
          </p:nvSpPr>
          <p:spPr>
            <a:xfrm>
              <a:off x="250920" y="2468520"/>
              <a:ext cx="2624400" cy="15584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280" rIns="53280" tIns="26640" bIns="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viluppo della  planimetria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Triangolazioni e isoips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Tracciolino e poligonale d’ass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Asse stradale e raccordi circolar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ezioni stradal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6398"/>
            <p:cNvSpPr/>
            <p:nvPr/>
          </p:nvSpPr>
          <p:spPr>
            <a:xfrm>
              <a:off x="3265560" y="2468520"/>
              <a:ext cx="2625120" cy="15584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280" rIns="53280" tIns="26640" bIns="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rofilo longitudina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ezion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distanze parzial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Distanze progressiv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Quote del terre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Quote di proget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Livellett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Curve e rettifili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6399"/>
            <p:cNvSpPr/>
            <p:nvPr/>
          </p:nvSpPr>
          <p:spPr>
            <a:xfrm>
              <a:off x="6280560" y="2468520"/>
              <a:ext cx="2625120" cy="15584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280" rIns="53280" tIns="26640" bIns="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ezioni trasversal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Aree omogenee di sterro e di ripor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Aree miste con punti di passagg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endenze del terreno e pendenze del</a:t>
              </a:r>
              <a:br>
                <a:rPr sz="1100"/>
              </a:b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tracciato stradale in rilevato o in trince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tesina maturità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C972F-0EDF-402F-8C2E-BE2495D515A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92D0210B-641B-49FF-AEC4-F686FF8DA290}" type="datetime1">
              <a:rPr lang="en-US"/>
              <a:t>07/31/26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nimetria strada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2084400"/>
            <a:ext cx="8229600" cy="352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tesina maturità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EDE69-FB68-4FCC-9E25-BC74F4E18E4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73E81DDB-4F1D-4A93-A044-36C975ED160D}" type="datetime1">
              <a:rPr lang="en-US"/>
              <a:t>07/31/26</a:t>
            </a:fld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Profilo longitudina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496000" cy="426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tesina maturità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BE4B6-1A39-40DE-AD79-E52A97B9320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23F7C8D3-212F-45FB-9D33-FA4C4358D5A9}" type="datetime1">
              <a:rPr lang="en-US"/>
              <a:t>07/31/26</a:t>
            </a:fld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zioni  stradali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507520" cy="412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tesina maturità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597E9-649A-45D6-A4FB-60B12AFB23A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F39031A2-BD6E-4481-9AD0-3069B1A9D129}" type="datetime1">
              <a:rPr lang="en-US"/>
              <a:t>07/31/26</a:t>
            </a:fld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Tecnologia delle costruzioni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57200" y="2119680"/>
            <a:ext cx="4038120" cy="2181600"/>
            <a:chOff x="457200" y="2119680"/>
            <a:chExt cx="4038120" cy="2181600"/>
          </a:xfrm>
        </p:grpSpPr>
        <p:cxnSp>
          <p:nvCxnSpPr>
            <p:cNvPr id="229" name="_s21516"/>
            <p:cNvCxnSpPr>
              <a:stCxn id="230" idx="0"/>
              <a:endCxn id="231" idx="2"/>
            </p:cNvCxnSpPr>
            <p:nvPr/>
          </p:nvCxnSpPr>
          <p:spPr>
            <a:xfrm flipV="1" rot="16200000">
              <a:off x="2892240" y="2138040"/>
              <a:ext cx="218160" cy="105084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2" name="_s21515"/>
            <p:cNvCxnSpPr>
              <a:stCxn id="233" idx="0"/>
              <a:endCxn id="231" idx="2"/>
            </p:cNvCxnSpPr>
            <p:nvPr/>
          </p:nvCxnSpPr>
          <p:spPr>
            <a:xfrm flipH="1" flipV="1" rot="5400000">
              <a:off x="1842480" y="2138400"/>
              <a:ext cx="218160" cy="105012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1" name="_s21511"/>
            <p:cNvSpPr/>
            <p:nvPr/>
          </p:nvSpPr>
          <p:spPr>
            <a:xfrm>
              <a:off x="1139400" y="2119680"/>
              <a:ext cx="2673360" cy="4348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rogetto di una villetta unifamiliare</a:t>
              </a:r>
              <a:r>
                <a:rPr b="0" lang="en-US" sz="10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21512"/>
            <p:cNvSpPr/>
            <p:nvPr/>
          </p:nvSpPr>
          <p:spPr>
            <a:xfrm>
              <a:off x="457200" y="2772360"/>
              <a:ext cx="1938600" cy="1528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lazioni grafi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lanimetria genera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iante quot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ezioni del fabbrica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rospett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iante architettoniche</a:t>
              </a:r>
              <a:r>
                <a:rPr b="0" lang="en-US" sz="10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21513"/>
            <p:cNvSpPr/>
            <p:nvPr/>
          </p:nvSpPr>
          <p:spPr>
            <a:xfrm>
              <a:off x="2556720" y="2772360"/>
              <a:ext cx="1938600" cy="1528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lazione tecn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intesi dell’interven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rametri urbanistic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pecifiche  costruttive del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abbrica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48320" y="1801800"/>
            <a:ext cx="4038480" cy="17668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648320" y="4125960"/>
            <a:ext cx="4038480" cy="176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tesina maturità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A4FF7-781D-4AA9-8B6B-88100FE0AD6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CB3DF23B-1D86-4B2D-A3FE-C16B081A4172}" type="datetime1">
              <a:rPr lang="en-US"/>
              <a:t>07/31/26</a:t>
            </a:fld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Allegati grafici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2084400"/>
            <a:ext cx="8229600" cy="352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tesina maturità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8EE67-F371-41C1-94E8-6EDCF263967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EC155801-7F9B-4D0E-A579-C09AF492707E}" type="datetime1">
              <a:rPr lang="en-US"/>
              <a:t>07/31/26</a:t>
            </a:fld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Allegati grafici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229600" cy="37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tesina maturità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8B953-FFED-4D7C-9504-32D2BB7F886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7B984FF4-ED63-4DC8-880F-24354735D95B}" type="datetime1">
              <a:rPr lang="en-US"/>
              <a:t>07/31/26</a:t>
            </a:fld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250" autoRev="1" fill="hold"/>
                                        <p:tgtEl>
                                          <p:spTgt spid="2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0:32:49Z</dcterms:created>
  <dc:creator>nicola</dc:creator>
  <dc:description/>
  <dc:language>en-US</dc:language>
  <cp:lastModifiedBy>nicola</cp:lastModifiedBy>
  <dcterms:modified xsi:type="dcterms:W3CDTF">2007-06-22T10:40:36Z</dcterms:modified>
  <cp:revision>21</cp:revision>
  <dc:subject/>
  <dc:title>Progetto interdisciplinare delle varie materie scolastiche</dc:title>
</cp:coreProperties>
</file>