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46.jpeg" ContentType="image/jpeg"/>
  <Override PartName="/ppt/media/image5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7-06-14T13:19:55.24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366-B4BE-4D1F-9967-8529D971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393-57FC-45CB-B301-0895EC5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773-9EB8-407F-874C-DFF19492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719-FA17-4359-B12B-8C57AB86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A67-9676-4A97-8BE7-1D3CBE5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23A-2119-4223-B746-DF01A9B9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6B7-E817-4FC5-AB73-D121C7D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D8A-863C-4156-8000-378D0AFC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60A-EF49-408C-A888-E018CF4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E20-A6B7-47B9-8A7B-7E02004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62E-5869-4E4E-9FE7-D59F34B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9BC-A708-4C36-814D-0730879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32B6-2FD4-4B78-88E5-3BAA7E22AA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AD3-9A72-41BB-970E-F7DFD516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39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e7f46a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Informal Roman"/>
              </a:rPr>
              <a:t>IL SECONDO DOPOGUERRA</a:t>
            </a:r>
            <a:br>
              <a:rPr sz="4400"/>
            </a:br>
            <a:r>
              <a:rPr b="1" i="1" lang="en-US" sz="2000" spc="-1" strike="noStrike">
                <a:solidFill>
                  <a:srgbClr val="009999"/>
                </a:solidFill>
                <a:latin typeface="Harrington"/>
              </a:rPr>
              <a:t>Tesina di Sabrina Melillo 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Italiano: Neorealismo – Primo L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Storia: le origini della guerra fred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eografia: commercio internazional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lo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Economia aziendale:  le b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Diritto: la Costituzione ita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Scienza delle finanze: l’ im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Francese: les ban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Educazione fisica: il Mini Bas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446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A70-2D35-4C78-82AB-1E3C6EAE77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44C66-E00F-4FF9-9055-C31531EFF910}" type="datetime1">
              <a:rPr lang="en-US"/>
              <a:t>07/29/26</a:t>
            </a:fld>
          </a:p>
        </p:txBody>
      </p:sp>
    </p:spTree>
  </p:cSld>
  <p:transition spd="slow">
    <p:strips dir="r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Harrington"/>
              </a:rPr>
              <a:t>GEOGRAFIA:</a:t>
            </a:r>
            <a:br>
              <a:rPr sz="3600"/>
            </a:br>
            <a:r>
              <a:rPr b="1" i="1" lang="en-US" sz="2000" spc="-1" strike="noStrike">
                <a:solidFill>
                  <a:srgbClr val="0000ff"/>
                </a:solidFill>
                <a:latin typeface="Harrington"/>
              </a:rPr>
              <a:t>COMMERCIO INTERNAZIONALE E GLOBALIZZAZIONE.</a:t>
            </a:r>
            <a:br>
              <a:rPr sz="2000"/>
            </a:br>
            <a:r>
              <a:rPr b="1" i="1" lang="en-US" sz="2000" spc="-1" strike="noStrike">
                <a:solidFill>
                  <a:srgbClr val="0000ff"/>
                </a:solidFill>
                <a:latin typeface="Harrington"/>
              </a:rPr>
              <a:t>DAL GATT AL 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attori sociali, economici e politici che hanno  interagito per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traordinaria crescita degli scamb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iglioramento delle condizioni di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operazione tra S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viluppo di imprese transn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iglioramento dei sistemi di tras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iduzione delle barriere doga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226836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3430" y="3837"/>
                </a:moveTo>
                <a:lnTo>
                  <a:pt x="16007" y="6448"/>
                </a:ln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lnTo>
                  <a:pt x="20393" y="10800"/>
                </a:lnTo>
                <a:lnTo>
                  <a:pt x="18740" y="10800"/>
                </a:lnTo>
                <a:lnTo>
                  <a:pt x="18740" y="17989"/>
                </a:lnTo>
                <a:lnTo>
                  <a:pt x="8121" y="17989"/>
                </a:lnTo>
                <a:lnTo>
                  <a:pt x="8121" y="10800"/>
                </a:lnTo>
                <a:lnTo>
                  <a:pt x="6467" y="10800"/>
                </a:lnTo>
                <a:close/>
              </a:path>
              <a:path fill="darkenLess" w="26861" h="21600">
                <a:moveTo>
                  <a:pt x="16007" y="6448"/>
                </a:moveTo>
                <a:lnTo>
                  <a:pt x="16007" y="4707"/>
                </a:lnTo>
                <a:lnTo>
                  <a:pt x="17782" y="4707"/>
                </a:lnTo>
                <a:lnTo>
                  <a:pt x="17782" y="8224"/>
                </a:lnTo>
                <a:close/>
              </a:path>
              <a:path fill="darkenLess" w="26861" h="21600">
                <a:moveTo>
                  <a:pt x="12508" y="14299"/>
                </a:moveTo>
                <a:lnTo>
                  <a:pt x="14353" y="14299"/>
                </a:lnTo>
                <a:lnTo>
                  <a:pt x="14353" y="17989"/>
                </a:lnTo>
                <a:lnTo>
                  <a:pt x="18740" y="17989"/>
                </a:lnTo>
                <a:lnTo>
                  <a:pt x="18740" y="10800"/>
                </a:lnTo>
                <a:lnTo>
                  <a:pt x="8121" y="10800"/>
                </a:lnTo>
                <a:lnTo>
                  <a:pt x="8121" y="17989"/>
                </a:lnTo>
                <a:lnTo>
                  <a:pt x="12508" y="17989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835280" y="6453360"/>
            <a:ext cx="433080" cy="404640"/>
          </a:xfrm>
          <a:custGeom>
            <a:avLst/>
            <a:gdLst>
              <a:gd name="textAreaLeft" fmla="*/ 25920 w 433080"/>
              <a:gd name="textAreaRight" fmla="*/ 407160 w 433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17" h="21600">
                <a:moveTo>
                  <a:pt x="0" y="0"/>
                </a:moveTo>
                <a:lnTo>
                  <a:pt x="23117" y="0"/>
                </a:lnTo>
                <a:lnTo>
                  <a:pt x="23117" y="21600"/>
                </a:lnTo>
                <a:lnTo>
                  <a:pt x="0" y="21600"/>
                </a:lnTo>
                <a:close/>
              </a:path>
              <a:path fill="lightenLess" w="23117" h="21600">
                <a:moveTo>
                  <a:pt x="0" y="0"/>
                </a:moveTo>
                <a:lnTo>
                  <a:pt x="23117" y="0"/>
                </a:lnTo>
                <a:lnTo>
                  <a:pt x="21717" y="1400"/>
                </a:lnTo>
                <a:lnTo>
                  <a:pt x="1400" y="1400"/>
                </a:lnTo>
                <a:close/>
              </a:path>
              <a:path fill="darken" w="23117" h="21600">
                <a:moveTo>
                  <a:pt x="23117" y="0"/>
                </a:moveTo>
                <a:lnTo>
                  <a:pt x="23117" y="21600"/>
                </a:lnTo>
                <a:lnTo>
                  <a:pt x="21717" y="20200"/>
                </a:lnTo>
                <a:lnTo>
                  <a:pt x="21717" y="1400"/>
                </a:lnTo>
                <a:close/>
              </a:path>
              <a:path fill="darkenLess" w="23117" h="21600">
                <a:moveTo>
                  <a:pt x="23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7" y="20200"/>
                </a:lnTo>
                <a:close/>
              </a:path>
              <a:path fill="lighten" w="23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7" h="21600">
                <a:moveTo>
                  <a:pt x="4552" y="10800"/>
                </a:moveTo>
                <a:lnTo>
                  <a:pt x="18565" y="3794"/>
                </a:lnTo>
                <a:lnTo>
                  <a:pt x="18565" y="17806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277164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GRAF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DF2-2D72-428E-A82C-5181009555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08F23-A951-4E68-87D7-77968A936A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650"/>
                            </p:stCondLst>
                            <p:childTnLst>
                              <p:par>
                                <p:cTn id="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150"/>
                            </p:stCondLst>
                            <p:childTnLst>
                              <p:par>
                                <p:cTn id="5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150"/>
                            </p:stCondLst>
                            <p:childTnLst>
                              <p:par>
                                <p:cTn id="5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15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150"/>
                            </p:stCondLst>
                            <p:childTnLst>
                              <p:par>
                                <p:cTn id="5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15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15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15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Harrington"/>
              </a:rPr>
              <a:t>GATT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Harrington"/>
              </a:rPr>
              <a:t>( </a:t>
            </a:r>
            <a:r>
              <a:rPr b="1" i="1" lang="en-US" sz="3200" spc="-1" strike="noStrike">
                <a:solidFill>
                  <a:srgbClr val="ffff00"/>
                </a:solidFill>
                <a:latin typeface="Harrington"/>
              </a:rPr>
              <a:t>General Agreement on Tariff and Tr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el 1947, 23 Paesi raggiunsero un primo accordo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la riduzione dei diritti doganali sulle mer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2997360"/>
            <a:ext cx="2016360" cy="108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incip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ssenzial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el G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48000" y="3933720"/>
            <a:ext cx="503280" cy="7905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3933720"/>
            <a:ext cx="432000" cy="7905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1943280" cy="129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p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iscrimin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ommerci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a 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869000"/>
            <a:ext cx="1873440" cy="129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op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iscrimin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a i dive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do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020000" y="2997360"/>
            <a:ext cx="1562040" cy="14094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2484360" y="6524640"/>
            <a:ext cx="358920" cy="333360"/>
          </a:xfrm>
          <a:custGeom>
            <a:avLst/>
            <a:gdLst>
              <a:gd name="textAreaLeft" fmla="*/ 21600 w 358920"/>
              <a:gd name="textAreaRight" fmla="*/ 337320 w 358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854" y="1400"/>
                </a:lnTo>
                <a:lnTo>
                  <a:pt x="1400" y="140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854" y="20200"/>
                </a:lnTo>
                <a:lnTo>
                  <a:pt x="21854" y="140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4" y="2020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4" h="21600">
                <a:moveTo>
                  <a:pt x="11627" y="3837"/>
                </a:moveTo>
                <a:lnTo>
                  <a:pt x="14203" y="6448"/>
                </a:lnTo>
                <a:lnTo>
                  <a:pt x="14203" y="4707"/>
                </a:lnTo>
                <a:lnTo>
                  <a:pt x="15979" y="4707"/>
                </a:lnTo>
                <a:lnTo>
                  <a:pt x="15979" y="8224"/>
                </a:lnTo>
                <a:lnTo>
                  <a:pt x="18590" y="10800"/>
                </a:lnTo>
                <a:lnTo>
                  <a:pt x="16936" y="10800"/>
                </a:lnTo>
                <a:lnTo>
                  <a:pt x="16936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4" y="10800"/>
                </a:lnTo>
                <a:close/>
              </a:path>
              <a:path fill="darkenLess" w="23254" h="21600">
                <a:moveTo>
                  <a:pt x="14203" y="6448"/>
                </a:moveTo>
                <a:lnTo>
                  <a:pt x="14203" y="4707"/>
                </a:lnTo>
                <a:lnTo>
                  <a:pt x="15979" y="4707"/>
                </a:lnTo>
                <a:lnTo>
                  <a:pt x="15979" y="8224"/>
                </a:lnTo>
                <a:close/>
              </a:path>
              <a:path fill="darkenLess" w="23254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6" y="17989"/>
                </a:lnTo>
                <a:lnTo>
                  <a:pt x="16936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2124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284328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GRAF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346-9A0B-4CF2-AC86-C58521647A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193AE-0016-44CB-8697-3C27302B0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800"/>
                            </p:stCondLst>
                            <p:childTnLst>
                              <p:par>
                                <p:cTn id="5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8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6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9200"/>
                            </p:stCondLst>
                            <p:childTnLst>
                              <p:par>
                                <p:cTn id="6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600"/>
                            </p:stCondLst>
                            <p:childTnLst>
                              <p:par>
                                <p:cTn id="6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36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41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CC5-1289-4230-9845-609A677B96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BCCF2-71E7-4225-9FD6-8DB410D7C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astellar"/>
              </a:rPr>
              <a:t>WTO</a:t>
            </a:r>
            <a:br>
              <a:rPr sz="40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 World Trade Organiz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Il WTO nasce il 1° gennaio 1995, sostitui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il GATT, rafforzando il suo potere esec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00"/>
                </a:solidFill>
                <a:latin typeface="Times New Roman"/>
              </a:rPr>
              <a:t>Comp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Vegliare sull’ applicazione degli accordi di Marrak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Amministrare le procedure per la regolamentazione 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conflitti tra gli Stati memb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51760" y="260280"/>
            <a:ext cx="1992240" cy="130644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305928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2700360" y="6453360"/>
            <a:ext cx="358920" cy="404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349">
                <a:moveTo>
                  <a:pt x="0" y="0"/>
                </a:moveTo>
                <a:lnTo>
                  <a:pt x="21600" y="0"/>
                </a:lnTo>
                <a:lnTo>
                  <a:pt x="21600" y="24349"/>
                </a:lnTo>
                <a:lnTo>
                  <a:pt x="0" y="24349"/>
                </a:lnTo>
                <a:close/>
              </a:path>
              <a:path fill="lightenLess" w="21600" h="243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49">
                <a:moveTo>
                  <a:pt x="21600" y="0"/>
                </a:moveTo>
                <a:lnTo>
                  <a:pt x="21600" y="24349"/>
                </a:lnTo>
                <a:lnTo>
                  <a:pt x="20200" y="22949"/>
                </a:lnTo>
                <a:lnTo>
                  <a:pt x="20200" y="1400"/>
                </a:lnTo>
                <a:close/>
              </a:path>
              <a:path fill="darkenLess" w="21600" h="24349">
                <a:moveTo>
                  <a:pt x="21600" y="24349"/>
                </a:moveTo>
                <a:lnTo>
                  <a:pt x="0" y="24349"/>
                </a:lnTo>
                <a:lnTo>
                  <a:pt x="1400" y="22949"/>
                </a:lnTo>
                <a:lnTo>
                  <a:pt x="20200" y="22949"/>
                </a:lnTo>
                <a:close/>
              </a:path>
              <a:path fill="lighten" w="21600" h="24349">
                <a:moveTo>
                  <a:pt x="0" y="243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49"/>
                </a:lnTo>
                <a:close/>
              </a:path>
              <a:path fill="darken" w="21600" h="24349">
                <a:moveTo>
                  <a:pt x="3794" y="12174"/>
                </a:moveTo>
                <a:lnTo>
                  <a:pt x="17806" y="5168"/>
                </a:lnTo>
                <a:lnTo>
                  <a:pt x="17806" y="191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3419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5119"/>
                </a:moveTo>
                <a:lnTo>
                  <a:pt x="17806" y="12126"/>
                </a:lnTo>
                <a:lnTo>
                  <a:pt x="3794" y="1913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GRAF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E10-47F6-4254-BA00-5727107309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5771F-49F8-4A41-B149-92F516BD9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6250"/>
                            </p:stCondLst>
                            <p:childTnLst>
                              <p:par>
                                <p:cTn id="6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8250"/>
                            </p:stCondLst>
                            <p:childTnLst>
                              <p:par>
                                <p:cTn id="6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DAB-E3EB-485E-8D54-22A36E03B6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D1F87-9A5D-4FE6-A8A4-93C32396E2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00"/>
                </a:solidFill>
                <a:latin typeface="Harrington"/>
              </a:rPr>
              <a:t>ECONOMIA AZIENDALE: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Harrington"/>
              </a:rPr>
              <a:t>LA BA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Lo sviluppo industriale degli anni “50” fu sostenuto 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stema bancario che aveva una struttura solida garant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alla riforma bancaria del 19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unzione della ban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Raccolt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redito indiretto                 Imp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fondi                                                                 fo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redito dir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141720"/>
            <a:ext cx="2376360" cy="718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TERME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ANZ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429000"/>
            <a:ext cx="1368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3429000"/>
            <a:ext cx="0" cy="1512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941720"/>
            <a:ext cx="2662200" cy="574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ggetti in disavan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anzi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941720"/>
            <a:ext cx="2665440" cy="574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ggetti in avan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anz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5157720"/>
            <a:ext cx="2016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050920" y="3429000"/>
            <a:ext cx="0" cy="1512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429000"/>
            <a:ext cx="1225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08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451640" y="2852640"/>
            <a:ext cx="1513080" cy="1346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2050920" y="6453360"/>
            <a:ext cx="433440" cy="40464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36" h="21600">
                <a:moveTo>
                  <a:pt x="0" y="0"/>
                </a:moveTo>
                <a:lnTo>
                  <a:pt x="23136" y="0"/>
                </a:lnTo>
                <a:lnTo>
                  <a:pt x="23136" y="21600"/>
                </a:lnTo>
                <a:lnTo>
                  <a:pt x="0" y="21600"/>
                </a:lnTo>
                <a:close/>
              </a:path>
              <a:path fill="lightenLess" w="23136" h="21600">
                <a:moveTo>
                  <a:pt x="0" y="0"/>
                </a:moveTo>
                <a:lnTo>
                  <a:pt x="23136" y="0"/>
                </a:lnTo>
                <a:lnTo>
                  <a:pt x="21736" y="1400"/>
                </a:lnTo>
                <a:lnTo>
                  <a:pt x="1400" y="1400"/>
                </a:lnTo>
                <a:close/>
              </a:path>
              <a:path fill="darken" w="23136" h="21600">
                <a:moveTo>
                  <a:pt x="23136" y="0"/>
                </a:moveTo>
                <a:lnTo>
                  <a:pt x="23136" y="21600"/>
                </a:lnTo>
                <a:lnTo>
                  <a:pt x="21736" y="20200"/>
                </a:lnTo>
                <a:lnTo>
                  <a:pt x="21736" y="1400"/>
                </a:lnTo>
                <a:close/>
              </a:path>
              <a:path fill="darkenLess" w="23136" h="21600">
                <a:moveTo>
                  <a:pt x="23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6" y="20200"/>
                </a:lnTo>
                <a:close/>
              </a:path>
              <a:path fill="lighten" w="23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6" h="21600">
                <a:moveTo>
                  <a:pt x="11568" y="3837"/>
                </a:moveTo>
                <a:lnTo>
                  <a:pt x="14144" y="6448"/>
                </a:lnTo>
                <a:lnTo>
                  <a:pt x="14144" y="4707"/>
                </a:lnTo>
                <a:lnTo>
                  <a:pt x="15920" y="4707"/>
                </a:lnTo>
                <a:lnTo>
                  <a:pt x="15920" y="8224"/>
                </a:lnTo>
                <a:lnTo>
                  <a:pt x="18531" y="10800"/>
                </a:lnTo>
                <a:lnTo>
                  <a:pt x="16877" y="10800"/>
                </a:lnTo>
                <a:lnTo>
                  <a:pt x="16877" y="17989"/>
                </a:lnTo>
                <a:lnTo>
                  <a:pt x="6259" y="17989"/>
                </a:lnTo>
                <a:lnTo>
                  <a:pt x="6259" y="10800"/>
                </a:lnTo>
                <a:lnTo>
                  <a:pt x="4605" y="10800"/>
                </a:lnTo>
                <a:close/>
              </a:path>
              <a:path fill="darkenLess" w="23136" h="21600">
                <a:moveTo>
                  <a:pt x="14144" y="6448"/>
                </a:moveTo>
                <a:lnTo>
                  <a:pt x="14144" y="4707"/>
                </a:lnTo>
                <a:lnTo>
                  <a:pt x="15920" y="4707"/>
                </a:lnTo>
                <a:lnTo>
                  <a:pt x="15920" y="8224"/>
                </a:lnTo>
                <a:close/>
              </a:path>
              <a:path fill="darkenLess" w="23136" h="21600">
                <a:moveTo>
                  <a:pt x="10645" y="14299"/>
                </a:moveTo>
                <a:lnTo>
                  <a:pt x="12491" y="14299"/>
                </a:lnTo>
                <a:lnTo>
                  <a:pt x="12491" y="17989"/>
                </a:lnTo>
                <a:lnTo>
                  <a:pt x="16877" y="17989"/>
                </a:lnTo>
                <a:lnTo>
                  <a:pt x="16877" y="10800"/>
                </a:lnTo>
                <a:lnTo>
                  <a:pt x="6259" y="10800"/>
                </a:lnTo>
                <a:lnTo>
                  <a:pt x="6259" y="17989"/>
                </a:lnTo>
                <a:lnTo>
                  <a:pt x="10645" y="17989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16192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6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248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C33-302B-491C-A536-8D686FB4AE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61294-75C0-48B4-B677-D2E3AA3564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500"/>
                            </p:stCondLst>
                            <p:childTnLst>
                              <p:par>
                                <p:cTn id="6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500"/>
                            </p:stCondLst>
                            <p:childTnLst>
                              <p:par>
                                <p:cTn id="7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7350"/>
                            </p:stCondLst>
                            <p:childTnLst>
                              <p:par>
                                <p:cTn id="7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3250"/>
                            </p:stCondLst>
                            <p:childTnLst>
                              <p:par>
                                <p:cTn id="7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6950"/>
                            </p:stCondLst>
                            <p:childTnLst>
                              <p:par>
                                <p:cTn id="7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9750"/>
                            </p:stCondLst>
                            <p:childTnLst>
                              <p:par>
                                <p:cTn id="7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75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1250"/>
                            </p:stCondLst>
                            <p:childTnLst>
                              <p:par>
                                <p:cTn id="7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1750"/>
                            </p:stCondLst>
                            <p:childTnLst>
                              <p:par>
                                <p:cTn id="7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2250"/>
                            </p:stCondLst>
                            <p:childTnLst>
                              <p:par>
                                <p:cTn id="7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2750"/>
                            </p:stCondLst>
                            <p:childTnLst>
                              <p:par>
                                <p:cTn id="7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325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3750"/>
                            </p:stCondLst>
                            <p:childTnLst>
                              <p:par>
                                <p:cTn id="7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425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4750"/>
                            </p:stCondLst>
                            <p:childTnLst>
                              <p:par>
                                <p:cTn id="7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750"/>
                            </p:stCondLst>
                            <p:childTnLst>
                              <p:par>
                                <p:cTn id="7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6750"/>
                            </p:stCondLst>
                            <p:childTnLst>
                              <p:par>
                                <p:cTn id="8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astellar"/>
              </a:rPr>
              <a:t>RIFORMA BANCARIA DEL 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iforma bancaria del 1936 - 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ggiava essenz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 tre pu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tituzione di u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ganismo stata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nte funzioni di alta vigilanza e di direzione politica dell'attività creditiz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zione dell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cializzazione istituzionale, temporale e operativ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gli enti creditizi (distinzione tra banche operanti a breve termine e istituti operanti a medio - lungo termine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parazione fra banca e industri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819080" cy="156240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212400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10800" y="5567"/>
                </a:moveTo>
                <a:lnTo>
                  <a:pt x="13376" y="8178"/>
                </a:ln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lnTo>
                  <a:pt x="17763" y="12530"/>
                </a:lnTo>
                <a:lnTo>
                  <a:pt x="16109" y="12530"/>
                </a:lnTo>
                <a:lnTo>
                  <a:pt x="16109" y="19719"/>
                </a:lnTo>
                <a:lnTo>
                  <a:pt x="5491" y="19719"/>
                </a:lnTo>
                <a:lnTo>
                  <a:pt x="5491" y="12530"/>
                </a:lnTo>
                <a:lnTo>
                  <a:pt x="3837" y="12530"/>
                </a:lnTo>
                <a:close/>
              </a:path>
              <a:path fill="darkenLess" w="21600" h="25060">
                <a:moveTo>
                  <a:pt x="13376" y="8178"/>
                </a:moveTo>
                <a:lnTo>
                  <a:pt x="13376" y="6438"/>
                </a:lnTo>
                <a:lnTo>
                  <a:pt x="15152" y="6438"/>
                </a:lnTo>
                <a:lnTo>
                  <a:pt x="15152" y="9954"/>
                </a:lnTo>
                <a:close/>
              </a:path>
              <a:path fill="darkenLess" w="21600" h="25060">
                <a:moveTo>
                  <a:pt x="9877" y="16029"/>
                </a:moveTo>
                <a:lnTo>
                  <a:pt x="11723" y="16029"/>
                </a:lnTo>
                <a:lnTo>
                  <a:pt x="11723" y="19719"/>
                </a:lnTo>
                <a:lnTo>
                  <a:pt x="16109" y="19719"/>
                </a:lnTo>
                <a:lnTo>
                  <a:pt x="16109" y="12530"/>
                </a:lnTo>
                <a:lnTo>
                  <a:pt x="5491" y="12530"/>
                </a:lnTo>
                <a:lnTo>
                  <a:pt x="5491" y="19719"/>
                </a:lnTo>
                <a:lnTo>
                  <a:pt x="9877" y="19719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835280" y="6524640"/>
            <a:ext cx="288720" cy="333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35">
                <a:moveTo>
                  <a:pt x="0" y="0"/>
                </a:moveTo>
                <a:lnTo>
                  <a:pt x="21600" y="0"/>
                </a:lnTo>
                <a:lnTo>
                  <a:pt x="21600" y="24935"/>
                </a:lnTo>
                <a:lnTo>
                  <a:pt x="0" y="24935"/>
                </a:lnTo>
                <a:close/>
              </a:path>
              <a:path fill="lightenLess" w="21600" h="249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5">
                <a:moveTo>
                  <a:pt x="21600" y="0"/>
                </a:moveTo>
                <a:lnTo>
                  <a:pt x="21600" y="24935"/>
                </a:lnTo>
                <a:lnTo>
                  <a:pt x="20200" y="23535"/>
                </a:lnTo>
                <a:lnTo>
                  <a:pt x="20200" y="1400"/>
                </a:lnTo>
                <a:close/>
              </a:path>
              <a:path fill="darkenLess" w="21600" h="24935">
                <a:moveTo>
                  <a:pt x="21600" y="24935"/>
                </a:moveTo>
                <a:lnTo>
                  <a:pt x="0" y="24935"/>
                </a:lnTo>
                <a:lnTo>
                  <a:pt x="1400" y="23535"/>
                </a:lnTo>
                <a:lnTo>
                  <a:pt x="20200" y="23535"/>
                </a:lnTo>
                <a:close/>
              </a:path>
              <a:path fill="lighten" w="21600" h="24935">
                <a:moveTo>
                  <a:pt x="0" y="249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5"/>
                </a:lnTo>
                <a:close/>
              </a:path>
              <a:path fill="darken" w="21600" h="24935">
                <a:moveTo>
                  <a:pt x="3794" y="12468"/>
                </a:moveTo>
                <a:lnTo>
                  <a:pt x="17806" y="5461"/>
                </a:lnTo>
                <a:lnTo>
                  <a:pt x="17806" y="19474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2411280" y="652464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3794" y="5446"/>
                </a:moveTo>
                <a:lnTo>
                  <a:pt x="17806" y="12452"/>
                </a:lnTo>
                <a:lnTo>
                  <a:pt x="3794" y="19459"/>
                </a:lnTo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0D9-71DD-48A1-B4EB-ED4D798CAD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537D8-15EA-4157-B349-F9CCE3F65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100"/>
                            </p:stCondLst>
                            <p:childTnLst>
                              <p:par>
                                <p:cTn id="8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1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6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1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6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1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99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cc"/>
                </a:solidFill>
                <a:latin typeface="Castellar"/>
              </a:rPr>
              <a:t>LE OPERAZIONI DI IMPIEGO FON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Harrington"/>
              </a:rPr>
              <a:t>IL FIDO BANC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Harrington"/>
              </a:rPr>
              <a:t>PORTAFOGLIO SALVO BUON 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60760" cy="237816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2340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270036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2050920" y="652464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3794" y="12452"/>
                </a:moveTo>
                <a:lnTo>
                  <a:pt x="17806" y="5446"/>
                </a:lnTo>
                <a:lnTo>
                  <a:pt x="17806" y="1945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031-1C58-4EF4-A5E3-BDD95EF13A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4F531-09A9-4848-A4DC-FAB4BA19B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500"/>
                            </p:stCondLst>
                            <p:childTnLst>
                              <p:par>
                                <p:cTn id="8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0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6600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L F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765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333360"/>
            <a:ext cx="2808360" cy="122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81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o massimo di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 una banca conc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un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340000" y="836640"/>
            <a:ext cx="144000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2205000"/>
            <a:ext cx="1511280" cy="719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55280" y="2852640"/>
            <a:ext cx="57636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2852640"/>
            <a:ext cx="36036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3716280"/>
            <a:ext cx="12240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3716280"/>
            <a:ext cx="12952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836640"/>
            <a:ext cx="144000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2276640"/>
            <a:ext cx="2376360" cy="863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81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i fidi banc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516720" y="3068640"/>
            <a:ext cx="28872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01080" y="3068640"/>
            <a:ext cx="28728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4005360"/>
            <a:ext cx="14400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i assis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garan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4005360"/>
            <a:ext cx="14400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i basati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98100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000" y="1628640"/>
            <a:ext cx="1726920" cy="79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0066"/>
              </a:gs>
              <a:gs pos="100000">
                <a:srgbClr val="ffff00"/>
              </a:gs>
            </a:gsLst>
            <a:lin ang="81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f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708000" y="2421000"/>
            <a:ext cx="576360" cy="25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349360"/>
            <a:ext cx="648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5013360"/>
            <a:ext cx="1655640" cy="503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o di c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5013360"/>
            <a:ext cx="1727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8100000"/>
          </a:gra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o di 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695600" cy="1728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1979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00ff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340000" y="6524640"/>
            <a:ext cx="358920" cy="333360"/>
          </a:xfrm>
          <a:custGeom>
            <a:avLst/>
            <a:gdLst>
              <a:gd name="textAreaLeft" fmla="*/ 21600 w 358920"/>
              <a:gd name="textAreaRight" fmla="*/ 337320 w 358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854" y="1400"/>
                </a:lnTo>
                <a:lnTo>
                  <a:pt x="1400" y="140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854" y="20200"/>
                </a:lnTo>
                <a:lnTo>
                  <a:pt x="21854" y="140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4" y="2020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4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161928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67A-EDBD-4DA9-A9EF-561B7C9BC0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4DEF3-F07A-46A9-BF6C-F86C292A6B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500"/>
                            </p:stCondLst>
                            <p:childTnLst>
                              <p:par>
                                <p:cTn id="9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9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6500"/>
                            </p:stCondLst>
                            <p:childTnLst>
                              <p:par>
                                <p:cTn id="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0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7500"/>
                            </p:stCondLst>
                            <p:childTnLst>
                              <p:par>
                                <p:cTn id="9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9500"/>
                            </p:stCondLst>
                            <p:childTnLst>
                              <p:par>
                                <p:cTn id="9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ff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0066"/>
              </a:solidFill>
              <a:latin typeface="Harringto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83664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1125360"/>
            <a:ext cx="1295280" cy="172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2852640"/>
            <a:ext cx="2160360" cy="72072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50000">
                <a:srgbClr val="6600cc"/>
              </a:gs>
              <a:gs pos="100000">
                <a:srgbClr val="ff6699"/>
              </a:gs>
            </a:gsLst>
            <a:lin ang="81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Valuta matu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24000" y="3500280"/>
            <a:ext cx="28908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3500280"/>
            <a:ext cx="21564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4076640"/>
            <a:ext cx="1871640" cy="79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Eff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conc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di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4076640"/>
            <a:ext cx="1727280" cy="792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ff"/>
              </a:gs>
              <a:gs pos="100000">
                <a:srgbClr val="ffff00"/>
              </a:gs>
            </a:gsLst>
            <a:lin ang="81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Impor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disponibile 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scadenza ad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132000" y="1052640"/>
            <a:ext cx="1152720" cy="1728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2781360"/>
            <a:ext cx="2233440" cy="72072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ff0066"/>
              </a:gs>
            </a:gsLst>
            <a:lin ang="81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Dispon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immed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258920" y="3429000"/>
            <a:ext cx="936720" cy="576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3500280"/>
            <a:ext cx="72720" cy="1657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5157720"/>
            <a:ext cx="2735280" cy="100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ff"/>
              </a:gs>
              <a:gs pos="100000">
                <a:srgbClr val="ffff00"/>
              </a:gs>
            </a:gsLst>
            <a:lin ang="81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Attivazione del C/c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corrispondenza 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c/ anticipo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RI.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4076640"/>
            <a:ext cx="2232000" cy="792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ff"/>
              </a:gs>
              <a:gs pos="100000">
                <a:srgbClr val="ffff00"/>
              </a:gs>
            </a:gsLst>
            <a:lin ang="81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Accredito RI.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in un co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antic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0"/>
            <a:ext cx="3132000" cy="21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81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Portafoglio sb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operazioni con le quali vie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messa a disposizione, 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c/c dell’affidato,una somma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denaro pari al valore nomi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delle ricevute bancar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66"/>
                </a:solidFill>
                <a:latin typeface="Times New Roman"/>
              </a:rPr>
              <a:t>presen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873440" cy="17064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1979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2340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1619280" y="6524640"/>
            <a:ext cx="361800" cy="333360"/>
          </a:xfrm>
          <a:custGeom>
            <a:avLst/>
            <a:gdLst>
              <a:gd name="textAreaLeft" fmla="*/ 21600 w 361800"/>
              <a:gd name="textAreaRight" fmla="*/ 340200 w 3618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441" h="21600">
                <a:moveTo>
                  <a:pt x="0" y="0"/>
                </a:moveTo>
                <a:lnTo>
                  <a:pt x="23441" y="0"/>
                </a:lnTo>
                <a:lnTo>
                  <a:pt x="23441" y="21600"/>
                </a:lnTo>
                <a:lnTo>
                  <a:pt x="0" y="21600"/>
                </a:lnTo>
                <a:close/>
              </a:path>
              <a:path fill="lightenLess" w="23441" h="21600">
                <a:moveTo>
                  <a:pt x="0" y="0"/>
                </a:moveTo>
                <a:lnTo>
                  <a:pt x="23441" y="0"/>
                </a:lnTo>
                <a:lnTo>
                  <a:pt x="22041" y="1400"/>
                </a:lnTo>
                <a:lnTo>
                  <a:pt x="1400" y="1400"/>
                </a:lnTo>
                <a:close/>
              </a:path>
              <a:path fill="darken" w="23441" h="21600">
                <a:moveTo>
                  <a:pt x="23441" y="0"/>
                </a:moveTo>
                <a:lnTo>
                  <a:pt x="23441" y="21600"/>
                </a:lnTo>
                <a:lnTo>
                  <a:pt x="22041" y="20200"/>
                </a:lnTo>
                <a:lnTo>
                  <a:pt x="22041" y="1400"/>
                </a:lnTo>
                <a:close/>
              </a:path>
              <a:path fill="darkenLess" w="23441" h="21600">
                <a:moveTo>
                  <a:pt x="23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1" y="20200"/>
                </a:lnTo>
                <a:close/>
              </a:path>
              <a:path fill="lighten" w="23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1" h="21600">
                <a:moveTo>
                  <a:pt x="4714" y="10800"/>
                </a:moveTo>
                <a:lnTo>
                  <a:pt x="18727" y="3794"/>
                </a:lnTo>
                <a:lnTo>
                  <a:pt x="1872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08360" y="333360"/>
            <a:ext cx="18716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b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EA8-FCD0-4D04-8E21-1EEFA492D0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1668-06C7-4C7D-A511-AA4F151FD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nformal Roman"/>
              </a:rPr>
              <a:t>IL NEORE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Il Neorealismo si afferma tra il 43’ e il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E’ una tendenza spontanea che nasce come bisogno per testimoniare l’ esperienza vissuta in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Maggiori espon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Cesare Pavesi                Elio Vittorini                   Primo L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arringto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74080" y="189000"/>
            <a:ext cx="157932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1571760" cy="15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1584360" cy="145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64000" y="4292640"/>
            <a:ext cx="1461960" cy="16574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1908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2268360" y="6524640"/>
            <a:ext cx="287640" cy="33336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29">
                <a:moveTo>
                  <a:pt x="0" y="0"/>
                </a:moveTo>
                <a:lnTo>
                  <a:pt x="21600" y="0"/>
                </a:lnTo>
                <a:lnTo>
                  <a:pt x="21600" y="25029"/>
                </a:lnTo>
                <a:lnTo>
                  <a:pt x="0" y="25029"/>
                </a:lnTo>
                <a:close/>
              </a:path>
              <a:path fill="lightenLess" w="21600" h="250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29">
                <a:moveTo>
                  <a:pt x="21600" y="0"/>
                </a:moveTo>
                <a:lnTo>
                  <a:pt x="21600" y="25029"/>
                </a:lnTo>
                <a:lnTo>
                  <a:pt x="20200" y="23629"/>
                </a:lnTo>
                <a:lnTo>
                  <a:pt x="20200" y="1400"/>
                </a:lnTo>
                <a:close/>
              </a:path>
              <a:path fill="darkenLess" w="21600" h="25029">
                <a:moveTo>
                  <a:pt x="21600" y="25029"/>
                </a:moveTo>
                <a:lnTo>
                  <a:pt x="0" y="25029"/>
                </a:lnTo>
                <a:lnTo>
                  <a:pt x="1400" y="23629"/>
                </a:lnTo>
                <a:lnTo>
                  <a:pt x="20200" y="23629"/>
                </a:lnTo>
                <a:close/>
              </a:path>
              <a:path fill="lighten" w="21600" h="25029">
                <a:moveTo>
                  <a:pt x="0" y="250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29"/>
                </a:lnTo>
                <a:close/>
              </a:path>
              <a:path fill="darken" w="21600" h="25029">
                <a:moveTo>
                  <a:pt x="3794" y="5508"/>
                </a:moveTo>
                <a:lnTo>
                  <a:pt x="17806" y="12515"/>
                </a:lnTo>
                <a:lnTo>
                  <a:pt x="3794" y="195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1619280" y="6524640"/>
            <a:ext cx="288720" cy="333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35">
                <a:moveTo>
                  <a:pt x="0" y="0"/>
                </a:moveTo>
                <a:lnTo>
                  <a:pt x="21600" y="0"/>
                </a:lnTo>
                <a:lnTo>
                  <a:pt x="21600" y="24935"/>
                </a:lnTo>
                <a:lnTo>
                  <a:pt x="0" y="24935"/>
                </a:lnTo>
                <a:close/>
              </a:path>
              <a:path fill="lightenLess" w="21600" h="249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5">
                <a:moveTo>
                  <a:pt x="21600" y="0"/>
                </a:moveTo>
                <a:lnTo>
                  <a:pt x="21600" y="24935"/>
                </a:lnTo>
                <a:lnTo>
                  <a:pt x="20200" y="23535"/>
                </a:lnTo>
                <a:lnTo>
                  <a:pt x="20200" y="1400"/>
                </a:lnTo>
                <a:close/>
              </a:path>
              <a:path fill="darkenLess" w="21600" h="24935">
                <a:moveTo>
                  <a:pt x="21600" y="24935"/>
                </a:moveTo>
                <a:lnTo>
                  <a:pt x="0" y="24935"/>
                </a:lnTo>
                <a:lnTo>
                  <a:pt x="1400" y="23535"/>
                </a:lnTo>
                <a:lnTo>
                  <a:pt x="20200" y="23535"/>
                </a:lnTo>
                <a:close/>
              </a:path>
              <a:path fill="lighten" w="21600" h="24935">
                <a:moveTo>
                  <a:pt x="0" y="249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5"/>
                </a:lnTo>
                <a:close/>
              </a:path>
              <a:path fill="darken" w="21600" h="24935">
                <a:moveTo>
                  <a:pt x="3794" y="12468"/>
                </a:moveTo>
                <a:lnTo>
                  <a:pt x="17806" y="5461"/>
                </a:lnTo>
                <a:lnTo>
                  <a:pt x="17806" y="194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LIA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D82-DB74-4B2C-9E0C-2C6E0EB5AB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7CAD2-3CA6-42AF-B9D2-AF76F9070D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44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4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4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4340"/>
                            </p:stCondLst>
                            <p:childTnLst>
                              <p:par>
                                <p:cTn id="1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340"/>
                            </p:stCondLst>
                            <p:childTnLst>
                              <p:par>
                                <p:cTn id="1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34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stellar"/>
              </a:rPr>
              <a:t>Operazioni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Castellar"/>
              </a:rPr>
              <a:t>di RACCOLTA fo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Harrington"/>
              </a:rPr>
              <a:t>LIBR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Harrington"/>
              </a:rPr>
              <a:t>CONTI COR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1763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12400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5119"/>
                </a:moveTo>
                <a:lnTo>
                  <a:pt x="17806" y="12126"/>
                </a:lnTo>
                <a:lnTo>
                  <a:pt x="3794" y="1913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1476360" y="6453360"/>
            <a:ext cx="287280" cy="404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04640"/>
              <a:gd name="textAreaBottom" fmla="*/ 386280 h 404640"/>
            </a:gdLst>
            <a:ahLst/>
            <a:rect l="textAreaLeft" t="textAreaTop" r="textAreaRight" b="textAreaBottom"/>
            <a:pathLst>
              <a:path w="21600" h="30413">
                <a:moveTo>
                  <a:pt x="0" y="0"/>
                </a:moveTo>
                <a:lnTo>
                  <a:pt x="21600" y="0"/>
                </a:lnTo>
                <a:lnTo>
                  <a:pt x="21600" y="30413"/>
                </a:lnTo>
                <a:lnTo>
                  <a:pt x="0" y="30413"/>
                </a:lnTo>
                <a:close/>
              </a:path>
              <a:path fill="lightenLess" w="21600" h="30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413">
                <a:moveTo>
                  <a:pt x="21600" y="0"/>
                </a:moveTo>
                <a:lnTo>
                  <a:pt x="21600" y="30413"/>
                </a:lnTo>
                <a:lnTo>
                  <a:pt x="20200" y="29013"/>
                </a:lnTo>
                <a:lnTo>
                  <a:pt x="20200" y="1400"/>
                </a:lnTo>
                <a:close/>
              </a:path>
              <a:path fill="darkenLess" w="21600" h="30413">
                <a:moveTo>
                  <a:pt x="21600" y="30413"/>
                </a:moveTo>
                <a:lnTo>
                  <a:pt x="0" y="30413"/>
                </a:lnTo>
                <a:lnTo>
                  <a:pt x="1400" y="29013"/>
                </a:lnTo>
                <a:lnTo>
                  <a:pt x="20200" y="29013"/>
                </a:lnTo>
                <a:close/>
              </a:path>
              <a:path fill="lighten" w="21600" h="30413">
                <a:moveTo>
                  <a:pt x="0" y="30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013"/>
                </a:lnTo>
                <a:close/>
              </a:path>
              <a:path fill="darken" w="21600" h="30413">
                <a:moveTo>
                  <a:pt x="3794" y="15207"/>
                </a:moveTo>
                <a:lnTo>
                  <a:pt x="17806" y="8200"/>
                </a:lnTo>
                <a:lnTo>
                  <a:pt x="17806" y="2221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893-817C-4B06-B7EF-25AD709B54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ABBF0-D57C-4A32-B260-7D81A537FE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08b8"/>
            </a:gs>
            <a:gs pos="50000">
              <a:srgbClr val="fefefe"/>
            </a:gs>
            <a:gs pos="100000">
              <a:srgbClr val="d008b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981000"/>
            <a:ext cx="576360" cy="11541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68000" y="981000"/>
            <a:ext cx="505080" cy="115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771640" y="260280"/>
            <a:ext cx="3529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IBRET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2133720"/>
            <a:ext cx="1873080" cy="1081080"/>
          </a:xfrm>
          <a:prstGeom prst="ellipse">
            <a:avLst/>
          </a:prstGeom>
          <a:solidFill>
            <a:srgbClr val="ff0000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 MO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2133720"/>
            <a:ext cx="1727280" cy="108108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 RISPAR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1052640"/>
            <a:ext cx="0" cy="2305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3429000"/>
            <a:ext cx="3887640" cy="2736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Possono ess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Nomin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l port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Lib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Vincol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A seconda della presenza di vinc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si possono suddividere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Libretti a scadenza indeterm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Libretti a scadenza f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CONOMIA AZIENDA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5FF-0E95-4380-A1F2-494BB40B46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EAEDF-FFD4-42F1-89B9-61EB3D3B5F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00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ff"/>
                </a:solidFill>
                <a:latin typeface="Harrington"/>
              </a:rPr>
              <a:t>DIRITTO:</a:t>
            </a:r>
            <a:br>
              <a:rPr sz="4000"/>
            </a:br>
            <a:r>
              <a:rPr b="1" i="1" lang="en-US" sz="4000" spc="-1" strike="noStrike">
                <a:solidFill>
                  <a:srgbClr val="00ffff"/>
                </a:solidFill>
                <a:latin typeface="Harrington"/>
              </a:rPr>
              <a:t>LA COSTIT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La Costituzione è la legge fondamentale di uno Stato,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quanto contiene le norme e i principi essenz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dell’ ordinamento sta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213000"/>
            <a:ext cx="2232000" cy="72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ffff"/>
              </a:gs>
              <a:gs pos="100000">
                <a:srgbClr val="000000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COSTIT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2997360"/>
            <a:ext cx="0" cy="1079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4076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99736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2781360"/>
            <a:ext cx="1584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00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scri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3789360"/>
            <a:ext cx="1584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135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scri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299736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407664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6360" y="2781360"/>
            <a:ext cx="2808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è un unico docu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so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3789360"/>
            <a:ext cx="2808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risulta da documenti dive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e da consuetu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4869000"/>
            <a:ext cx="2158920" cy="72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000000"/>
              </a:gs>
              <a:gs pos="100000">
                <a:srgbClr val="00ffff"/>
              </a:gs>
            </a:gsLst>
            <a:lin ang="135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COSTIT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522936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724280"/>
            <a:ext cx="0" cy="1009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724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57340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4508640"/>
            <a:ext cx="15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00"/>
              </a:gs>
              <a:gs pos="100000">
                <a:srgbClr val="bbe0e3"/>
              </a:gs>
            </a:gsLst>
            <a:lin ang="135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br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5373720"/>
            <a:ext cx="15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00"/>
              </a:gs>
              <a:gs pos="100000">
                <a:srgbClr val="bbe0e3"/>
              </a:gs>
            </a:gsLst>
            <a:lin ang="135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l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4724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4581360"/>
            <a:ext cx="2808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disciplina solt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l’ organizzazione dello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5373720"/>
            <a:ext cx="2808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50000">
                <a:srgbClr val="ffff00"/>
              </a:gs>
              <a:gs pos="100000">
                <a:srgbClr val="ff0066"/>
              </a:gs>
            </a:gsLst>
            <a:lin ang="81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regola anche i dir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Times New Roman"/>
              </a:rPr>
              <a:t>e doveri dei citta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050920" cy="1577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 rot="5400000">
            <a:off x="-1422360" y="4203720"/>
            <a:ext cx="33782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Harrington"/>
              </a:rPr>
              <a:t>caratter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2268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11530" y="3837"/>
                </a:moveTo>
                <a:lnTo>
                  <a:pt x="14106" y="6448"/>
                </a:lnTo>
                <a:lnTo>
                  <a:pt x="14106" y="4707"/>
                </a:lnTo>
                <a:lnTo>
                  <a:pt x="15881" y="4707"/>
                </a:lnTo>
                <a:lnTo>
                  <a:pt x="15881" y="8224"/>
                </a:lnTo>
                <a:lnTo>
                  <a:pt x="18493" y="10800"/>
                </a:lnTo>
                <a:lnTo>
                  <a:pt x="16839" y="10800"/>
                </a:lnTo>
                <a:lnTo>
                  <a:pt x="16839" y="17989"/>
                </a:lnTo>
                <a:lnTo>
                  <a:pt x="6220" y="17989"/>
                </a:lnTo>
                <a:lnTo>
                  <a:pt x="6220" y="10800"/>
                </a:lnTo>
                <a:lnTo>
                  <a:pt x="4567" y="10800"/>
                </a:lnTo>
                <a:close/>
              </a:path>
              <a:path fill="darkenLess" w="23059" h="21600">
                <a:moveTo>
                  <a:pt x="14106" y="6448"/>
                </a:moveTo>
                <a:lnTo>
                  <a:pt x="14106" y="4707"/>
                </a:lnTo>
                <a:lnTo>
                  <a:pt x="15881" y="4707"/>
                </a:lnTo>
                <a:lnTo>
                  <a:pt x="15881" y="8224"/>
                </a:lnTo>
                <a:close/>
              </a:path>
              <a:path fill="darkenLess" w="23059" h="21600">
                <a:moveTo>
                  <a:pt x="10607" y="14299"/>
                </a:moveTo>
                <a:lnTo>
                  <a:pt x="12452" y="14299"/>
                </a:lnTo>
                <a:lnTo>
                  <a:pt x="12452" y="17989"/>
                </a:lnTo>
                <a:lnTo>
                  <a:pt x="16839" y="17989"/>
                </a:lnTo>
                <a:lnTo>
                  <a:pt x="16839" y="10800"/>
                </a:lnTo>
                <a:lnTo>
                  <a:pt x="6220" y="10800"/>
                </a:lnTo>
                <a:lnTo>
                  <a:pt x="6220" y="17989"/>
                </a:lnTo>
                <a:lnTo>
                  <a:pt x="10607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1835280" y="6453360"/>
            <a:ext cx="433080" cy="404640"/>
          </a:xfrm>
          <a:custGeom>
            <a:avLst/>
            <a:gdLst>
              <a:gd name="textAreaLeft" fmla="*/ 25920 w 433080"/>
              <a:gd name="textAreaRight" fmla="*/ 407160 w 4330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117" h="21600">
                <a:moveTo>
                  <a:pt x="0" y="0"/>
                </a:moveTo>
                <a:lnTo>
                  <a:pt x="23117" y="0"/>
                </a:lnTo>
                <a:lnTo>
                  <a:pt x="23117" y="21600"/>
                </a:lnTo>
                <a:lnTo>
                  <a:pt x="0" y="21600"/>
                </a:lnTo>
                <a:close/>
              </a:path>
              <a:path fill="lightenLess" w="23117" h="21600">
                <a:moveTo>
                  <a:pt x="0" y="0"/>
                </a:moveTo>
                <a:lnTo>
                  <a:pt x="23117" y="0"/>
                </a:lnTo>
                <a:lnTo>
                  <a:pt x="21717" y="1400"/>
                </a:lnTo>
                <a:lnTo>
                  <a:pt x="1400" y="1400"/>
                </a:lnTo>
                <a:close/>
              </a:path>
              <a:path fill="darken" w="23117" h="21600">
                <a:moveTo>
                  <a:pt x="23117" y="0"/>
                </a:moveTo>
                <a:lnTo>
                  <a:pt x="23117" y="21600"/>
                </a:lnTo>
                <a:lnTo>
                  <a:pt x="21717" y="20200"/>
                </a:lnTo>
                <a:lnTo>
                  <a:pt x="21717" y="1400"/>
                </a:lnTo>
                <a:close/>
              </a:path>
              <a:path fill="darkenLess" w="23117" h="21600">
                <a:moveTo>
                  <a:pt x="23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7" y="20200"/>
                </a:lnTo>
                <a:close/>
              </a:path>
              <a:path fill="lighten" w="23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7" h="21600">
                <a:moveTo>
                  <a:pt x="4552" y="10800"/>
                </a:moveTo>
                <a:lnTo>
                  <a:pt x="18565" y="3794"/>
                </a:lnTo>
                <a:lnTo>
                  <a:pt x="18565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2700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IT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BFE-52B0-4FD0-AEB8-128037B177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819B-D51E-4741-AC0B-8544C3E991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42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100"/>
                            </p:stCondLst>
                            <p:childTnLst>
                              <p:par>
                                <p:cTn id="1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7100"/>
                            </p:stCondLst>
                            <p:childTnLst>
                              <p:par>
                                <p:cTn id="1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91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9600"/>
                            </p:stCondLst>
                            <p:childTnLst>
                              <p:par>
                                <p:cTn id="1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1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1100"/>
                            </p:stCondLst>
                            <p:childTnLst>
                              <p:par>
                                <p:cTn id="1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3100"/>
                            </p:stCondLst>
                            <p:childTnLst>
                              <p:par>
                                <p:cTn id="1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410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100"/>
                            </p:stCondLst>
                            <p:childTnLst>
                              <p:par>
                                <p:cTn id="1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6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76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8100"/>
                            </p:stCondLst>
                            <p:childTnLst>
                              <p:par>
                                <p:cTn id="11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1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9600"/>
                            </p:stCondLst>
                            <p:childTnLst>
                              <p:par>
                                <p:cTn id="1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100"/>
                            </p:stCondLst>
                            <p:childTnLst>
                              <p:par>
                                <p:cTn id="1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6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11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26920" y="1341360"/>
            <a:ext cx="194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OSTIT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1700280"/>
            <a:ext cx="5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1052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34936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836640"/>
            <a:ext cx="172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onc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64000" y="2060640"/>
            <a:ext cx="172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135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vo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92720" y="1052640"/>
            <a:ext cx="43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24360" y="836640"/>
            <a:ext cx="2376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è data dall’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dal sov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2060640"/>
            <a:ext cx="2376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è approvata dal b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dal po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4005360"/>
            <a:ext cx="194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OSTIT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4365720"/>
            <a:ext cx="5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3716280"/>
            <a:ext cx="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71628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94172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3429000"/>
            <a:ext cx="17287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fles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4000" y="4653000"/>
            <a:ext cx="17287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ri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92720" y="3716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4941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306864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ha lo stesso gr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o valore di una leg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ordinaria ed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odificabile con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ocedura nor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6000" y="4437000"/>
            <a:ext cx="23763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ff"/>
              </a:gs>
              <a:gs pos="50000">
                <a:srgbClr val="0000ff"/>
              </a:gs>
              <a:gs pos="100000">
                <a:srgbClr val="ff00ff"/>
              </a:gs>
            </a:gsLst>
            <a:lin ang="81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ha un grado o v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uperiore a una leg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ordinaria ed 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odificabile con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ocedura spe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 rot="5400000">
            <a:off x="-2287080" y="2763000"/>
            <a:ext cx="54007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ratter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12400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11530" y="3837"/>
                </a:moveTo>
                <a:lnTo>
                  <a:pt x="14106" y="6448"/>
                </a:lnTo>
                <a:lnTo>
                  <a:pt x="14106" y="4707"/>
                </a:lnTo>
                <a:lnTo>
                  <a:pt x="15881" y="4707"/>
                </a:lnTo>
                <a:lnTo>
                  <a:pt x="15881" y="8224"/>
                </a:lnTo>
                <a:lnTo>
                  <a:pt x="18493" y="10800"/>
                </a:lnTo>
                <a:lnTo>
                  <a:pt x="16839" y="10800"/>
                </a:lnTo>
                <a:lnTo>
                  <a:pt x="16839" y="17989"/>
                </a:lnTo>
                <a:lnTo>
                  <a:pt x="6220" y="17989"/>
                </a:lnTo>
                <a:lnTo>
                  <a:pt x="6220" y="10800"/>
                </a:lnTo>
                <a:lnTo>
                  <a:pt x="4567" y="10800"/>
                </a:lnTo>
                <a:close/>
              </a:path>
              <a:path fill="darkenLess" w="23059" h="21600">
                <a:moveTo>
                  <a:pt x="14106" y="6448"/>
                </a:moveTo>
                <a:lnTo>
                  <a:pt x="14106" y="4707"/>
                </a:lnTo>
                <a:lnTo>
                  <a:pt x="15881" y="4707"/>
                </a:lnTo>
                <a:lnTo>
                  <a:pt x="15881" y="8224"/>
                </a:lnTo>
                <a:close/>
              </a:path>
              <a:path fill="darkenLess" w="23059" h="21600">
                <a:moveTo>
                  <a:pt x="10607" y="14299"/>
                </a:moveTo>
                <a:lnTo>
                  <a:pt x="12452" y="14299"/>
                </a:lnTo>
                <a:lnTo>
                  <a:pt x="12452" y="17989"/>
                </a:lnTo>
                <a:lnTo>
                  <a:pt x="16839" y="17989"/>
                </a:lnTo>
                <a:lnTo>
                  <a:pt x="16839" y="10800"/>
                </a:lnTo>
                <a:lnTo>
                  <a:pt x="6220" y="10800"/>
                </a:lnTo>
                <a:lnTo>
                  <a:pt x="6220" y="17989"/>
                </a:lnTo>
                <a:lnTo>
                  <a:pt x="10607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1692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255600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ITT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D23-837C-43FB-AFE7-99C6E474C87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1D9BA-B031-424E-B8CC-BD2FDA4D2E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750"/>
                            </p:stCondLst>
                            <p:childTnLst>
                              <p:par>
                                <p:cTn id="12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6250"/>
                            </p:stCondLst>
                            <p:childTnLst>
                              <p:par>
                                <p:cTn id="12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6750"/>
                            </p:stCondLst>
                            <p:childTnLst>
                              <p:par>
                                <p:cTn id="1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250"/>
                            </p:stCondLst>
                            <p:childTnLst>
                              <p:par>
                                <p:cTn id="1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85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1350"/>
                            </p:stCondLst>
                            <p:childTnLst>
                              <p:par>
                                <p:cTn id="12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1850"/>
                            </p:stCondLst>
                            <p:childTnLst>
                              <p:par>
                                <p:cTn id="13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235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85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335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3790"/>
                            </p:stCondLst>
                            <p:childTnLst>
                              <p:par>
                                <p:cTn id="1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4790"/>
                            </p:stCondLst>
                            <p:childTnLst>
                              <p:par>
                                <p:cTn id="13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5290"/>
                            </p:stCondLst>
                            <p:childTnLst>
                              <p:par>
                                <p:cTn id="13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5790"/>
                            </p:stCondLst>
                            <p:childTnLst>
                              <p:par>
                                <p:cTn id="1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4490"/>
                            </p:stCondLst>
                            <p:childTnLst>
                              <p:par>
                                <p:cTn id="1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889-3B12-40FB-9B82-7E6F842951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BA192-4D44-419B-A305-BF2DF72ECD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astellar"/>
              </a:rPr>
              <a:t>Scienza delle finanze: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astellar"/>
              </a:rPr>
              <a:t>l’ impos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L’ imposta si configura come una prestazione in denaro, istituita e regolata d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legge e posta a carico dai contribuenti in relazione alla ricchezza di cui god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econdo principi di equ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3933720"/>
            <a:ext cx="12952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L’ im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292640"/>
            <a:ext cx="2887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68360" y="3789360"/>
            <a:ext cx="0" cy="100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3789360"/>
            <a:ext cx="287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4797360"/>
            <a:ext cx="287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56000" y="3645000"/>
            <a:ext cx="1584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È una pres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4653000"/>
            <a:ext cx="158436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Ha la funzion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3789360"/>
            <a:ext cx="215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4797360"/>
            <a:ext cx="215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56000" y="3213000"/>
            <a:ext cx="0" cy="1150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56000" y="436572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400536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57336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21300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3068640"/>
            <a:ext cx="1368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coat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3429000"/>
            <a:ext cx="1368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In dena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16360" y="3860640"/>
            <a:ext cx="172728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revista dalle leg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4221000"/>
            <a:ext cx="3672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Commisurata alla capacità contrib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56000" y="4581360"/>
            <a:ext cx="0" cy="432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56000" y="458136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5013360"/>
            <a:ext cx="36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4508640"/>
            <a:ext cx="4103640" cy="21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Strumento di finanziamento della spesa pub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16360" y="4869000"/>
            <a:ext cx="3240360" cy="21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Strumento di politica econo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183528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1476360" y="6453360"/>
            <a:ext cx="358920" cy="404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349">
                <a:moveTo>
                  <a:pt x="0" y="0"/>
                </a:moveTo>
                <a:lnTo>
                  <a:pt x="21600" y="0"/>
                </a:lnTo>
                <a:lnTo>
                  <a:pt x="21600" y="24349"/>
                </a:lnTo>
                <a:lnTo>
                  <a:pt x="0" y="24349"/>
                </a:lnTo>
                <a:close/>
              </a:path>
              <a:path fill="lightenLess" w="21600" h="243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49">
                <a:moveTo>
                  <a:pt x="21600" y="0"/>
                </a:moveTo>
                <a:lnTo>
                  <a:pt x="21600" y="24349"/>
                </a:lnTo>
                <a:lnTo>
                  <a:pt x="20200" y="22949"/>
                </a:lnTo>
                <a:lnTo>
                  <a:pt x="20200" y="1400"/>
                </a:lnTo>
                <a:close/>
              </a:path>
              <a:path fill="darkenLess" w="21600" h="24349">
                <a:moveTo>
                  <a:pt x="21600" y="24349"/>
                </a:moveTo>
                <a:lnTo>
                  <a:pt x="0" y="24349"/>
                </a:lnTo>
                <a:lnTo>
                  <a:pt x="1400" y="22949"/>
                </a:lnTo>
                <a:lnTo>
                  <a:pt x="20200" y="22949"/>
                </a:lnTo>
                <a:close/>
              </a:path>
              <a:path fill="lighten" w="21600" h="24349">
                <a:moveTo>
                  <a:pt x="0" y="243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49"/>
                </a:lnTo>
                <a:close/>
              </a:path>
              <a:path fill="darken" w="21600" h="24349">
                <a:moveTo>
                  <a:pt x="3794" y="12174"/>
                </a:moveTo>
                <a:lnTo>
                  <a:pt x="17806" y="5168"/>
                </a:lnTo>
                <a:lnTo>
                  <a:pt x="17806" y="19181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195640" y="6453360"/>
            <a:ext cx="358560" cy="404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373">
                <a:moveTo>
                  <a:pt x="0" y="0"/>
                </a:moveTo>
                <a:lnTo>
                  <a:pt x="21600" y="0"/>
                </a:lnTo>
                <a:lnTo>
                  <a:pt x="21600" y="24373"/>
                </a:lnTo>
                <a:lnTo>
                  <a:pt x="0" y="24373"/>
                </a:lnTo>
                <a:close/>
              </a:path>
              <a:path fill="lightenLess" w="21600" h="24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73">
                <a:moveTo>
                  <a:pt x="21600" y="0"/>
                </a:moveTo>
                <a:lnTo>
                  <a:pt x="21600" y="24373"/>
                </a:lnTo>
                <a:lnTo>
                  <a:pt x="20200" y="22973"/>
                </a:lnTo>
                <a:lnTo>
                  <a:pt x="20200" y="1400"/>
                </a:lnTo>
                <a:close/>
              </a:path>
              <a:path fill="darkenLess" w="21600" h="24373">
                <a:moveTo>
                  <a:pt x="21600" y="24373"/>
                </a:moveTo>
                <a:lnTo>
                  <a:pt x="0" y="24373"/>
                </a:lnTo>
                <a:lnTo>
                  <a:pt x="1400" y="22973"/>
                </a:lnTo>
                <a:lnTo>
                  <a:pt x="20200" y="22973"/>
                </a:lnTo>
                <a:close/>
              </a:path>
              <a:path fill="lighten" w="21600" h="24373">
                <a:moveTo>
                  <a:pt x="0" y="24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73"/>
                </a:lnTo>
                <a:close/>
              </a:path>
              <a:path fill="darken" w="21600" h="24373">
                <a:moveTo>
                  <a:pt x="3794" y="5180"/>
                </a:moveTo>
                <a:lnTo>
                  <a:pt x="17806" y="12187"/>
                </a:lnTo>
                <a:lnTo>
                  <a:pt x="3794" y="19193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093080" y="2349360"/>
            <a:ext cx="1726920" cy="15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ZA DELLE FINANZ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FE2-2715-4B67-BF4F-434544D3B1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D4BF2-68E4-4501-B4C0-5B647C9228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4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5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3340"/>
                            </p:stCondLst>
                            <p:childTnLst>
                              <p:par>
                                <p:cTn id="1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100"/>
                            </p:stCondLst>
                            <p:childTnLst>
                              <p:par>
                                <p:cTn id="1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5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7" dur="8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7100"/>
                            </p:stCondLst>
                            <p:childTnLst>
                              <p:par>
                                <p:cTn id="1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76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81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6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9100"/>
                            </p:stCondLst>
                            <p:childTnLst>
                              <p:par>
                                <p:cTn id="1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9600"/>
                            </p:stCondLst>
                            <p:childTnLst>
                              <p:par>
                                <p:cTn id="1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11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21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9700"/>
                            </p:stCondLst>
                            <p:childTnLst>
                              <p:par>
                                <p:cTn id="14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41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4600"/>
                            </p:stCondLst>
                            <p:childTnLst>
                              <p:par>
                                <p:cTn id="1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2510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256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6100"/>
                            </p:stCondLst>
                            <p:childTnLst>
                              <p:par>
                                <p:cTn id="14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31200"/>
                            </p:stCondLst>
                            <p:childTnLst>
                              <p:par>
                                <p:cTn id="14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34900"/>
                            </p:stCondLst>
                            <p:childTnLst>
                              <p:par>
                                <p:cTn id="14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ff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Harrington"/>
              </a:rPr>
              <a:t>FRANCESE: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Harrington"/>
              </a:rPr>
              <a:t>LES BAN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Les banques sont des entreprises dont la fonction est de recevoir du public des fo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qu’elles emploient pour leur propre compte en opérations d’escompte, de crédit ou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opérations financiè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On peut classifier les banques en trois catégori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Banques de dépô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Banques d’affaires</a:t>
            </a:r>
            <a:r>
              <a:rPr b="1" i="1" lang="it-IT" sz="1600" spc="-1" strike="noStrike">
                <a:solidFill>
                  <a:srgbClr val="ffff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00"/>
                </a:solidFill>
                <a:latin typeface="Times New Roman"/>
              </a:rPr>
              <a:t>Banques de crédit à moyen et long terme</a:t>
            </a:r>
            <a:r>
              <a:rPr b="1" i="1" lang="it-IT" sz="1600" spc="-1" strike="noStrike">
                <a:solidFill>
                  <a:srgbClr val="ffff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2268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176364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4438" y="10800"/>
                </a:moveTo>
                <a:lnTo>
                  <a:pt x="18451" y="3794"/>
                </a:lnTo>
                <a:lnTo>
                  <a:pt x="18451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277164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3794" y="4900"/>
                </a:moveTo>
                <a:lnTo>
                  <a:pt x="17806" y="11906"/>
                </a:lnTo>
                <a:lnTo>
                  <a:pt x="3794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ANCE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DDA-713F-43E5-BD6E-9D7BFFE037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82B98-70C4-4E9E-9EEC-E30F0E089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4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2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6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8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1940"/>
                            </p:stCondLst>
                            <p:childTnLst>
                              <p:par>
                                <p:cTn id="1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4" dur="8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8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2700"/>
                            </p:stCondLst>
                            <p:childTnLst>
                              <p:par>
                                <p:cTn id="1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Jokerman"/>
              </a:rPr>
              <a:t>Mini Bas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Harrington"/>
              </a:rPr>
              <a:t>Il Mini Basket è un   Gioco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Harrington"/>
              </a:rPr>
              <a:t>E’ un gioco  anaerobico - aerobico alter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Harrington"/>
              </a:rPr>
              <a:t>Età evolutiva: 6/10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340000" y="0"/>
            <a:ext cx="540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Educazione Fis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826920" y="1773360"/>
            <a:ext cx="3313440" cy="396072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1979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2340000" y="6453360"/>
            <a:ext cx="287280" cy="404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04640"/>
              <a:gd name="textAreaBottom" fmla="*/ 386280 h 404640"/>
            </a:gdLst>
            <a:ahLst/>
            <a:rect l="textAreaLeft" t="textAreaTop" r="textAreaRight" b="textAreaBottom"/>
            <a:pathLst>
              <a:path w="21600" h="30413">
                <a:moveTo>
                  <a:pt x="0" y="0"/>
                </a:moveTo>
                <a:lnTo>
                  <a:pt x="21600" y="0"/>
                </a:lnTo>
                <a:lnTo>
                  <a:pt x="21600" y="30413"/>
                </a:lnTo>
                <a:lnTo>
                  <a:pt x="0" y="30413"/>
                </a:lnTo>
                <a:close/>
              </a:path>
              <a:path fill="lightenLess" w="21600" h="30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413">
                <a:moveTo>
                  <a:pt x="21600" y="0"/>
                </a:moveTo>
                <a:lnTo>
                  <a:pt x="21600" y="30413"/>
                </a:lnTo>
                <a:lnTo>
                  <a:pt x="20200" y="29013"/>
                </a:lnTo>
                <a:lnTo>
                  <a:pt x="20200" y="1400"/>
                </a:lnTo>
                <a:close/>
              </a:path>
              <a:path fill="darkenLess" w="21600" h="30413">
                <a:moveTo>
                  <a:pt x="21600" y="30413"/>
                </a:moveTo>
                <a:lnTo>
                  <a:pt x="0" y="30413"/>
                </a:lnTo>
                <a:lnTo>
                  <a:pt x="1400" y="29013"/>
                </a:lnTo>
                <a:lnTo>
                  <a:pt x="20200" y="29013"/>
                </a:lnTo>
                <a:close/>
              </a:path>
              <a:path fill="lighten" w="21600" h="30413">
                <a:moveTo>
                  <a:pt x="0" y="30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013"/>
                </a:lnTo>
                <a:close/>
              </a:path>
              <a:path fill="darken" w="21600" h="30413">
                <a:moveTo>
                  <a:pt x="3794" y="8200"/>
                </a:moveTo>
                <a:lnTo>
                  <a:pt x="17806" y="15207"/>
                </a:lnTo>
                <a:lnTo>
                  <a:pt x="3794" y="22213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1692360" y="6453360"/>
            <a:ext cx="287280" cy="404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04640"/>
              <a:gd name="textAreaBottom" fmla="*/ 386280 h 404640"/>
            </a:gdLst>
            <a:ahLst/>
            <a:rect l="textAreaLeft" t="textAreaTop" r="textAreaRight" b="textAreaBottom"/>
            <a:pathLst>
              <a:path w="21600" h="30413">
                <a:moveTo>
                  <a:pt x="0" y="0"/>
                </a:moveTo>
                <a:lnTo>
                  <a:pt x="21600" y="0"/>
                </a:lnTo>
                <a:lnTo>
                  <a:pt x="21600" y="30413"/>
                </a:lnTo>
                <a:lnTo>
                  <a:pt x="0" y="30413"/>
                </a:lnTo>
                <a:close/>
              </a:path>
              <a:path fill="lightenLess" w="21600" h="30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413">
                <a:moveTo>
                  <a:pt x="21600" y="0"/>
                </a:moveTo>
                <a:lnTo>
                  <a:pt x="21600" y="30413"/>
                </a:lnTo>
                <a:lnTo>
                  <a:pt x="20200" y="29013"/>
                </a:lnTo>
                <a:lnTo>
                  <a:pt x="20200" y="1400"/>
                </a:lnTo>
                <a:close/>
              </a:path>
              <a:path fill="darkenLess" w="21600" h="30413">
                <a:moveTo>
                  <a:pt x="21600" y="30413"/>
                </a:moveTo>
                <a:lnTo>
                  <a:pt x="0" y="30413"/>
                </a:lnTo>
                <a:lnTo>
                  <a:pt x="1400" y="29013"/>
                </a:lnTo>
                <a:lnTo>
                  <a:pt x="20200" y="29013"/>
                </a:lnTo>
                <a:close/>
              </a:path>
              <a:path fill="lighten" w="21600" h="30413">
                <a:moveTo>
                  <a:pt x="0" y="30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013"/>
                </a:lnTo>
                <a:close/>
              </a:path>
              <a:path fill="darken" w="21600" h="30413">
                <a:moveTo>
                  <a:pt x="3794" y="15207"/>
                </a:moveTo>
                <a:lnTo>
                  <a:pt x="17806" y="8200"/>
                </a:lnTo>
                <a:lnTo>
                  <a:pt x="17806" y="22213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UCAZIONE FISIC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296-D203-4D21-9CBC-E7AA2A0EBA74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528F8-1508-44CB-AD6F-49EC3B33C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Castellar"/>
              </a:rPr>
              <a:t>Sabrina Mel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640" y="1197000"/>
            <a:ext cx="8209080" cy="741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zie a tutti per la vostra attenzi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FB6-9E63-4A08-9681-FD651000A2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A51FD-D6D9-45E8-8696-CB46CCE252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7" dur="4745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ff"/>
                </a:solidFill>
                <a:uFillTx/>
                <a:latin typeface="Informal Roman"/>
              </a:rPr>
              <a:t>Primo Lev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Nacque a Torino il 31 luglio 1919 d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  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famiglia ebr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Si laureò al corso di chim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Nel dicembre del 1943, per opera d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  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nazisti, fu rinchiuso prima nel campo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  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sterminio di Fossoli, poi fu deportat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    </a:t>
            </a: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Auschiwit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Harrington"/>
              </a:rPr>
              <a:t>Fu liberato il 19 ottobre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29360" y="189000"/>
            <a:ext cx="1575000" cy="14461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30872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3992" y="3837"/>
                </a:moveTo>
                <a:lnTo>
                  <a:pt x="16569" y="6448"/>
                </a:ln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lnTo>
                  <a:pt x="20955" y="10800"/>
                </a:lnTo>
                <a:lnTo>
                  <a:pt x="19301" y="10800"/>
                </a:lnTo>
                <a:lnTo>
                  <a:pt x="19301" y="17989"/>
                </a:lnTo>
                <a:lnTo>
                  <a:pt x="8683" y="17989"/>
                </a:lnTo>
                <a:lnTo>
                  <a:pt x="8683" y="10800"/>
                </a:lnTo>
                <a:lnTo>
                  <a:pt x="7029" y="10800"/>
                </a:lnTo>
                <a:close/>
              </a:path>
              <a:path fill="darkenLess" w="27984" h="21600">
                <a:moveTo>
                  <a:pt x="16569" y="6448"/>
                </a:move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close/>
              </a:path>
              <a:path fill="darkenLess" w="27984" h="21600">
                <a:moveTo>
                  <a:pt x="13070" y="14299"/>
                </a:moveTo>
                <a:lnTo>
                  <a:pt x="14915" y="14299"/>
                </a:lnTo>
                <a:lnTo>
                  <a:pt x="14915" y="17989"/>
                </a:lnTo>
                <a:lnTo>
                  <a:pt x="19301" y="17989"/>
                </a:lnTo>
                <a:lnTo>
                  <a:pt x="19301" y="10800"/>
                </a:lnTo>
                <a:lnTo>
                  <a:pt x="8683" y="10800"/>
                </a:lnTo>
                <a:lnTo>
                  <a:pt x="8683" y="17989"/>
                </a:lnTo>
                <a:lnTo>
                  <a:pt x="13070" y="17989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74072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87708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10800"/>
                </a:moveTo>
                <a:lnTo>
                  <a:pt x="20987" y="3794"/>
                </a:lnTo>
                <a:lnTo>
                  <a:pt x="2098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LIA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F4B-4909-4418-910C-2C6CAB649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AEBCA-7193-4B1C-93B6-3E1B48C1F3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stellar"/>
              </a:rPr>
              <a:t>L’ OPER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Informal Roman"/>
              </a:rPr>
              <a:t>SE QUESTO E’ UN U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Sotto l’ incubo dei ricordi, Primo Levi scrisse </a:t>
            </a:r>
            <a:r>
              <a:rPr b="0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Se questo è un uo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19640" y="2349360"/>
            <a:ext cx="1800000" cy="1295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esto 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u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2781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2781360"/>
            <a:ext cx="1008360" cy="144360"/>
          </a:xfrm>
          <a:prstGeom prst="leftArrow">
            <a:avLst>
              <a:gd name="adj1" fmla="val 50000"/>
              <a:gd name="adj2" fmla="val 174626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3645000"/>
            <a:ext cx="144360" cy="1152360"/>
          </a:xfrm>
          <a:prstGeom prst="downArrow">
            <a:avLst>
              <a:gd name="adj1" fmla="val 50000"/>
              <a:gd name="adj2" fmla="val 199564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2060640"/>
            <a:ext cx="1871640" cy="1511280"/>
          </a:xfrm>
          <a:prstGeom prst="hexagon">
            <a:avLst>
              <a:gd name="adj" fmla="val 30961"/>
              <a:gd name="vf" fmla="val 11547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tt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bi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842000"/>
            <a:ext cx="3024000" cy="2016000"/>
          </a:xfrm>
          <a:prstGeom prst="flowChartDecision">
            <a:avLst/>
          </a:prstGeom>
          <a:gradFill rotWithShape="0">
            <a:gsLst>
              <a:gs pos="0">
                <a:srgbClr val="f6a8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ord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rienza 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133720"/>
            <a:ext cx="2916000" cy="20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’ un libro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o –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io scient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1763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2124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140328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ABE-2D3C-4D34-A7B1-4A477B578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FF170-62AF-408D-9E6E-185A5CD08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5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5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astellar"/>
              </a:rPr>
              <a:t>PIANI NARRATIVI DEL ROMAN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1557360"/>
            <a:ext cx="3025800" cy="50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monianza impulsiva dei fa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213372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2492280"/>
            <a:ext cx="30258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pettiva più am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giudizio: testimon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far si che non si ripe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i orr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3573360"/>
            <a:ext cx="215640" cy="362160"/>
          </a:xfrm>
          <a:prstGeom prst="downArrow">
            <a:avLst>
              <a:gd name="adj1" fmla="val 50000"/>
              <a:gd name="adj2" fmla="val 41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3933720"/>
            <a:ext cx="2952720" cy="79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lio scientifico: analisi d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enti e dei ge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’ u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4724280"/>
            <a:ext cx="217440" cy="433440"/>
          </a:xfrm>
          <a:prstGeom prst="downArrow">
            <a:avLst>
              <a:gd name="adj1" fmla="val 50000"/>
              <a:gd name="adj2" fmla="val 498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5157720"/>
            <a:ext cx="2879640" cy="10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inazione moralist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io dei gesti d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agonisti e del sign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171612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24360" y="3860640"/>
            <a:ext cx="3095640" cy="2237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806480" cy="26244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1908000" y="6524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13992" y="3837"/>
                </a:moveTo>
                <a:lnTo>
                  <a:pt x="16569" y="6448"/>
                </a:ln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lnTo>
                  <a:pt x="20955" y="10800"/>
                </a:lnTo>
                <a:lnTo>
                  <a:pt x="19301" y="10800"/>
                </a:lnTo>
                <a:lnTo>
                  <a:pt x="19301" y="17989"/>
                </a:lnTo>
                <a:lnTo>
                  <a:pt x="8683" y="17989"/>
                </a:lnTo>
                <a:lnTo>
                  <a:pt x="8683" y="10800"/>
                </a:lnTo>
                <a:lnTo>
                  <a:pt x="7029" y="10800"/>
                </a:lnTo>
                <a:close/>
              </a:path>
              <a:path fill="darkenLess" w="27984" h="21600">
                <a:moveTo>
                  <a:pt x="16569" y="6448"/>
                </a:moveTo>
                <a:lnTo>
                  <a:pt x="16569" y="4707"/>
                </a:lnTo>
                <a:lnTo>
                  <a:pt x="18344" y="4707"/>
                </a:lnTo>
                <a:lnTo>
                  <a:pt x="18344" y="8224"/>
                </a:lnTo>
                <a:close/>
              </a:path>
              <a:path fill="darkenLess" w="27984" h="21600">
                <a:moveTo>
                  <a:pt x="13070" y="14299"/>
                </a:moveTo>
                <a:lnTo>
                  <a:pt x="14915" y="14299"/>
                </a:lnTo>
                <a:lnTo>
                  <a:pt x="14915" y="17989"/>
                </a:lnTo>
                <a:lnTo>
                  <a:pt x="19301" y="17989"/>
                </a:lnTo>
                <a:lnTo>
                  <a:pt x="19301" y="10800"/>
                </a:lnTo>
                <a:lnTo>
                  <a:pt x="8683" y="10800"/>
                </a:lnTo>
                <a:lnTo>
                  <a:pt x="8683" y="17989"/>
                </a:lnTo>
                <a:lnTo>
                  <a:pt x="13070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1547640" y="6524640"/>
            <a:ext cx="358920" cy="333360"/>
          </a:xfrm>
          <a:custGeom>
            <a:avLst/>
            <a:gdLst>
              <a:gd name="textAreaLeft" fmla="*/ 21600 w 358920"/>
              <a:gd name="textAreaRight" fmla="*/ 337320 w 358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854" y="1400"/>
                </a:lnTo>
                <a:lnTo>
                  <a:pt x="1400" y="140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854" y="20200"/>
                </a:lnTo>
                <a:lnTo>
                  <a:pt x="21854" y="140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4" y="2020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4" h="21600">
                <a:moveTo>
                  <a:pt x="4621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234000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LIAN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0BC-B254-4220-831D-D0367B5C2A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3ADAC-1465-4F89-93BD-E1DEF49A0E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600"/>
                            </p:stCondLst>
                            <p:childTnLst>
                              <p:par>
                                <p:cTn id="2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600"/>
                            </p:stCondLst>
                            <p:childTnLst>
                              <p:par>
                                <p:cTn id="2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600"/>
                            </p:stCondLst>
                            <p:childTnLst>
                              <p:par>
                                <p:cTn id="2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600"/>
                            </p:stCondLst>
                            <p:childTnLst>
                              <p:par>
                                <p:cTn id="2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1600"/>
                            </p:stCondLst>
                            <p:childTnLst>
                              <p:par>
                                <p:cTn id="2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600"/>
                            </p:stCondLst>
                            <p:childTnLst>
                              <p:par>
                                <p:cTn id="2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6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stellar"/>
              </a:rPr>
              <a:t>STORIA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Castellar"/>
              </a:rPr>
              <a:t>Le origini della guerra fred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’ Europa uscì dalla guerra in condizioni  disastr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’ economia aveva subito danni incalcol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Molte città erano state devastate dai bombard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L’ agricoltura era in ginoc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234000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13068" y="3837"/>
                </a:moveTo>
                <a:lnTo>
                  <a:pt x="15644" y="6448"/>
                </a:ln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lnTo>
                  <a:pt x="20031" y="10800"/>
                </a:lnTo>
                <a:lnTo>
                  <a:pt x="18377" y="10800"/>
                </a:lnTo>
                <a:lnTo>
                  <a:pt x="18377" y="17989"/>
                </a:lnTo>
                <a:lnTo>
                  <a:pt x="7758" y="17989"/>
                </a:lnTo>
                <a:lnTo>
                  <a:pt x="7758" y="10800"/>
                </a:lnTo>
                <a:lnTo>
                  <a:pt x="6105" y="10800"/>
                </a:lnTo>
                <a:close/>
              </a:path>
              <a:path fill="darkenLess" w="26135" h="21600">
                <a:moveTo>
                  <a:pt x="15644" y="6448"/>
                </a:moveTo>
                <a:lnTo>
                  <a:pt x="15644" y="4707"/>
                </a:lnTo>
                <a:lnTo>
                  <a:pt x="17420" y="4707"/>
                </a:lnTo>
                <a:lnTo>
                  <a:pt x="17420" y="8224"/>
                </a:lnTo>
                <a:close/>
              </a:path>
              <a:path fill="darkenLess" w="26135" h="21600">
                <a:moveTo>
                  <a:pt x="12145" y="14299"/>
                </a:moveTo>
                <a:lnTo>
                  <a:pt x="13990" y="14299"/>
                </a:lnTo>
                <a:lnTo>
                  <a:pt x="13990" y="17989"/>
                </a:lnTo>
                <a:lnTo>
                  <a:pt x="18377" y="17989"/>
                </a:lnTo>
                <a:lnTo>
                  <a:pt x="18377" y="10800"/>
                </a:lnTo>
                <a:lnTo>
                  <a:pt x="7758" y="10800"/>
                </a:lnTo>
                <a:lnTo>
                  <a:pt x="7758" y="17989"/>
                </a:lnTo>
                <a:lnTo>
                  <a:pt x="1214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169236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305928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3794"/>
                </a:moveTo>
                <a:lnTo>
                  <a:pt x="20066" y="10800"/>
                </a:lnTo>
                <a:lnTo>
                  <a:pt x="605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52296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732-98C0-4EC0-9ADA-5A50C3A7ED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C737D-BDDF-4F81-9CD7-406C4E26B0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Castellar"/>
              </a:rPr>
              <a:t>LA NASCITA DELL’ ON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Occorreva trovare un “luogo di discussion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e di “accordi”, affinché il mondo non precipit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in un’ altra gu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Venne decisa la costituzione di un’ organ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internazionale capace di mantenere la pace 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mondo : l’ ONU (organizzazione delle Nazioni Unit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Harrington"/>
              </a:rPr>
              <a:t>fondata il 24 giugno 19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248436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16299" y="3837"/>
                </a:moveTo>
                <a:lnTo>
                  <a:pt x="18875" y="6448"/>
                </a:ln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lnTo>
                  <a:pt x="23262" y="10800"/>
                </a:lnTo>
                <a:lnTo>
                  <a:pt x="21608" y="10800"/>
                </a:lnTo>
                <a:lnTo>
                  <a:pt x="21608" y="17989"/>
                </a:lnTo>
                <a:lnTo>
                  <a:pt x="10990" y="17989"/>
                </a:lnTo>
                <a:lnTo>
                  <a:pt x="10990" y="10800"/>
                </a:lnTo>
                <a:lnTo>
                  <a:pt x="9336" y="10800"/>
                </a:lnTo>
                <a:close/>
              </a:path>
              <a:path fill="darkenLess" w="32598" h="21600">
                <a:moveTo>
                  <a:pt x="18875" y="6448"/>
                </a:moveTo>
                <a:lnTo>
                  <a:pt x="18875" y="4707"/>
                </a:lnTo>
                <a:lnTo>
                  <a:pt x="20651" y="4707"/>
                </a:lnTo>
                <a:lnTo>
                  <a:pt x="20651" y="8224"/>
                </a:lnTo>
                <a:close/>
              </a:path>
              <a:path fill="darkenLess" w="32598" h="21600">
                <a:moveTo>
                  <a:pt x="15376" y="14299"/>
                </a:moveTo>
                <a:lnTo>
                  <a:pt x="17222" y="14299"/>
                </a:lnTo>
                <a:lnTo>
                  <a:pt x="17222" y="17989"/>
                </a:lnTo>
                <a:lnTo>
                  <a:pt x="21608" y="17989"/>
                </a:lnTo>
                <a:lnTo>
                  <a:pt x="21608" y="10800"/>
                </a:lnTo>
                <a:lnTo>
                  <a:pt x="10990" y="10800"/>
                </a:lnTo>
                <a:lnTo>
                  <a:pt x="10990" y="17989"/>
                </a:lnTo>
                <a:lnTo>
                  <a:pt x="15376" y="17989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197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305928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3794"/>
                </a:moveTo>
                <a:lnTo>
                  <a:pt x="20987" y="10800"/>
                </a:lnTo>
                <a:lnTo>
                  <a:pt x="6974" y="17806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448000" cy="20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F35-6653-4266-A930-2C41CB2EE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158A5-1777-4CE5-9177-9F4EC5B62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8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Piano Marshall, NATO,</a:t>
            </a:r>
            <a:br>
              <a:rPr sz="4000"/>
            </a:b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Patto di Varsa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773360"/>
            <a:ext cx="2303640" cy="122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iano Mar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84640"/>
            <a:ext cx="2376720" cy="1368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 North Atl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Organization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941720"/>
            <a:ext cx="2303640" cy="1295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atto di Varsa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2349360"/>
            <a:ext cx="1584360" cy="287640"/>
          </a:xfrm>
          <a:prstGeom prst="rightArrow">
            <a:avLst>
              <a:gd name="adj1" fmla="val 50000"/>
              <a:gd name="adj2" fmla="val 137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3716280"/>
            <a:ext cx="1584360" cy="289080"/>
          </a:xfrm>
          <a:prstGeom prst="rightArrow">
            <a:avLst>
              <a:gd name="adj1" fmla="val 50000"/>
              <a:gd name="adj2" fmla="val 137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300640"/>
            <a:ext cx="1584360" cy="289080"/>
          </a:xfrm>
          <a:prstGeom prst="rightArrow">
            <a:avLst>
              <a:gd name="adj1" fmla="val 50000"/>
              <a:gd name="adj2" fmla="val 137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1844640"/>
            <a:ext cx="2808360" cy="10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ogramma di aiu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mericani, che risollev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L’ Europa tra il 1948 e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195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429000"/>
            <a:ext cx="2808360" cy="107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li Stati ader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formarono un’ alle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 difesa del mondo lib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 4 aprile 194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941720"/>
            <a:ext cx="2808360" cy="1151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lleanza militare dei pa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omunisti (195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1979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11674" y="3837"/>
                </a:moveTo>
                <a:lnTo>
                  <a:pt x="14250" y="6448"/>
                </a:ln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lnTo>
                  <a:pt x="18637" y="10800"/>
                </a:lnTo>
                <a:lnTo>
                  <a:pt x="16983" y="10800"/>
                </a:lnTo>
                <a:lnTo>
                  <a:pt x="16983" y="17989"/>
                </a:lnTo>
                <a:lnTo>
                  <a:pt x="6365" y="17989"/>
                </a:lnTo>
                <a:lnTo>
                  <a:pt x="6365" y="10800"/>
                </a:lnTo>
                <a:lnTo>
                  <a:pt x="4711" y="10800"/>
                </a:lnTo>
                <a:close/>
              </a:path>
              <a:path fill="darkenLess" w="23348" h="21600">
                <a:moveTo>
                  <a:pt x="14250" y="6448"/>
                </a:moveTo>
                <a:lnTo>
                  <a:pt x="14250" y="4707"/>
                </a:lnTo>
                <a:lnTo>
                  <a:pt x="16026" y="4707"/>
                </a:lnTo>
                <a:lnTo>
                  <a:pt x="16026" y="8224"/>
                </a:lnTo>
                <a:close/>
              </a:path>
              <a:path fill="darkenLess" w="23348" h="21600">
                <a:moveTo>
                  <a:pt x="10751" y="14299"/>
                </a:moveTo>
                <a:lnTo>
                  <a:pt x="12596" y="14299"/>
                </a:lnTo>
                <a:lnTo>
                  <a:pt x="12596" y="17989"/>
                </a:lnTo>
                <a:lnTo>
                  <a:pt x="16983" y="17989"/>
                </a:lnTo>
                <a:lnTo>
                  <a:pt x="16983" y="10800"/>
                </a:lnTo>
                <a:lnTo>
                  <a:pt x="6365" y="10800"/>
                </a:lnTo>
                <a:lnTo>
                  <a:pt x="6365" y="17989"/>
                </a:lnTo>
                <a:lnTo>
                  <a:pt x="10751" y="179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1547640" y="652464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2411280" y="6524640"/>
            <a:ext cx="358920" cy="333360"/>
          </a:xfrm>
          <a:custGeom>
            <a:avLst/>
            <a:gdLst>
              <a:gd name="textAreaLeft" fmla="*/ 21600 w 358920"/>
              <a:gd name="textAreaRight" fmla="*/ 337320 w 358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854" y="1400"/>
                </a:lnTo>
                <a:lnTo>
                  <a:pt x="1400" y="140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854" y="20200"/>
                </a:lnTo>
                <a:lnTo>
                  <a:pt x="21854" y="140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4" y="2020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4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AD1-F292-4DF6-9CCD-1066B3A985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4760-9452-4F49-8C95-E378F269B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500"/>
                            </p:stCondLst>
                            <p:childTnLst>
                              <p:par>
                                <p:cTn id="4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stellar"/>
              </a:rPr>
              <a:t>LA DIVISIONE DEL MONDO</a:t>
            </a: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:</a:t>
            </a:r>
            <a:br>
              <a:rPr sz="3200"/>
            </a:br>
            <a:r>
              <a:rPr b="0" lang="en-US" sz="2400" spc="-1" strike="noStrike">
                <a:solidFill>
                  <a:srgbClr val="6600cc"/>
                </a:solidFill>
                <a:latin typeface="Castellar"/>
              </a:rPr>
              <a:t>Due blocchi contrapp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89000"/>
            <a:ext cx="2808360" cy="1224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Blocco occid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331640" y="3068640"/>
            <a:ext cx="360360" cy="208764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3213000"/>
            <a:ext cx="0" cy="1152720"/>
          </a:xfrm>
          <a:prstGeom prst="line">
            <a:avLst/>
          </a:prstGeom>
          <a:ln cap="rnd" w="93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2997360"/>
            <a:ext cx="287280" cy="2087280"/>
          </a:xfrm>
          <a:custGeom>
            <a:avLst/>
            <a:gdLst/>
            <a:ahLst/>
            <a:rect l="l" t="t" r="r" b="b"/>
            <a:pathLst>
              <a:path w="181" h="1315">
                <a:moveTo>
                  <a:pt x="0" y="0"/>
                </a:moveTo>
                <a:lnTo>
                  <a:pt x="138" y="898"/>
                </a:lnTo>
                <a:lnTo>
                  <a:pt x="181" y="1315"/>
                </a:lnTo>
              </a:path>
            </a:pathLst>
          </a:custGeom>
          <a:noFill/>
          <a:ln cap="rnd" w="12600">
            <a:solidFill>
              <a:srgbClr val="0000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5157720"/>
            <a:ext cx="1728720" cy="93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c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apit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365720"/>
            <a:ext cx="1440000" cy="934920"/>
          </a:xfrm>
          <a:prstGeom prst="diamond">
            <a:avLst/>
          </a:pr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Stati U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229360"/>
            <a:ext cx="1657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lib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1989000"/>
            <a:ext cx="2736720" cy="11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Blocco Comu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363640" y="3068640"/>
            <a:ext cx="576360" cy="20890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141720"/>
            <a:ext cx="0" cy="10792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2997360"/>
            <a:ext cx="360360" cy="216036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5157720"/>
            <a:ext cx="1871640" cy="9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5002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Ec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controll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dallo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48360" y="5157720"/>
            <a:ext cx="1727280" cy="93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5002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total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4221000"/>
            <a:ext cx="1584360" cy="863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U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Sovie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234000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1979640" y="6381720"/>
            <a:ext cx="360360" cy="476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76280"/>
              <a:gd name="textAreaBottom" fmla="*/ 453240 h 476280"/>
            </a:gdLst>
            <a:ahLst/>
            <a:rect l="textAreaLeft" t="textAreaTop" r="textAreaRight" b="textAreaBottom"/>
            <a:pathLst>
              <a:path w="21600" h="28541">
                <a:moveTo>
                  <a:pt x="0" y="0"/>
                </a:moveTo>
                <a:lnTo>
                  <a:pt x="21600" y="0"/>
                </a:lnTo>
                <a:lnTo>
                  <a:pt x="21600" y="28541"/>
                </a:lnTo>
                <a:lnTo>
                  <a:pt x="0" y="28541"/>
                </a:lnTo>
                <a:close/>
              </a:path>
              <a:path fill="lightenLess" w="21600" h="28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41">
                <a:moveTo>
                  <a:pt x="21600" y="0"/>
                </a:moveTo>
                <a:lnTo>
                  <a:pt x="21600" y="28541"/>
                </a:lnTo>
                <a:lnTo>
                  <a:pt x="20200" y="27141"/>
                </a:lnTo>
                <a:lnTo>
                  <a:pt x="20200" y="1400"/>
                </a:lnTo>
                <a:close/>
              </a:path>
              <a:path fill="darkenLess" w="21600" h="28541">
                <a:moveTo>
                  <a:pt x="21600" y="28541"/>
                </a:moveTo>
                <a:lnTo>
                  <a:pt x="0" y="28541"/>
                </a:lnTo>
                <a:lnTo>
                  <a:pt x="1400" y="27141"/>
                </a:lnTo>
                <a:lnTo>
                  <a:pt x="20200" y="27141"/>
                </a:lnTo>
                <a:close/>
              </a:path>
              <a:path fill="lighten" w="21600" h="28541">
                <a:moveTo>
                  <a:pt x="0" y="28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41"/>
                </a:lnTo>
                <a:close/>
              </a:path>
              <a:path fill="darken" w="21600" h="28541">
                <a:moveTo>
                  <a:pt x="3794" y="14271"/>
                </a:moveTo>
                <a:lnTo>
                  <a:pt x="17806" y="7264"/>
                </a:lnTo>
                <a:lnTo>
                  <a:pt x="17806" y="2127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2771640" y="638172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3794" y="4860"/>
                </a:moveTo>
                <a:lnTo>
                  <a:pt x="17806" y="11867"/>
                </a:lnTo>
                <a:lnTo>
                  <a:pt x="3794" y="1887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RI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CE9-1911-4343-8DE3-51A96DCFD4C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EA45D-15EC-47E6-8C8A-63C3BC752F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00"/>
                            </p:stCondLst>
                            <p:childTnLst>
                              <p:par>
                                <p:cTn id="4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200"/>
                            </p:stCondLst>
                            <p:childTnLst>
                              <p:par>
                                <p:cTn id="4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200"/>
                            </p:stCondLst>
                            <p:childTnLst>
                              <p:par>
                                <p:cTn id="4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70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200"/>
                            </p:stCondLst>
                            <p:childTnLst>
                              <p:par>
                                <p:cTn id="4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700"/>
                            </p:stCondLst>
                            <p:childTnLst>
                              <p:par>
                                <p:cTn id="4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700"/>
                            </p:stCondLst>
                            <p:childTnLst>
                              <p:par>
                                <p:cTn id="4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200"/>
                            </p:stCondLst>
                            <p:childTnLst>
                              <p:par>
                                <p:cTn id="4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17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3700"/>
                            </p:stCondLst>
                            <p:childTnLst>
                              <p:par>
                                <p:cTn id="5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47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200"/>
                            </p:stCondLst>
                            <p:childTnLst>
                              <p:par>
                                <p:cTn id="5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62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6:52:30Z</dcterms:created>
  <dc:creator>a</dc:creator>
  <dc:description/>
  <dc:language>en-US</dc:language>
  <cp:lastModifiedBy>a</cp:lastModifiedBy>
  <dcterms:modified xsi:type="dcterms:W3CDTF">2007-06-29T17:02:13Z</dcterms:modified>
  <cp:revision>36</cp:revision>
  <dc:subject/>
  <dc:title>IL SECONDO DOPOGUERRA </dc:title>
</cp:coreProperties>
</file>