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4.jpeg" ContentType="image/jpe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1EE-A1F9-4317-8DBC-B035A7FE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75E-72A1-451B-B0B7-DE78FC5D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72E-D4F4-493B-81BF-668AD9D0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36C-6C7B-4FA2-9263-9930AA72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E1BC-B700-40A1-A52D-CFDD7BAA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FC5D-127B-4616-B88D-F082A5FE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0E72-4BB7-4190-873A-4EB35790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A2A6-15C0-4ECE-8024-08759EEE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3D18-6919-4AD3-92EB-AFFE37AC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5E48-2060-4FCD-874C-8C814CDA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99EC-421D-4BA6-A3A7-2992B39C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076-A1F8-4BD2-878F-C1EF35FE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C3C4-E6ED-43CF-A488-7123799E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728C-C92F-437A-B51A-7940C205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0513-3691-4BB6-82AC-27BA535E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792F-711F-4F82-96E6-86857EEC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F07B-63D8-4D0E-985B-CEB8BB83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5D8-D63A-4D86-AAE7-262574E0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E77-0944-487F-B1FF-E510DC09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0C8-8E39-4489-9B02-1862B907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CB3-163E-454F-8B46-28FAD4D7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F4D-4744-4CE9-8090-21656A83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EFE-70D9-4813-A60B-BE650133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82A-8387-45E0-BB14-7E37D9FC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100000">
                    <a:srgbClr val="0000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C525-5CA8-4E55-86DB-DAC23FFEF9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100000">
                    <a:srgbClr val="0000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7887-1B49-4BCE-A0FF-000590770C6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LA CRITTOGRAFIA QUANTISTICA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142880" y="6307200"/>
            <a:ext cx="500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ice Della Pen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1623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ENTANGLEMENT 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826920" y="1357200"/>
            <a:ext cx="3457800" cy="23018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BANCONOTE “INFALSIFICABILI”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ogni banconota sono associati un numero di serie e una sequenza di fotoni il cui tipo di polarizzazione è deciso casualme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gono registrati nell’archivio della Zecca il numero di serie, il tipo di polarizzazione effettuata e il risultato della misurazi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 banconote non possono essere prodotte da un falsario che non è nemmeno in grado di riprodurre quelle già esisten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L PROTOCOLLO BB84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66978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124000" y="2565360"/>
            <a:ext cx="4392720" cy="1871640"/>
          </a:xfrm>
          <a:custGeom>
            <a:avLst/>
            <a:gdLst>
              <a:gd name="textAreaLeft" fmla="*/ 0 w 4392720"/>
              <a:gd name="textAreaRight" fmla="*/ 4393080 w 4392720"/>
              <a:gd name="textAreaTop" fmla="*/ 468000 h 1871640"/>
              <a:gd name="textAreaBottom" fmla="*/ 14040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6f64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I DI MISURA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987640" y="981000"/>
            <a:ext cx="2736720" cy="1295640"/>
          </a:xfrm>
          <a:custGeom>
            <a:avLst/>
            <a:gdLst>
              <a:gd name="textAreaLeft" fmla="*/ 684000 w 2736720"/>
              <a:gd name="textAreaRight" fmla="*/ 2052720 w 27367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6f64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TI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32000" y="4797360"/>
            <a:ext cx="2448000" cy="1441440"/>
          </a:xfrm>
          <a:custGeom>
            <a:avLst/>
            <a:gdLst>
              <a:gd name="textAreaLeft" fmla="*/ 612000 w 2448000"/>
              <a:gd name="textAreaRight" fmla="*/ 1836000 w 244800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6f64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GON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981000"/>
            <a:ext cx="2232000" cy="1511280"/>
          </a:xfrm>
          <a:custGeom>
            <a:avLst/>
            <a:gdLst>
              <a:gd name="textAreaLeft" fmla="*/ 97920 w 2232000"/>
              <a:gd name="textAreaRight" fmla="*/ 2134080 w 223200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31898" h="21600">
                <a:moveTo>
                  <a:pt x="0" y="0"/>
                </a:moveTo>
                <a:lnTo>
                  <a:pt x="31898" y="0"/>
                </a:lnTo>
                <a:lnTo>
                  <a:pt x="31898" y="21600"/>
                </a:lnTo>
                <a:lnTo>
                  <a:pt x="0" y="21600"/>
                </a:lnTo>
                <a:close/>
              </a:path>
              <a:path fill="lightenLess" w="31898" h="21600">
                <a:moveTo>
                  <a:pt x="0" y="0"/>
                </a:moveTo>
                <a:lnTo>
                  <a:pt x="31898" y="0"/>
                </a:lnTo>
                <a:lnTo>
                  <a:pt x="30499" y="1400"/>
                </a:lnTo>
                <a:lnTo>
                  <a:pt x="1400" y="1400"/>
                </a:lnTo>
                <a:close/>
              </a:path>
              <a:path fill="darken" w="31898" h="21600">
                <a:moveTo>
                  <a:pt x="31898" y="0"/>
                </a:moveTo>
                <a:lnTo>
                  <a:pt x="31898" y="21600"/>
                </a:lnTo>
                <a:lnTo>
                  <a:pt x="30499" y="20200"/>
                </a:lnTo>
                <a:lnTo>
                  <a:pt x="30499" y="1400"/>
                </a:lnTo>
                <a:close/>
              </a:path>
              <a:path fill="darkenLess" w="31898" h="21600">
                <a:moveTo>
                  <a:pt x="3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99" y="20200"/>
                </a:lnTo>
                <a:close/>
              </a:path>
              <a:path fill="lighten" w="3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f6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5640" y="4724280"/>
            <a:ext cx="2232000" cy="1511280"/>
          </a:xfrm>
          <a:custGeom>
            <a:avLst/>
            <a:gdLst>
              <a:gd name="textAreaLeft" fmla="*/ 97920 w 2232000"/>
              <a:gd name="textAreaRight" fmla="*/ 2134080 w 223200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31898" h="21600">
                <a:moveTo>
                  <a:pt x="0" y="0"/>
                </a:moveTo>
                <a:lnTo>
                  <a:pt x="31898" y="0"/>
                </a:lnTo>
                <a:lnTo>
                  <a:pt x="31898" y="21600"/>
                </a:lnTo>
                <a:lnTo>
                  <a:pt x="0" y="21600"/>
                </a:lnTo>
                <a:close/>
              </a:path>
              <a:path fill="lightenLess" w="31898" h="21600">
                <a:moveTo>
                  <a:pt x="0" y="0"/>
                </a:moveTo>
                <a:lnTo>
                  <a:pt x="31898" y="0"/>
                </a:lnTo>
                <a:lnTo>
                  <a:pt x="30499" y="1400"/>
                </a:lnTo>
                <a:lnTo>
                  <a:pt x="1400" y="1400"/>
                </a:lnTo>
                <a:close/>
              </a:path>
              <a:path fill="darken" w="31898" h="21600">
                <a:moveTo>
                  <a:pt x="31898" y="0"/>
                </a:moveTo>
                <a:lnTo>
                  <a:pt x="31898" y="21600"/>
                </a:lnTo>
                <a:lnTo>
                  <a:pt x="30499" y="20200"/>
                </a:lnTo>
                <a:lnTo>
                  <a:pt x="30499" y="1400"/>
                </a:lnTo>
                <a:close/>
              </a:path>
              <a:path fill="darkenLess" w="31898" h="21600">
                <a:moveTo>
                  <a:pt x="3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99" y="20200"/>
                </a:lnTo>
                <a:close/>
              </a:path>
              <a:path fill="lighten" w="3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f6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5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96000" y="981000"/>
            <a:ext cx="2232000" cy="1511280"/>
          </a:xfrm>
          <a:custGeom>
            <a:avLst/>
            <a:gdLst>
              <a:gd name="textAreaLeft" fmla="*/ 97920 w 2232000"/>
              <a:gd name="textAreaRight" fmla="*/ 2134080 w 223200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31898" h="21600">
                <a:moveTo>
                  <a:pt x="0" y="0"/>
                </a:moveTo>
                <a:lnTo>
                  <a:pt x="31898" y="0"/>
                </a:lnTo>
                <a:lnTo>
                  <a:pt x="31898" y="21600"/>
                </a:lnTo>
                <a:lnTo>
                  <a:pt x="0" y="21600"/>
                </a:lnTo>
                <a:close/>
              </a:path>
              <a:path fill="lightenLess" w="31898" h="21600">
                <a:moveTo>
                  <a:pt x="0" y="0"/>
                </a:moveTo>
                <a:lnTo>
                  <a:pt x="31898" y="0"/>
                </a:lnTo>
                <a:lnTo>
                  <a:pt x="30499" y="1400"/>
                </a:lnTo>
                <a:lnTo>
                  <a:pt x="1400" y="1400"/>
                </a:lnTo>
                <a:close/>
              </a:path>
              <a:path fill="darken" w="31898" h="21600">
                <a:moveTo>
                  <a:pt x="31898" y="0"/>
                </a:moveTo>
                <a:lnTo>
                  <a:pt x="31898" y="21600"/>
                </a:lnTo>
                <a:lnTo>
                  <a:pt x="30499" y="20200"/>
                </a:lnTo>
                <a:lnTo>
                  <a:pt x="30499" y="1400"/>
                </a:lnTo>
                <a:close/>
              </a:path>
              <a:path fill="darkenLess" w="31898" h="21600">
                <a:moveTo>
                  <a:pt x="3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99" y="20200"/>
                </a:lnTo>
                <a:close/>
              </a:path>
              <a:path fill="lighten" w="3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f6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0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796000" y="4797360"/>
            <a:ext cx="2232000" cy="1511280"/>
          </a:xfrm>
          <a:custGeom>
            <a:avLst/>
            <a:gdLst>
              <a:gd name="textAreaLeft" fmla="*/ 97920 w 2232000"/>
              <a:gd name="textAreaRight" fmla="*/ 2134080 w 223200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31898" h="21600">
                <a:moveTo>
                  <a:pt x="0" y="0"/>
                </a:moveTo>
                <a:lnTo>
                  <a:pt x="31898" y="0"/>
                </a:lnTo>
                <a:lnTo>
                  <a:pt x="31898" y="21600"/>
                </a:lnTo>
                <a:lnTo>
                  <a:pt x="0" y="21600"/>
                </a:lnTo>
                <a:close/>
              </a:path>
              <a:path fill="lightenLess" w="31898" h="21600">
                <a:moveTo>
                  <a:pt x="0" y="0"/>
                </a:moveTo>
                <a:lnTo>
                  <a:pt x="31898" y="0"/>
                </a:lnTo>
                <a:lnTo>
                  <a:pt x="30499" y="1400"/>
                </a:lnTo>
                <a:lnTo>
                  <a:pt x="1400" y="1400"/>
                </a:lnTo>
                <a:close/>
              </a:path>
              <a:path fill="darken" w="31898" h="21600">
                <a:moveTo>
                  <a:pt x="31898" y="0"/>
                </a:moveTo>
                <a:lnTo>
                  <a:pt x="31898" y="21600"/>
                </a:lnTo>
                <a:lnTo>
                  <a:pt x="30499" y="20200"/>
                </a:lnTo>
                <a:lnTo>
                  <a:pt x="30499" y="1400"/>
                </a:lnTo>
                <a:close/>
              </a:path>
              <a:path fill="darkenLess" w="31898" h="21600">
                <a:moveTo>
                  <a:pt x="3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99" y="20200"/>
                </a:lnTo>
                <a:close/>
              </a:path>
              <a:path fill="lighten" w="3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f6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35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3095640" cy="48387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4932360" y="907920"/>
            <a:ext cx="3498840" cy="48387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959120" y="182520"/>
            <a:ext cx="513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544760" y="333360"/>
            <a:ext cx="62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ESEMPIO DI TRASMISS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L PROTOCOLLO DI EKER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755640" y="1392120"/>
            <a:ext cx="79930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FANTASCIENZA?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ostante sia in corso un dibattito sulla sicurezza della crittografia quantistica alcune aziende hanno iniziato a sviluppare tecnologie che sfruttano la QK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070600" cy="19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714680" y="561960"/>
            <a:ext cx="5715000" cy="57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LA CRITTOGRAFIA QUANTISTICA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 cos’è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crittografia quantistica (QKD) è un sistema di scambio di chiavi crittografiche che si basa su alcune caratteristiche controintuitive della realtà microscopica descritta dalle leggi della fisica dei quan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39640" y="620640"/>
            <a:ext cx="80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9640" y="765000"/>
            <a:ext cx="806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4360" y="836640"/>
            <a:ext cx="77040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he cosa ser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crittografia quantistica può essere utilizzata insieme ad sistema di cifratura simmetrico matematicamente inviolabile per trasmettere ed archiviare dati delicati (es. i risultati di un voto, informazioni relative a carte di credito o soggette a leggi sulla privacy,ecc…) in modo sic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L CIFRARIO PERFETTO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 cifrario Vernam richie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testo in chia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a chiave segreta condivisa dai due utent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a convenzio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 significato da dare ai b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ESEMPIO DI UTILIZZO DEL BLOCCO MONOUSO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635280" y="1628640"/>
            <a:ext cx="2175120" cy="14972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259280" y="206064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979640" y="3068640"/>
            <a:ext cx="1368360" cy="115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64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3708360" y="4653000"/>
            <a:ext cx="2174760" cy="14684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405080" y="47242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10920" y="1700280"/>
            <a:ext cx="21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o in chia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99640" y="56610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o in chia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228360" y="213372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44360" y="515772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34040" y="258444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o cif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98920" y="4653000"/>
            <a:ext cx="18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o cif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raverso l’operatore logico XOR il blocco monouso cifra il testo producen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 messaggio cifr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395280" y="2997360"/>
            <a:ext cx="8209080" cy="1068840"/>
          </a:xfrm>
          <a:prstGeom prst="rect">
            <a:avLst/>
          </a:prstGeom>
          <a:solidFill>
            <a:srgbClr val="00007a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’ FONDAMENTALE CHE LA CHIAVE SIA SEGRE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8360" y="51577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possono gli utenti comunicare la chiave in modo sicur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IL RUOLO DELL’OSSERVATORE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FISICA CLASSICA è esterno al sistema e perché quest’ultimo sia isolato non deve influire su di es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lla MECCANICA QUANTISTICA il processo di misurazione altera inevitabilmente il siste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stono coppie di grandezze per le quali la misura di una altera l’altra impedendoci di conoscere contemporaneamente e precisamente entramb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GRANDEZZE CORRELATE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arizzazione diagonale e verticale dei foto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619280" y="4941720"/>
            <a:ext cx="5904000" cy="15368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763640" y="2637000"/>
            <a:ext cx="3025800" cy="18396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5435640" y="3068640"/>
            <a:ext cx="1743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 spin degli elettroni lungo gli ass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, y, 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90400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8:54:31Z</dcterms:created>
  <dc:creator>Io</dc:creator>
  <dc:description/>
  <dc:language>en-US</dc:language>
  <cp:lastModifiedBy>Io</cp:lastModifiedBy>
  <dcterms:modified xsi:type="dcterms:W3CDTF">2007-06-26T12:02:44Z</dcterms:modified>
  <cp:revision>13</cp:revision>
  <dc:subject/>
  <dc:title>LA CRITTOGRAFIA QUANTISTICA</dc:title>
</cp:coreProperties>
</file>