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548C2-B4F8-4D18-B32F-56120BB4A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AE3A5-91B1-4267-83CC-275D47B51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F047C-8BE8-4DCD-96BE-2C0A64A7C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52CC5-9F86-46C3-B1B7-7995A9061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9836A-A674-46F6-9304-74EA3EB4C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80E6E-E4EC-422A-82ED-E5E48B92A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3D49D-F14D-4553-9547-0FF74CA38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072C6-29DD-4FDC-92AD-0DA306CA3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D42E4-D9D7-4B87-A1FC-1CF92D454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AC838-AB4B-40A3-9DD7-2CF16121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1CEF-340B-4935-B8A9-BD08F9388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DBF5-0845-4456-A56D-08E2D4E54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73D3-AA7C-4629-ABFB-CB9E90498B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341000"/>
            <a:ext cx="7772400" cy="72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Verdana"/>
              </a:rPr>
              <a:t>Le tourisme aux Hawaii</a:t>
            </a:r>
            <a:endParaRPr b="0" lang="en-US" sz="1800" spc="-1" strike="noStrike">
              <a:solidFill>
                <a:srgbClr val="000000"/>
              </a:solidFill>
              <a:latin typeface="Arial"/>
            </a:endParaRPr>
          </a:p>
        </p:txBody>
      </p:sp>
      <p:sp>
        <p:nvSpPr>
          <p:cNvPr id="42" name="PlaceHolder 2"/>
          <p:cNvSpPr>
            <a:spLocks noGrp="1"/>
          </p:cNvSpPr>
          <p:nvPr>
            <p:ph type="subTitle"/>
          </p:nvPr>
        </p:nvSpPr>
        <p:spPr>
          <a:xfrm>
            <a:off x="323640" y="2491920"/>
            <a:ext cx="8569080" cy="2521080"/>
          </a:xfrm>
          <a:prstGeom prst="rect">
            <a:avLst/>
          </a:prstGeom>
          <a:noFill/>
          <a:ln w="0">
            <a:noFill/>
          </a:ln>
        </p:spPr>
        <p:txBody>
          <a:bodyPr lIns="90000" rIns="90000" tIns="46800" bIns="46800"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L’archipel Hawaii est une excellente destination pour qui souhaite faire du tourisme bleu et vert. Ceux qui aiment la mèr avec plages blanches et incontaminées, choisiront l’île Big Island, tandis que qui desire des plages aménagées ira à l’île Oahu. Ici se trouve le chef-lieu Honolulu et ses merveilleuses et renommées plages Waikiki Beach et Kailua: c’est la patrie du surf et de la voile. En outre, on peut visiter un important parc aquatique.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Grâce au climat tropical pendant toute l’année, chaque saison est idéale pour faire du tourisme bleu, surtout quand en Europe est hiver et il fait fro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268280"/>
            <a:ext cx="8218440" cy="460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Qui aime le tourisme vert, ici trouvera beaucoup de lieux: à Big Island il y a des tours guidés de Hilo aux volcans Mauna Kea et Mauna Loa; à l’île Maui on peut visiter le volcan éteint </a:t>
            </a:r>
            <a:br>
              <a:rPr sz="1600"/>
            </a:br>
            <a:r>
              <a:rPr b="1" lang="fr-FR" sz="1600" spc="-1" strike="noStrike">
                <a:solidFill>
                  <a:srgbClr val="000000"/>
                </a:solidFill>
                <a:latin typeface="Verdana"/>
              </a:rPr>
              <a:t>Haleakala; à l’île Kauai il y a beaucoup de cascades et le </a:t>
            </a:r>
            <a:br>
              <a:rPr sz="1600"/>
            </a:br>
            <a:r>
              <a:rPr b="1" lang="fr-FR" sz="1600" spc="-1" strike="noStrike">
                <a:solidFill>
                  <a:srgbClr val="000000"/>
                </a:solidFill>
                <a:latin typeface="Verdana"/>
              </a:rPr>
              <a:t>Canyon Waimea.</a:t>
            </a:r>
            <a:br>
              <a:rPr sz="1600"/>
            </a:br>
            <a:r>
              <a:rPr b="1" lang="fr-FR" sz="1600" spc="-1" strike="noStrike">
                <a:solidFill>
                  <a:srgbClr val="000000"/>
                </a:solidFill>
                <a:latin typeface="Verdana"/>
              </a:rPr>
              <a:t>Naturellement pour pratiquer ce type de tourisme, il faut s’equiper avec des accessoires particuliers: des chaussures en fonction du type de rando, un bâton de marche, des vêtements clairs et légérs, une gourde, un sac à dos, une boussole et un canif. </a:t>
            </a:r>
            <a:br>
              <a:rPr sz="1600"/>
            </a:br>
            <a:r>
              <a:rPr b="1" lang="fr-FR" sz="1600" spc="-1" strike="noStrike">
                <a:solidFill>
                  <a:srgbClr val="000000"/>
                </a:solidFill>
                <a:latin typeface="Verdana"/>
              </a:rPr>
              <a:t>C’est très important de respecter la nature, pour cela il faut suivre la delimitation des sentiers. En outre, le touriste peut choisir differents niveaux de randonnée: di 1</a:t>
            </a:r>
            <a:r>
              <a:rPr b="1" lang="fr-FR" sz="1600" spc="-1" strike="noStrike" u="sng">
                <a:solidFill>
                  <a:srgbClr val="000000"/>
                </a:solidFill>
                <a:uFillTx/>
                <a:latin typeface="Verdana"/>
              </a:rPr>
              <a:t>ere</a:t>
            </a:r>
            <a:r>
              <a:rPr b="1" lang="fr-FR" sz="1600" spc="-1" strike="noStrike">
                <a:solidFill>
                  <a:srgbClr val="000000"/>
                </a:solidFill>
                <a:latin typeface="Verdana"/>
              </a:rPr>
              <a:t> niveau très facile ( 2 à 3 heures de marche par jour en terrain plat) au 4 </a:t>
            </a:r>
            <a:r>
              <a:rPr b="1" lang="fr-FR" sz="1600" spc="-1" strike="noStrike" u="sng">
                <a:solidFill>
                  <a:srgbClr val="000000"/>
                </a:solidFill>
                <a:uFillTx/>
                <a:latin typeface="Verdana"/>
              </a:rPr>
              <a:t>eme</a:t>
            </a:r>
            <a:r>
              <a:rPr b="1" lang="fr-FR" sz="1600" spc="-1" strike="noStrike">
                <a:solidFill>
                  <a:srgbClr val="000000"/>
                </a:solidFill>
                <a:latin typeface="Verdana"/>
              </a:rPr>
              <a:t> niveau difficile ( 5 à 8 heures de marche avec dénivelé de 500 à 1000 métres par jour). </a:t>
            </a:r>
            <a:br>
              <a:rPr sz="1600"/>
            </a:br>
            <a:r>
              <a:rPr b="1" lang="fr-FR" sz="1600" spc="-1" strike="noStrike">
                <a:solidFill>
                  <a:srgbClr val="000000"/>
                </a:solidFill>
                <a:latin typeface="Verdana"/>
              </a:rPr>
              <a:t>À votre choix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8T09:13:40Z</dcterms:created>
  <dc:creator>alex</dc:creator>
  <dc:description/>
  <dc:language>en-US</dc:language>
  <cp:lastModifiedBy>alex</cp:lastModifiedBy>
  <dcterms:modified xsi:type="dcterms:W3CDTF">2007-06-18T09:16:20Z</dcterms:modified>
  <cp:revision>2</cp:revision>
  <dc:subject/>
  <dc:title>Le tourisme aux Hawaii</dc:title>
</cp:coreProperties>
</file>