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404-402B-4D33-A847-E870F034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2DA4-0BDE-4825-91E0-B90DDF89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C0A-C38A-4855-97B4-B6A12875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971A-ED63-4156-A1CF-64304255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44B-8D4C-41F9-9321-FD06B7F1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CC1-D75D-4C53-976F-681C9445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B955-927E-4411-8F7D-129A9135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AD9-806A-4E8A-BD31-6E358FDC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C827-19F3-46CD-9304-A50F30B1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CB91-1CBA-4B20-824B-C8125A41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E14-419D-45C9-96A7-AD4B10BA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C89-3B67-46E3-A954-12CB8395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4A7A-25E6-4909-9DF4-1308B27D5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LA RICERCA OPERATIV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er sapere quanti posti letto disponibili deve far occupare/vendere per non essere in perdita o per ottenere il massimo utile , l’imprenditore può ricorrere all’uso della ricerca operativa, cui le fasi so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Formulazione del problema e raccolta delle informaz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Bisogna determinare gli obiettivi appropriati, i vincoli da porre, le intercorrelazioni tra il settore che si deve studiare e gli altri settori. La fase conclusiva è la raccolta dei dati che quantificano le variabili del problema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Costruzione di un modello matem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l modello matematico di un problema è un sistema di equazioni e di espressioni matematiche che descrive la “sostanza” del problema. Se si vuole prendere decisioni quantificabili, esse sono rappresentabili come variabili di decisione, di cui si devono determinare i rispettivi valori. Questa funzione è chiamata </a:t>
            </a:r>
            <a:r>
              <a:rPr b="1" lang="it-IT" sz="1200" spc="-1" strike="noStrike" u="sng">
                <a:solidFill>
                  <a:srgbClr val="000000"/>
                </a:solidFill>
                <a:uFillTx/>
                <a:latin typeface="Verdana"/>
              </a:rPr>
              <a:t>funzione obiettivo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. Ogni limitazione di valore che puo essere assegnata alle variabili di decisione è anche espressa matematicamente con equazioni e/o disequazio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Queste espressioni sono chiamate </a:t>
            </a:r>
            <a:r>
              <a:rPr b="1" lang="it-IT" sz="1200" spc="-1" strike="noStrike" u="sng">
                <a:solidFill>
                  <a:srgbClr val="000000"/>
                </a:solidFill>
                <a:uFillTx/>
                <a:latin typeface="Verdana"/>
              </a:rPr>
              <a:t>vincoli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, che possono essere tecnici o di segno. Se il sistema dei vincoli non ha soluzioni, anche il problema non ne ha. Al contrario, se ammette soluzioni, il loro insieme è detto “campo di scelta”; tra quest’ultimo, si dovranno cercare le soluzioni che risolvono il proble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Ricerca di una soluzi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Si deve cercare la soluzione ottimale, cioè quella che riduce al minimo o aumenta al massimo (a seconda dei casi) la misura di rendimento di un mode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Controllo del modello e della solu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Deve essere verificata e valutata la soluzione del modello, correggere eventuali errori(di trascrizione o omissioni), controllare che tutte le espressioni matematiche siano coerenti con le unità di misura us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Aggiornamento e attuazione della solu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A questo punto si fa l’ultima prova e valutazione della ricerc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Se la decisione verrà presa piu volte, è probabile che i valori delle variabili non controllate e la struttura del sistema cambino da una decisione all’altra. Quindi bisogna individuare i cambiamenti importanti e la soluzione si deve adeguare ad essi, aggiornandola di volta in vol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ODELLO MATEMATICO PER L’IMPRESA RICET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X= posti letto occupati/vendu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it-IT" sz="1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0  X</a:t>
            </a:r>
            <a:r>
              <a:rPr b="0" lang="it-IT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58.400 (capacità ricettiva potenzia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it-IT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it-IT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58.400  VINCOLO TECNICO E DI S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R(X)= 120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CT= 4.210.000(costi della produzione)+90.000(oneri finanz.)+300.000(impos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(X)=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120X-4.600.000 FUNZIONE OBIETTIVO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Trovare il punto di pareggio(B.E.P.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20X-4.600.000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20X=4.60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X=38.333,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er non essere in perdita, deve far occupare 38.333,33 posti let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U(58.400)= 120*(58.400)-4.600.000= 2.408.000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l massimo utile conseguibile (occupando tutti posti letto) è di 2.408.000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L’ imprenditore ha previsto un grado di occupazione del 70%, cioè di 40.880 posti l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U(40.880)= 120*(40.880)-4.600.000= 305.600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L’utile previsto è di 305.600$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A questi si aggiungono i ricavi dei servizi extra-alberghieri, che ammontano a 94.400$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L’utile netto finale è di 400.000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10920" y="2358360"/>
            <a:ext cx="5679000" cy="1554480"/>
            <a:chOff x="610920" y="2358360"/>
            <a:chExt cx="5679000" cy="1554480"/>
          </a:xfrm>
        </p:grpSpPr>
        <p:sp>
          <p:nvSpPr>
            <p:cNvPr id="46" name=""/>
            <p:cNvSpPr/>
            <p:nvPr/>
          </p:nvSpPr>
          <p:spPr>
            <a:xfrm flipV="1">
              <a:off x="1017000" y="2358360"/>
              <a:ext cx="0" cy="155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11280" y="3749400"/>
              <a:ext cx="29743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017000" y="2685600"/>
              <a:ext cx="1757160" cy="106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261680" y="2603880"/>
              <a:ext cx="1216800" cy="32724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Min: X=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2774520" y="2358360"/>
              <a:ext cx="0" cy="13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09880" y="2440080"/>
              <a:ext cx="540360" cy="24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09880" y="2685600"/>
              <a:ext cx="540360" cy="24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09880" y="2931120"/>
              <a:ext cx="540360" cy="24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09880" y="3176640"/>
              <a:ext cx="540360" cy="24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09880" y="3422160"/>
              <a:ext cx="540360" cy="24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10920" y="2521800"/>
              <a:ext cx="27036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610920" y="2767320"/>
              <a:ext cx="27036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610920" y="3012840"/>
              <a:ext cx="27036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610920" y="3258360"/>
              <a:ext cx="27036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610920" y="3503880"/>
              <a:ext cx="27036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61680" y="2849400"/>
              <a:ext cx="2028240" cy="2451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Max: X=58.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74520" y="3749400"/>
              <a:ext cx="0" cy="16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435640" y="1773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3280" y="1557360"/>
            <a:ext cx="1511280" cy="1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B.E.P. (38.333 posti letto)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2:31:33Z</dcterms:created>
  <dc:creator>alex</dc:creator>
  <dc:description/>
  <dc:language>en-US</dc:language>
  <cp:lastModifiedBy>alex</cp:lastModifiedBy>
  <dcterms:modified xsi:type="dcterms:W3CDTF">2007-06-14T12:46:15Z</dcterms:modified>
  <cp:revision>2</cp:revision>
  <dc:subject/>
  <dc:title>LA RICERCA OPERATIVA </dc:title>
</cp:coreProperties>
</file>