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6E6-7056-4A12-9549-1EDE9361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3CF-1F52-44C1-A7C3-E839393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EBE-EFB1-41B0-9FA3-60E808E7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FC3-59B2-4C51-9B20-0E42E478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694-F0FC-4C8C-B167-11D9A5BB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CCC-0CF7-42F2-B264-BE05628D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DD0-F0D8-4FC5-A3B2-6734A7E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9A6-4E3B-4DD0-A862-344A372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E9B-1DB6-432B-8FF9-71E3A12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801-052E-4120-96CF-F7BE4BC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104-8403-4F7D-8D4A-08DD8AFA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195-C3F0-403C-BF0E-E19C54C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0FE-9608-4494-9586-29B20329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ITI TURISTICI E ARCHEOLOGICI HAWAIANI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’architettura Hawaiana rappresenta sia gli stili occidentali importati dagli americani, sia le tradizioni indigene. Questa fusione riflette gli atteggiamenti e lo spirito della gente e rendono le Hawaii uni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350px-Ahuenaheiau" descr="Built in 1810s, Ahuena Heiau was the sacred temple of Kamehameha the Great. It is an example of ancient Hawaiian architecture.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809640" y="1628640"/>
            <a:ext cx="3475080" cy="4464360"/>
          </a:xfrm>
          <a:prstGeom prst="rect">
            <a:avLst/>
          </a:prstGeom>
          <a:ln w="0">
            <a:noFill/>
          </a:ln>
        </p:spPr>
      </p:pic>
      <p:pic>
        <p:nvPicPr>
          <p:cNvPr id="43" name="350px-Chamberlainhousehonolulu" descr="Built by Congregational missionaries in Honolulu, Chamberlain House is an example of Hawaiian mission architecture.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000760" y="1700280"/>
            <a:ext cx="3333600" cy="432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 rot="10800000">
            <a:off x="899640" y="1835640"/>
            <a:ext cx="31719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Verdana"/>
              </a:rPr>
              <a:t>AHUENA HEI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’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stato costruito nel 1810 come sacro tempio di Kamehameha, grande re a quei tempi. Questo è un esempio di architettura hawaiana an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2159640"/>
            <a:ext cx="3095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Verdana"/>
              </a:rPr>
              <a:t>MI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E’ stato costruito dai missionari della Congregational Hiram Bingham. Questo rappresenta invece l’architettura hawaiana religiosa. Al loro arrivo, hanno eretto le prime case, fatte con i tetti fortemente inclinati. La semplicità ed il carattere di queste strutture sono derivate dagli ideali puritani. Il materiale usato era il legno, ma successivamente vennero ustati I blocchi di corallo.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350px-Cathedralofsaintandrewhonolulu" descr="Completed in 1867 for the Anglican Church of Hawaii, the Cathedral Church of Saint Andrew is the premier example of Hawaiian gothic architecture.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809640" y="1700280"/>
            <a:ext cx="3333600" cy="4465440"/>
          </a:xfrm>
          <a:prstGeom prst="rect">
            <a:avLst/>
          </a:prstGeom>
          <a:ln w="0">
            <a:noFill/>
          </a:ln>
        </p:spPr>
      </p:pic>
      <p:pic>
        <p:nvPicPr>
          <p:cNvPr id="48" name="350px-Iolanipalacehonolulu" descr="The only royal residence in the United States, Iolani Palace is the hallmark of Hawaiian renaissance architecture.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000760" y="1773360"/>
            <a:ext cx="3333600" cy="43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71160"/>
            <a:ext cx="309564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ATTEDRALE DI SAN AN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’ stata completata nel 1867 come chiesa anglicana e rappresenta l’architettura gotica hawaiana. Questo progetto è stato iniziato dal prete Boeynaems, che voleva realizzare una cattedrale. La prima fase fu la costruzione di un elaborato portico sotto l’entrata. Successivamente fu scartato il progetto a causa dell’alto costo. Ma il suo successore, Alencastre, trasformò la cattedrale in un una costruzione semplice, ma elegante, con l’aggiunta delle colonne doriche. Fu il primo caso dell’uso della volt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2079720"/>
            <a:ext cx="316872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PALAZZO DI IO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’ il simbolo della residenza reale e dell’architettura rinascimentale, voluta dal re Kamehameha V. Il rinascimento hawaiano era la “rinascita” dell’estetica tradizionale con i concetti di arte hawaiana. La sua facciata è elegante ed è ornata da piccole colonne, e le pareti sono larghe e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increspate.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50px-Hawaiitheatreexterior" descr="Completed in 1922, the Hawaii Theatre is considered the premier example of Hawaiian art deco.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809640" y="1628640"/>
            <a:ext cx="3333600" cy="4537080"/>
          </a:xfrm>
          <a:prstGeom prst="rect">
            <a:avLst/>
          </a:prstGeom>
          <a:ln w="0">
            <a:noFill/>
          </a:ln>
        </p:spPr>
      </p:pic>
      <p:pic>
        <p:nvPicPr>
          <p:cNvPr id="53" name="240px-Firsthawaiiancenter" descr="First Hawaiian Center is the tallest building in Hawaii. It takes modern skyscraper architecture and blends it with designs symbolic of Hawaiian phenomena.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07672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2321280"/>
            <a:ext cx="309564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EA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etato nel 1922, rappresenta l’arte romanica nel periodo più tardo dell’antico impero. Lo si nota dagli archi a tutto sesto e dai pilastri cruciformi per supporto. A differenza degli europei, gli hawaiani usarono i massi scuri della roccia lavica, che a prima vista danno l’impressione di uno stile unicamente hawai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1736640"/>
            <a:ext cx="302436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GRATTACIELO DI HONOL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Il First Hawaian Center è la costruzione più alta delle Hawaii. Riprende i principi dell’architettura organica integrandoli con i simboli hawaia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9:20:00Z</dcterms:created>
  <dc:creator>alex</dc:creator>
  <dc:description/>
  <dc:language>en-US</dc:language>
  <cp:lastModifiedBy>alex</cp:lastModifiedBy>
  <dcterms:modified xsi:type="dcterms:W3CDTF">2007-06-18T09:34:55Z</dcterms:modified>
  <cp:revision>2</cp:revision>
  <dc:subject/>
  <dc:title>SITI TURISTICI E ARCHEOLOGICI HAWAIANI  L’architettura Hawaiana rappresenta sia gli stili occidentali importati dagli americani, sia le tradizioni indigene. Questa fusione riflette gli atteggiamenti e lo spirito della gente e rendono le Hawaii uniche.</dc:title>
</cp:coreProperties>
</file>