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E5B-2971-4975-BA8F-B5194A98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FC5-3A48-47F3-912A-C07B66BD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005-1FBB-4312-BE34-C121D9F3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187-E22F-4A7D-BE1F-A541568E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562-FE4F-4466-AFB9-30B4A8F5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C83-E554-46B7-985A-DBEF97AE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769-FD2A-4BFA-AFF2-11DC2D4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645-1C27-4F6B-9998-BC5C86A4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061-4AF3-45B3-9AA1-90AA67F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85B-96EC-4A4F-ACE2-499992C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17E-10D6-4713-87FA-F0E0093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8D8-8019-496B-A425-BF2BB60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3023-CAB8-4F6C-AEAE-C834CD62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l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 altro aspetto molto importante presente nella Business Idea, per l’aspirante imprenditore, è l’analisi della domanda e della concorrenza, che rientrano nel concetto di marketing, cioè il rapporto che un’azienda tiene con il mercato. I primi 4 passi da compiere so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iderare le esigenze di mercato e dei potenziali acquir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iderare se l’azienda può soddisfare la domanda esistente o crearne una nu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prod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iere le attività promozionali, pubblicitarie e commerciali per vendere il prodo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a bisogna considerare l’ambiente, cioè l’insieme dei soggetti e delle forze esterne con cui l’azienda si trova in relazione. Gli ambienti sono d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CROAMBIEN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cioè i soggetti su cui l’azienda è in grado di influire, di cui fanno pa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Fornitor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da cui l’azienda acquista beni e servizi necessari alla produ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Intermediari di vendi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cioè i soggetti ai quali si da il via alla distribuzione del prodot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onsulent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personale esterno che assistono l’azienda per delle scelte (ad esempio nel marketing e nelle strategie di comunicazion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lient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l punto di partenza e di arrivo per ogni impres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oncorrenz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cosa produce, come lo offre e soprattutto i prezzi. Nel settore turistico queste informazioni si possono reperire molto facilmente, grazie ai cataloghi, agli enti statali, affittando una camera o interpellando direttamente l’imprendito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CROAMBIEN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cioè l’insieme di condizioni su cui l’azienda non può influire minimamente; fanno parte di es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Sviluppo demografic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tasso di natalità, età media della popolazione, livello di istru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Situazione economic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potere d’acquisto dei potenziali clienti, inflazione, livello dei consumi, propensione alla spes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Ambiente fisic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risorse naturali. Nel turismo, gli operatori turistici devono sempre prestare attenzione all’ambiente, cercando di non offrire prodotti che danneggino le sue risorse naturali e cultural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Sviluppo tecnologic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Istituzioni politich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normative, organi di controllo economico, burocrazi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Ambiente culturale e social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valori, atteggiamenti mentali e comportamenti della popola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Valutati i vincoli e/o opportunità, l’impresa deve stabilire la sua missione, cioè determinare cosa si vuole fare (presente e futuro), dove si vuole arrivare e come comportarsi: per fare ciò deve stabilire 3 elementi: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ettore nel quale operare;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dentificazione dei clienti e dei loro bisogni;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mmagine aziendale;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Ora si passa al piano di marketing, cioè l’attività da svolgere, tenendo presente se il mercato è in grado di “assorbire” il prodotto e la posizione dell’azienda su di esso per valutarne la competitività (posizionamento dell’azienda).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’azienda può scegliere 3 tipi di posizionamento:</a:t>
            </a:r>
            <a:br>
              <a:rPr sz="1200"/>
            </a:br>
            <a:r>
              <a:rPr b="1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Leadership di cost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quando vuole mirare ad un mercato dei costi, cercando di renderli più bassi (impresa </a:t>
            </a:r>
            <a:r>
              <a:rPr b="0" i="1" lang="it-IT" sz="1200" spc="-1" strike="noStrike">
                <a:solidFill>
                  <a:srgbClr val="000000"/>
                </a:solidFill>
                <a:latin typeface="Verdana"/>
              </a:rPr>
              <a:t>product-oriented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);</a:t>
            </a:r>
            <a:br>
              <a:rPr sz="1200"/>
            </a:br>
            <a:r>
              <a:rPr b="1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Differenziazion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quando si vuole coprire un intero segmento di mercato con prodotti e programmi di marketing differenziati (imprese di grandi dimensioni). Nel settore turistico esempio di prodotti differenziati sono i pacchetti vacanze a tema (divertimento, sport, enogastronomia, ecc.);</a:t>
            </a:r>
            <a:br>
              <a:rPr sz="1200"/>
            </a:br>
            <a:r>
              <a:rPr b="1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Specializzazion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quando si vuole concentrare all’interno di un ben definito segmento di mercato (nicchia). Sempre nel mondo turistico, un esempio è quando un tour operator vuole specializzarsi su una determinata area geografica e, in funzione di tale scelta, elaborarne una strategia di comunicazione adeguata;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a scelta del target (bersaglio) consiste nel definire i clienti ai quali destinare il prodotto e i messaggi pubblicitari e informativi per “invogliarli” all’acquisto. Questo permette anche di scegliere accuratamente i canali promozionali e di vendita. Per pubblicizzare la nuova impresa ricettiva alle Hawaii, per esempio, si cerca di usare delle riviste di sport nel verde (trekking alta montagna, golf) e sport balneari ( surf, nautica, immersioni, ec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-351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 capire i gusti del cliente si effettuano delle ricerche di mercato, che richiedono un’ottima organizzazione e risorse dell’impresa. Queste ricerche si articolano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Determinazione degli obiettiv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Raccolta dat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maria: ricerca diret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aria: attraverso riviste e statist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ase esecutiva e conclusion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nascita del prodotto non è frutto solamente di genialità: si usano delle tecniche apposite, che si basano sulla valutazione dei prodotti già esistenti simili alla nostra idea per focalizzare i suoi punti forti e deboli e come migliorarli. Quasi sempre si ricorre al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rainstorming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tempesta di cervelli), dove si riuniscono un gruppo di persone che lavorano nell’azienda e ognuno esprime la propria idea. Queste idee poi vengono razionalizzate e valutate in base al profitto che possono rendere (convenienza). Quindi dei molti progetti iniziali, ne rimangono pochi, sia per la non convenienza all’interno dell’azienda (costi di produzione&gt;ricavi previsti), sia per la concorrenza, che magari offre migliori prodotti più di quanto l’azienda ries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 posizionamento del prodotto dipende 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ato in cui ci si vuole colloc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azione della quota di mercato che si vuole conquist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zz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itica distribu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 solito si usa un grafico, dove vi sono 4 quadranti, e si inserisce il prodotto dell’azienda e quello della concorrenza nel quadrante corrispondente, in base al prezzo e la qualità. Da qui si intuisce il posiziona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76720" y="404640"/>
            <a:ext cx="2595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A QUALITA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72000" y="98064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213000"/>
            <a:ext cx="0" cy="242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68000" y="3284640"/>
            <a:ext cx="224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3284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19640" y="587700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SA QUALITA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3068640"/>
            <a:ext cx="208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SO PREZZO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164360" y="3068640"/>
            <a:ext cx="19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O PREZZO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1484280"/>
            <a:ext cx="1676520" cy="4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° quadrante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92720" y="1268280"/>
            <a:ext cx="158436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° quadrante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360" y="4221000"/>
            <a:ext cx="151164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° quadrante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435640" y="4149720"/>
            <a:ext cx="172872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° quadrante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ine si fa provare il prodotto, attraverso i test di mercato, ai potenziali clienti. Nel settore turistico si usano i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est-education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cioè una prova del prodotto turistico a operatori turistici, organizzatori di gruppo, ec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2:48:51Z</dcterms:created>
  <dc:creator>alex</dc:creator>
  <dc:description/>
  <dc:language>en-US</dc:language>
  <cp:lastModifiedBy>alex</cp:lastModifiedBy>
  <dcterms:modified xsi:type="dcterms:W3CDTF">2007-06-16T17:06:27Z</dcterms:modified>
  <cp:revision>3</cp:revision>
  <dc:subject/>
  <dc:title>Il Marketing</dc:title>
</cp:coreProperties>
</file>