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0275C-2BC4-4853-B5DC-1911021FD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2BCAF-98AE-47EA-84B5-4FC251FC6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49E48-9707-4887-9461-E26CAFE4D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36EA9-51B4-4712-8D09-DDAE54804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328D0-4239-4A78-BB14-B7B7C425B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3482F-E630-4B86-B7DE-3791C3C07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F9008-684E-41B7-9CBB-E25BBF7D3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52BDE-5ECC-4534-A495-74F2B8953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CE167-8300-44C2-85EF-42FA1CEDD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1AE01-4474-4F6C-B220-E05B9D236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B645B-9162-4839-9252-75BA32391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EC581-3D78-4EB0-BD9A-C9BD29F22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A888-FBFB-4284-A270-7B38C936CF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QUELLA MATTINA “INFAME”…</a:t>
            </a:r>
            <a:endParaRPr b="0" lang="en-US" sz="1800" spc="-1" strike="noStrike">
              <a:solidFill>
                <a:srgbClr val="000000"/>
              </a:solidFill>
              <a:latin typeface="Arial"/>
            </a:endParaRPr>
          </a:p>
        </p:txBody>
      </p:sp>
      <p:sp>
        <p:nvSpPr>
          <p:cNvPr id="42" name="PlaceHolder 2"/>
          <p:cNvSpPr>
            <a:spLocks noGrp="1"/>
          </p:cNvSpPr>
          <p:nvPr>
            <p:ph type="subTitle"/>
          </p:nvPr>
        </p:nvSpPr>
        <p:spPr>
          <a:xfrm>
            <a:off x="0" y="1196640"/>
            <a:ext cx="9144000" cy="56610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C’era una gran tranquillità la mattina del 7 dicembre 1941 nella base navale di Pearl Harbour, nell’arcipelago delle Hawaii. Si svolgeva la solita giornata di routine e la sorveglianza era approssimativa, nonostante le settimane precedenti la base era stata messa in allerta per un possibile attacco giapponese. In quel periodo, USA e Giappone s’incontravano per trovare una soluzione pacifica dopo che i giapponesi avevano invaso la Cina e l’Indocina. Il 20 novembre il generale del Sol Levante, Tojo, aveva inviato una nota diplomatica al governo statunitense (il famoso memorandum) in cui il Giappone era disponibile solamente a lasciare l’Indocina meridionale. Agli USA ciò non bastava e l’accordo era ancora lontano. Ma nello stesso istante, Tojo aveva già fatto radunare, nelle isole Kurilii, un complesso navale con 400 aerei pronti ad attaccare le Hawaii. Il 26 novembre queste unità furono fatte partire alla volta di Pearl Harbour, ma con obbligo di rientro in caso la risposta americana fosse stata ritenuta soddisfacente. Ma non fu così: il segretario di stato americano, Corder Hull, inviò a Tojo i suoi “10 punti” con cui chiedeva al Giappone di lasciare la Cina e l’Indocina. Niente da fare purtroppo: il Giappone li accolse come un ultimatum  e il 1° dicembre, con la Conferenza Imperiale Giapponese, l’operazione militare per attaccare le Hawaii ebbe il nulla osta. Pensando ad una soluzione pacifica, le Hawaii erano ottimiste e le difese di terra e aeree furono lasciate incustodite e i sistemi radar erano ancora incompleti. Alle 6:45 del 7 dicembre, 2 operatori radar americani posizionati sul monte Opana videro l’avvicinarsi di una squadriglia non identificata provenire da nord. Ma il loro tenente, Tyler, riteneva che fossero le volanti amiche, provenienti dal continente americano, e dovevano raggiungere le isole come programmato; quindi nessun allarme a vuoto come le volte precedenti. Alle 7:55 la squadriglia giapponese, con 183 aerei (43 caccia Zero, 40 aerosiluranti, 51 bombardieri in picchiata e 49 bombardieri in quota) attaccò e colse di sorpresa il nemico, come da programma.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Ma per quale motivo il Giappone attaccò gli USA, sapendo che era la massima potenza militare ed economica mondiale? Bisogna fare un passo indietro per capire quest'attacc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26920" y="0"/>
            <a:ext cx="77724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Gli antefatti dell’attacco (anni ’20-’30)</a:t>
            </a:r>
            <a:endParaRPr b="0" lang="en-US" sz="1600" spc="-1" strike="noStrike">
              <a:solidFill>
                <a:srgbClr val="000000"/>
              </a:solidFill>
              <a:latin typeface="Arial"/>
            </a:endParaRPr>
          </a:p>
        </p:txBody>
      </p:sp>
      <p:sp>
        <p:nvSpPr>
          <p:cNvPr id="44" name="PlaceHolder 2"/>
          <p:cNvSpPr>
            <a:spLocks noGrp="1"/>
          </p:cNvSpPr>
          <p:nvPr>
            <p:ph type="subTitle"/>
          </p:nvPr>
        </p:nvSpPr>
        <p:spPr>
          <a:xfrm>
            <a:off x="0" y="907920"/>
            <a:ext cx="9144000" cy="59500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Il Giappone si era affermata una potenza economica importante e voleva fare del mercato asiatico suo punto di forza, con un nuovo ordine economico sotto la sua tutela. Ma questo era difficile perché la concorrenza americana era molto più forte. Dal 1921 cominciò la crisi: alla Conferenza Navale di Washington gli USA imposero al Giappone di ridurre drasticamente la marina militare. All’interno del governo giapponese, cominciò a crescere il pensiero nazionalista e patriottico di stampo fascista. Alla nuova Conferenza Navale del 1930, a Londra, fu concesso al Giappone di avere una flotta sottomarina pari a quella statunitense, ma impose al governo giapponese di dimezzare le unità navali. L’imperatore Hirohito si convinse che la sopravvivenza giapponese era legata alla creazione di un grande impero e diede inizio ad una politica aggressiva espansionistica. Quindi, infrangendo gli accordi, cominciò il riarmo militare e invase la Manciuria e la conquistò, creando un governo fantoccio. La Società delle Nazioni lo condannò moralmente, ma nessun provvedimento pratico fu intrapreso. All’interno del governo giapponese crebbe il nazionalismo: nel 1932 furono uccisi i ministri considerati “occidentali” di pensiero e si stabilirono i militari. Nel 1933 il Giappone uscì dalla Società delle Nazioni, nel 1934 rinnegò gli accordi di Washington e Londra e nel 1937 cominciò l’invasione totale della Cina, con l’intento anche di invadere l’URSS. Ma lo scontro con i russi in Mongolia e il patto di non aggressione firmato con i sovietici nel 1941, costrinse i giapponesi ad “accontentarsi” della Cina e mirare al sud-est asiatico e Pacifico. Intanto nel 1939 il Giappone entrò nel Patto d’Acciaio con l’Italia e Germania formando l’asse Roma-Berlino-Tokjo. Per invadere l’Indocina, i giapponesi trovarono un accordo con il regime francese filonazista di Vichy e così installarono basi aeree nell’Indocina francese. Ora gli USA erano alle strette e sentivano più forte la minaccia giapponese.</a:t>
            </a:r>
            <a:endParaRPr b="0" lang="en-US" sz="12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Verdana"/>
              </a:rPr>
              <a:t>La crisi nippo-statunitense</a:t>
            </a:r>
            <a:endParaRPr b="0" lang="en-US" sz="16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Gli americani decretarono l’embargo delle esportazioni verso il Giappone e dichiararono “congelati” i fondi giapponesi nelle loro banche. La tensione entrò alle stelle: da questo momento cominciarono le trattative diplomatiche, ma, come detto prima, non portarono alla soluzione pacifica. L’intenzione dei giapponesi fu quella di mettere fuori uso la flotta americana nel Pacifico per non avere ostacoli nella conquista del sud-est asiatico che il Giappone voleva invadere. L’ammiraglio Yamamoto aveva in mente una nuova strategia: l’utilizzo di portaerei con un gran numero di velivoli imbarcati. Già da qualche tempo sperimentava l’attacco, nella base di Kagoshima, che aveva caratteristiche molto simili a Pearl Harbour, mentre nella base americana erano già entrati in azione le spie giapponesi, tra cui spiccava la “mente” Takeo Yoshikawa. Questo personaggio trasmetteva dati in patria mutando sempre la posta e fu lui a consigliare un attacco di domenica, visto che quel giorno la difesa americana era sempre allentata.</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248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Verdana"/>
              </a:rPr>
              <a:t>La preparazione all’attacco</a:t>
            </a:r>
            <a:endParaRPr b="0" lang="en-US" sz="16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Si scelse il 7 dicembre come data! Vennero selezionate le 6 migliori unità portaerei con un totale a bordo di 389 aerei fra bombardieri, aerosiluranti e caccia Zero, 27 sommergibili che avevano il compito di formare un cordone intorno alle isole. Tutte queste unità erano nascoste nelle isole Kurilii, pronte al via. Il 26 novembre vennero fatte partire, nonostante le trattative fossero in corso. Il 1° dicembre vi fu la definitiva rottura: le offerte americane furono giudicate inadeguate. Yamamoto trasmise l’ordine d'attacco a Nagumo, che a sua volta lo trasmise alla flotta con la famosa frase: “Si scali il monte Niitaka”. Per casualità, gli americani avevano spedito le sue migliori portaerei per una missione minore alle isole Midway e Wake, evitandole di essere distrutte dall’attacco nipponico. Questo più avanti si rivelerà una mossa fortuita, ma di vitale importanza. Intanto la spia giapponese trasmetteva i dati riguardo a Pearl Harbour: vi erano 94 navi fra cui 8 corazzate; tutti i 349 aerei erano disposti ala contro ala senza la possibilità di un decollo immediato in caso d’urgenza. Il piano giapponese era il seguente: attaccare la base con 2 ondate d'aerei: 183 la prima, 167 la seconda. Alle 6 di mattina la prima ondata si alzò in volo e raggiunse le isole circa 2 ore dopo. Eppure vi erano già stati segnali d’allarme: alle 6:43 un cacciatorpediniere aveva avvistato e affondato un sommergibile giapponese e lanciò l’allarme. Ma non fu preso in considerazione: anzi era impossibile che si trattasse del nemico. Così alle 7:55 fu l’inferno: dopo pochi minuti furono danneggiate 8 corazzate americane e affondata l”ARIZONA”; centinaia di bombe vennero sganciate e gli aerei statunitensi non avevano il tempo di decollare. Solo 7 aerei riuscirono a sollevarsi e distruggere 4 sommergibili giapponesi. Ciò nonostante gli americani non si persero d’animo: la seconda ondata d'aerei giapponesi fu ben contenuta e si riuscirono a salvare le portaerei danneggiate con rapidità. Certo. L’attacco fu devastante, ma non annientatile. Così, mentre a Tokyo si dichiarò eliminata la base hawaiana, gli USA studiarono la controffensiv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0"/>
            <a:ext cx="77724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La reazione americana</a:t>
            </a:r>
            <a:endParaRPr b="0" lang="en-US" sz="1600" spc="-1" strike="noStrike">
              <a:solidFill>
                <a:srgbClr val="000000"/>
              </a:solidFill>
              <a:latin typeface="Arial"/>
            </a:endParaRPr>
          </a:p>
        </p:txBody>
      </p:sp>
      <p:sp>
        <p:nvSpPr>
          <p:cNvPr id="48" name="PlaceHolder 2"/>
          <p:cNvSpPr>
            <a:spLocks noGrp="1"/>
          </p:cNvSpPr>
          <p:nvPr>
            <p:ph type="subTitle"/>
          </p:nvPr>
        </p:nvSpPr>
        <p:spPr>
          <a:xfrm>
            <a:off x="0" y="764640"/>
            <a:ext cx="9144000" cy="609300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L’8 dicembre, Roosevelt considerò la data del giorno prima come il giorno dell’”infamia” e dichiarò guerra al Giappone, in nome delle 3405 vite perse tra civili e militari, oltre che dei 1000 feriti. Vennero richiamati in patria e messi sotto processo i vari responsabili del trascuramento dei segnali d’allarme (tra cui Tyler). Nei 6 mesi successivi il Giappone continuò la sua estenuante guerra nel Pacifico, fino a dominare tutto il sud-est asiatico. Ma dalla seconda metà del ’42, come in Europa, vi fu la svolta: a giugno, nella battaglia di Midway, 4 navi giapponesi usate nell’attacco alle Hawaii, vennero affondate. Tra agosto e febbraio ’43 vi fu la risalita dal sud-est asiatico degli USA, fino a occupare tutti i territori colonizzati dai giapponesi. Ma i nipponici, nonostante le sconfitte, avevano una tenacia e resistenza che, mentre nel maggio ’45 in Europa la guerra era finita, nel Pacifico era ancora in corso.</a:t>
            </a:r>
            <a:endParaRPr b="0" lang="en-US" sz="12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Verdana"/>
              </a:rPr>
              <a:t>La fine della guerra: la soluzione atomica</a:t>
            </a:r>
            <a:endParaRPr b="0" lang="en-US" sz="16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Truman, successo al defunto Roosevelt, trovò nella bomba atomica la soluzione, sperimentata a Los Alamos in California. Con il consenso di Stalin e il rifiuto dell’ultimatum posto da Truman stesso ai giapponesi, vennero sganciate il 6 e 9 agosto le 2 bombe atomiche, rispettivamente a Hiroshima e Nagasaki contro i civili. Queste 2 città vennero annientate e le vittime non furono solo in quel momento, ma anche negli anni successivi a causa delle radiazioni. Ciò nonostante, il Consiglio del Giappone non volle arrendersi, ma l’imperatore Hirohito si assunse l’esclusiva responsabilità di firmare da solo la resa il 2 settembre del ’45, mentre tutti i capi dello stato maggiore si suicidarono. Fu la fine della guerra, ma l’inizio della terrificante era dell’atomic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12:14:33Z</dcterms:created>
  <dc:creator>alex</dc:creator>
  <dc:description/>
  <dc:language>en-US</dc:language>
  <cp:lastModifiedBy>alex</cp:lastModifiedBy>
  <dcterms:modified xsi:type="dcterms:W3CDTF">2007-06-14T16:21:23Z</dcterms:modified>
  <cp:revision>3</cp:revision>
  <dc:subject/>
  <dc:title>QUELLA MATTINA “INFAME”…</dc:title>
</cp:coreProperties>
</file>