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9.png" ContentType="image/png"/>
  <Override PartName="/ppt/media/image14.png" ContentType="image/png"/>
  <Override PartName="/ppt/media/image1.png" ContentType="image/png"/>
  <Override PartName="/ppt/media/image3.png" ContentType="image/png"/>
  <Override PartName="/ppt/media/image2.png" ContentType="image/png"/>
  <Override PartName="/ppt/media/image4.jpeg" ContentType="image/jpe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png" ContentType="image/png"/>
  <Override PartName="/ppt/media/image12.png" ContentType="image/png"/>
  <Override PartName="/ppt/media/image8.png" ContentType="image/png"/>
  <Override PartName="/ppt/media/image13.png" ContentType="image/png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2801600" cy="9601200"/>
  <p:notesSz cx="9723438" cy="6858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E38760C-4B04-4E94-B662-745009721A9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40080" y="383040"/>
            <a:ext cx="11521080" cy="16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40080" y="2246400"/>
            <a:ext cx="1152108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40080" y="5154840"/>
            <a:ext cx="1152108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678C8D5-0CA6-4953-9D4D-7C629DA9BBC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40080" y="383040"/>
            <a:ext cx="11521080" cy="16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40080" y="2246400"/>
            <a:ext cx="562212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6543720" y="2246400"/>
            <a:ext cx="562212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40080" y="5154840"/>
            <a:ext cx="562212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6543720" y="5154840"/>
            <a:ext cx="562212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3202BB7-E213-4895-AC18-308B1250892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40080" y="383040"/>
            <a:ext cx="11521080" cy="16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40080" y="2246400"/>
            <a:ext cx="37094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35280" y="2246400"/>
            <a:ext cx="37094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8430840" y="2246400"/>
            <a:ext cx="37094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40080" y="5154840"/>
            <a:ext cx="37094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4535280" y="5154840"/>
            <a:ext cx="37094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8430840" y="5154840"/>
            <a:ext cx="370944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0BC0EEA-B1F0-4A50-A9C1-16C823AB251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40080" y="383040"/>
            <a:ext cx="11521080" cy="16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40080" y="2246400"/>
            <a:ext cx="11521080" cy="55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125"/>
              </a:spcBef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9B4B53-25E5-44CE-A4DD-843A9CDAA6A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40080" y="383040"/>
            <a:ext cx="11521080" cy="16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40080" y="2246400"/>
            <a:ext cx="11521080" cy="55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5B043F-F138-4230-929B-A37454A7DD2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40080" y="383040"/>
            <a:ext cx="11521080" cy="16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40080" y="2246400"/>
            <a:ext cx="5622120" cy="55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6543720" y="2246400"/>
            <a:ext cx="5622120" cy="55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CC655E-674B-4197-A389-7BB5161EFFA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40080" y="383040"/>
            <a:ext cx="11521080" cy="16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89ABB0A-1A95-45DC-9BA3-51BED006ACE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40080" y="383040"/>
            <a:ext cx="11521080" cy="7430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125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32709F-1317-4956-BC76-8F0B500F9C5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40080" y="383040"/>
            <a:ext cx="11521080" cy="16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40080" y="2246400"/>
            <a:ext cx="562212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6543720" y="2246400"/>
            <a:ext cx="5622120" cy="55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40080" y="5154840"/>
            <a:ext cx="562212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65F68A-6489-408A-8BE8-7794350673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40080" y="383040"/>
            <a:ext cx="11521080" cy="16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40080" y="2246400"/>
            <a:ext cx="5622120" cy="55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6543720" y="2246400"/>
            <a:ext cx="562212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6543720" y="5154840"/>
            <a:ext cx="562212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4AD01AF-1B2E-4937-BF06-86782670291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40080" y="383040"/>
            <a:ext cx="11521080" cy="16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40080" y="2246400"/>
            <a:ext cx="562212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6543720" y="2246400"/>
            <a:ext cx="562212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40080" y="5154840"/>
            <a:ext cx="11521080" cy="2655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spcBef>
                <a:spcPts val="1125"/>
              </a:spcBef>
              <a:buNone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0B4A861-D59E-4338-8868-464E7398DF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dt" idx="1"/>
          </p:nvPr>
        </p:nvSpPr>
        <p:spPr>
          <a:xfrm>
            <a:off x="63936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ftr" idx="2"/>
          </p:nvPr>
        </p:nvSpPr>
        <p:spPr>
          <a:xfrm>
            <a:off x="4373640" y="8744040"/>
            <a:ext cx="405432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sldNum" idx="3"/>
          </p:nvPr>
        </p:nvSpPr>
        <p:spPr>
          <a:xfrm>
            <a:off x="9173880" y="8744040"/>
            <a:ext cx="2987640" cy="666720"/>
          </a:xfrm>
          <a:prstGeom prst="rect">
            <a:avLst/>
          </a:prstGeom>
          <a:noFill/>
          <a:ln w="0">
            <a:noFill/>
          </a:ln>
        </p:spPr>
        <p:txBody>
          <a:bodyPr lIns="128160" rIns="128160" tIns="64080" bIns="64080" anchor="t">
            <a:noAutofit/>
          </a:bodyPr>
          <a:lstStyle>
            <a:lvl1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  <a:defRPr b="0" lang="en-US" sz="20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fld id="{73C644B5-1B8E-4871-BF02-1771EA2DD5B3}" type="slidenum">
              <a:rPr b="0" lang="en-US" sz="20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title"/>
          </p:nvPr>
        </p:nvSpPr>
        <p:spPr>
          <a:xfrm>
            <a:off x="640080" y="383040"/>
            <a:ext cx="11521080" cy="1602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62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6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body"/>
          </p:nvPr>
        </p:nvSpPr>
        <p:spPr>
          <a:xfrm>
            <a:off x="640080" y="2246400"/>
            <a:ext cx="11521080" cy="556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marL="479520" indent="-479520">
              <a:spcBef>
                <a:spcPts val="1125"/>
              </a:spcBef>
              <a:buClr>
                <a:srgbClr val="000000"/>
              </a:buClr>
              <a:buFont typeface="Arial"/>
              <a:buChar char="•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45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4500" spc="-1" strike="noStrike">
              <a:solidFill>
                <a:srgbClr val="000000"/>
              </a:solidFill>
              <a:latin typeface="Arial"/>
            </a:endParaRPr>
          </a:p>
          <a:p>
            <a:pPr lvl="1" marL="1039680" indent="-399960">
              <a:spcBef>
                <a:spcPts val="975"/>
              </a:spcBef>
              <a:buClr>
                <a:srgbClr val="000000"/>
              </a:buClr>
              <a:buFont typeface="Arial"/>
              <a:buChar char="–"/>
              <a:tabLst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39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900" spc="-1" strike="noStrike">
              <a:solidFill>
                <a:srgbClr val="000000"/>
              </a:solidFill>
              <a:latin typeface="Arial"/>
            </a:endParaRPr>
          </a:p>
          <a:p>
            <a:pPr lvl="2" marL="1600200" indent="-320760">
              <a:spcBef>
                <a:spcPts val="850"/>
              </a:spcBef>
              <a:buClr>
                <a:srgbClr val="000000"/>
              </a:buClr>
              <a:buFont typeface="Arial"/>
              <a:buChar char="•"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34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400" spc="-1" strike="noStrike">
              <a:solidFill>
                <a:srgbClr val="000000"/>
              </a:solidFill>
              <a:latin typeface="Arial"/>
            </a:endParaRPr>
          </a:p>
          <a:p>
            <a:pPr lvl="3" marL="2239920" indent="-318960">
              <a:spcBef>
                <a:spcPts val="700"/>
              </a:spcBef>
              <a:buClr>
                <a:srgbClr val="000000"/>
              </a:buClr>
              <a:buFont typeface="Arial"/>
              <a:buChar char="–"/>
              <a:tabLst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4" marL="2879640" indent="-3189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5" marL="2879640" indent="-3189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 lvl="6" marL="2879640" indent="-318960">
              <a:spcBef>
                <a:spcPts val="700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image" Target="../media/image1.png"/><Relationship Id="rId5" Type="http://schemas.openxmlformats.org/officeDocument/2006/relationships/image" Target="../media/image3.png"/><Relationship Id="rId6" Type="http://schemas.openxmlformats.org/officeDocument/2006/relationships/image" Target="../media/image4.jpeg"/><Relationship Id="rId7" Type="http://schemas.openxmlformats.org/officeDocument/2006/relationships/image" Target="../media/image5.png"/><Relationship Id="rId8" Type="http://schemas.openxmlformats.org/officeDocument/2006/relationships/image" Target="../media/image6.png"/><Relationship Id="rId9" Type="http://schemas.openxmlformats.org/officeDocument/2006/relationships/image" Target="../media/image3.png"/><Relationship Id="rId10" Type="http://schemas.openxmlformats.org/officeDocument/2006/relationships/image" Target="../media/image3.png"/><Relationship Id="rId11" Type="http://schemas.openxmlformats.org/officeDocument/2006/relationships/image" Target="../media/image7.png"/><Relationship Id="rId12" Type="http://schemas.openxmlformats.org/officeDocument/2006/relationships/image" Target="../media/image8.png"/><Relationship Id="rId13" Type="http://schemas.openxmlformats.org/officeDocument/2006/relationships/image" Target="../media/image9.png"/><Relationship Id="rId14" Type="http://schemas.openxmlformats.org/officeDocument/2006/relationships/image" Target="../media/image9.png"/><Relationship Id="rId15" Type="http://schemas.openxmlformats.org/officeDocument/2006/relationships/image" Target="../media/image10.png"/><Relationship Id="rId16" Type="http://schemas.openxmlformats.org/officeDocument/2006/relationships/image" Target="../media/image11.png"/><Relationship Id="rId17" Type="http://schemas.openxmlformats.org/officeDocument/2006/relationships/image" Target="../media/image12.png"/><Relationship Id="rId18" Type="http://schemas.openxmlformats.org/officeDocument/2006/relationships/image" Target="../media/image13.png"/><Relationship Id="rId19" Type="http://schemas.openxmlformats.org/officeDocument/2006/relationships/image" Target="../media/image10.png"/><Relationship Id="rId20" Type="http://schemas.openxmlformats.org/officeDocument/2006/relationships/image" Target="../media/image14.png"/><Relationship Id="rId21" Type="http://schemas.openxmlformats.org/officeDocument/2006/relationships/image" Target="../media/image14.png"/><Relationship Id="rId22" Type="http://schemas.openxmlformats.org/officeDocument/2006/relationships/slideLayout" Target="../slideLayouts/slideLayout1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cxnSp>
        <p:nvCxnSpPr>
          <p:cNvPr id="41" name=""/>
          <p:cNvCxnSpPr/>
          <p:nvPr/>
        </p:nvCxnSpPr>
        <p:spPr>
          <a:xfrm>
            <a:off x="5320800" y="841320"/>
            <a:ext cx="1080" cy="504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42" name=""/>
          <p:cNvCxnSpPr/>
          <p:nvPr/>
        </p:nvCxnSpPr>
        <p:spPr>
          <a:xfrm>
            <a:off x="2420640" y="740880"/>
            <a:ext cx="1080" cy="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43" name=""/>
          <p:cNvSpPr/>
          <p:nvPr/>
        </p:nvSpPr>
        <p:spPr>
          <a:xfrm>
            <a:off x="3521160" y="1341360"/>
            <a:ext cx="2592360" cy="9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7080" bIns="-3708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594240" y="906480"/>
            <a:ext cx="1655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Tahoma"/>
              </a:rPr>
              <a:t>analizzata in prospettiva scientif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0721880" y="3505320"/>
            <a:ext cx="1368360" cy="720720"/>
          </a:xfrm>
          <a:custGeom>
            <a:avLst/>
            <a:gdLst>
              <a:gd name="textAreaLeft" fmla="*/ 312120 w 1368360"/>
              <a:gd name="textAreaRight" fmla="*/ 1056240 w 1368360"/>
              <a:gd name="textAreaTop" fmla="*/ 164520 h 720720"/>
              <a:gd name="textAreaBottom" fmla="*/ 556200 h 72072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532" y="11523"/>
                </a:lnTo>
                <a:lnTo>
                  <a:pt x="198" y="12861"/>
                </a:lnTo>
                <a:lnTo>
                  <a:pt x="2822" y="13088"/>
                </a:lnTo>
                <a:lnTo>
                  <a:pt x="786" y="14846"/>
                </a:lnTo>
                <a:lnTo>
                  <a:pt x="3472" y="14697"/>
                </a:lnTo>
                <a:lnTo>
                  <a:pt x="1742" y="16682"/>
                </a:lnTo>
                <a:lnTo>
                  <a:pt x="4350" y="16023"/>
                </a:lnTo>
                <a:lnTo>
                  <a:pt x="3163" y="18437"/>
                </a:lnTo>
                <a:lnTo>
                  <a:pt x="5465" y="17158"/>
                </a:lnTo>
                <a:lnTo>
                  <a:pt x="4761" y="19754"/>
                </a:lnTo>
                <a:lnTo>
                  <a:pt x="6776" y="18059"/>
                </a:lnTo>
                <a:lnTo>
                  <a:pt x="6580" y="20741"/>
                </a:lnTo>
                <a:lnTo>
                  <a:pt x="8373" y="18737"/>
                </a:lnTo>
                <a:lnTo>
                  <a:pt x="8555" y="21364"/>
                </a:lnTo>
                <a:lnTo>
                  <a:pt x="9932" y="19055"/>
                </a:lnTo>
                <a:lnTo>
                  <a:pt x="10800" y="21600"/>
                </a:lnTo>
                <a:lnTo>
                  <a:pt x="11523" y="19068"/>
                </a:lnTo>
                <a:lnTo>
                  <a:pt x="12861" y="21402"/>
                </a:lnTo>
                <a:lnTo>
                  <a:pt x="13088" y="18778"/>
                </a:lnTo>
                <a:lnTo>
                  <a:pt x="14846" y="20814"/>
                </a:lnTo>
                <a:lnTo>
                  <a:pt x="14697" y="18128"/>
                </a:lnTo>
                <a:lnTo>
                  <a:pt x="16682" y="19858"/>
                </a:lnTo>
                <a:lnTo>
                  <a:pt x="16023" y="17250"/>
                </a:lnTo>
                <a:lnTo>
                  <a:pt x="18437" y="18437"/>
                </a:lnTo>
                <a:lnTo>
                  <a:pt x="17158" y="16135"/>
                </a:lnTo>
                <a:lnTo>
                  <a:pt x="19754" y="16839"/>
                </a:lnTo>
                <a:lnTo>
                  <a:pt x="18059" y="14824"/>
                </a:lnTo>
                <a:lnTo>
                  <a:pt x="20741" y="15020"/>
                </a:lnTo>
                <a:lnTo>
                  <a:pt x="18737" y="13227"/>
                </a:lnTo>
                <a:lnTo>
                  <a:pt x="21364" y="13045"/>
                </a:lnTo>
                <a:lnTo>
                  <a:pt x="19055" y="11668"/>
                </a:lnTo>
                <a:lnTo>
                  <a:pt x="21600" y="10800"/>
                </a:lnTo>
                <a:lnTo>
                  <a:pt x="19068" y="10077"/>
                </a:lnTo>
                <a:lnTo>
                  <a:pt x="21402" y="8739"/>
                </a:lnTo>
                <a:lnTo>
                  <a:pt x="18778" y="8512"/>
                </a:lnTo>
                <a:lnTo>
                  <a:pt x="20814" y="6754"/>
                </a:lnTo>
                <a:lnTo>
                  <a:pt x="18128" y="6903"/>
                </a:lnTo>
                <a:lnTo>
                  <a:pt x="19858" y="4918"/>
                </a:lnTo>
                <a:lnTo>
                  <a:pt x="17250" y="5577"/>
                </a:lnTo>
                <a:lnTo>
                  <a:pt x="18437" y="3163"/>
                </a:lnTo>
                <a:lnTo>
                  <a:pt x="16135" y="4442"/>
                </a:lnTo>
                <a:lnTo>
                  <a:pt x="16839" y="1846"/>
                </a:lnTo>
                <a:lnTo>
                  <a:pt x="14824" y="3541"/>
                </a:lnTo>
                <a:lnTo>
                  <a:pt x="15020" y="859"/>
                </a:lnTo>
                <a:lnTo>
                  <a:pt x="13227" y="2863"/>
                </a:lnTo>
                <a:lnTo>
                  <a:pt x="13045" y="236"/>
                </a:lnTo>
                <a:lnTo>
                  <a:pt x="11668" y="2545"/>
                </a:lnTo>
                <a:lnTo>
                  <a:pt x="10800" y="0"/>
                </a:lnTo>
                <a:lnTo>
                  <a:pt x="10077" y="2532"/>
                </a:lnTo>
                <a:lnTo>
                  <a:pt x="8739" y="198"/>
                </a:lnTo>
                <a:lnTo>
                  <a:pt x="8512" y="2822"/>
                </a:lnTo>
                <a:lnTo>
                  <a:pt x="6754" y="786"/>
                </a:lnTo>
                <a:lnTo>
                  <a:pt x="6903" y="3472"/>
                </a:lnTo>
                <a:lnTo>
                  <a:pt x="4918" y="1742"/>
                </a:lnTo>
                <a:lnTo>
                  <a:pt x="5577" y="4350"/>
                </a:lnTo>
                <a:lnTo>
                  <a:pt x="3163" y="3163"/>
                </a:lnTo>
                <a:lnTo>
                  <a:pt x="4442" y="5465"/>
                </a:lnTo>
                <a:lnTo>
                  <a:pt x="1846" y="4761"/>
                </a:lnTo>
                <a:lnTo>
                  <a:pt x="3541" y="6776"/>
                </a:lnTo>
                <a:lnTo>
                  <a:pt x="859" y="6580"/>
                </a:lnTo>
                <a:lnTo>
                  <a:pt x="2863" y="8373"/>
                </a:lnTo>
                <a:lnTo>
                  <a:pt x="236" y="8555"/>
                </a:lnTo>
                <a:lnTo>
                  <a:pt x="2545" y="9932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3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10982160" y="3714840"/>
            <a:ext cx="936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SPIRITUALE 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TEOLOG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"/>
          <p:cNvSpPr/>
          <p:nvPr/>
        </p:nvSpPr>
        <p:spPr>
          <a:xfrm>
            <a:off x="9137520" y="4871880"/>
            <a:ext cx="1513080" cy="47628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cc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"/>
          <p:cNvSpPr/>
          <p:nvPr/>
        </p:nvSpPr>
        <p:spPr>
          <a:xfrm>
            <a:off x="10721880" y="4871880"/>
            <a:ext cx="1798560" cy="59544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cc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DICOTOMIA ESPPRESSA IN GESU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e MARIA: UMANO E DIVINO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FATTORE E SUA FATTURA.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UNIONE FINITO-INFINI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9999360" y="4184640"/>
            <a:ext cx="2867760" cy="40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Tahoma"/>
              </a:rPr>
              <a:t>attraverso il viaggio di Dante in una dimensi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Tahoma"/>
              </a:rPr>
              <a:t>ultraterrena nel XXXIII canto del Paradis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10290240" y="45846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12018960" y="458460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8993160" y="4871880"/>
            <a:ext cx="1800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DESCRIVE UN 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UNIVERSO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INFINITO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 RACCHIUSO NELL’ETERNITA’ DI DI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 flipH="1">
            <a:off x="9353160" y="6456240"/>
            <a:ext cx="1800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H="1">
            <a:off x="10218600" y="6456240"/>
            <a:ext cx="935280" cy="792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>
            <a:off x="8273880" y="6816600"/>
            <a:ext cx="1008360" cy="50508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33cc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"/>
          <p:cNvSpPr/>
          <p:nvPr/>
        </p:nvSpPr>
        <p:spPr>
          <a:xfrm>
            <a:off x="8273880" y="6888240"/>
            <a:ext cx="1079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mistero del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TRINITA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"/>
          <p:cNvSpPr/>
          <p:nvPr/>
        </p:nvSpPr>
        <p:spPr>
          <a:xfrm>
            <a:off x="9569520" y="7176960"/>
            <a:ext cx="1008000" cy="64800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33cc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"/>
          <p:cNvSpPr/>
          <p:nvPr/>
        </p:nvSpPr>
        <p:spPr>
          <a:xfrm>
            <a:off x="9642600" y="7248600"/>
            <a:ext cx="8636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mistero della REALTA’ del MOLTEPLI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" name=""/>
          <p:cNvSpPr/>
          <p:nvPr/>
        </p:nvSpPr>
        <p:spPr>
          <a:xfrm>
            <a:off x="9282240" y="8832960"/>
            <a:ext cx="1368360" cy="57600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0 h 576000"/>
              <a:gd name="textAreaBottom" fmla="*/ 510840 h 576000"/>
            </a:gdLst>
            <a:ahLst/>
            <a:rect l="textAreaLeft" t="textAreaTop" r="textAreaRight" b="textAreaBottom"/>
            <a:pathLst>
              <a:path w="21600" h="21600">
                <a:moveTo>
                  <a:pt x="5400" y="19147"/>
                </a:moveTo>
                <a:lnTo>
                  <a:pt x="5400" y="20987"/>
                </a:lnTo>
                <a:cubicBezTo>
                  <a:pt x="5400" y="21293"/>
                  <a:pt x="4980" y="21600"/>
                  <a:pt x="4560" y="21600"/>
                </a:cubicBezTo>
                <a:lnTo>
                  <a:pt x="0" y="21600"/>
                </a:lnTo>
                <a:lnTo>
                  <a:pt x="2750" y="12027"/>
                </a:lnTo>
                <a:lnTo>
                  <a:pt x="0" y="2453"/>
                </a:lnTo>
                <a:lnTo>
                  <a:pt x="2700" y="2453"/>
                </a:lnTo>
                <a:lnTo>
                  <a:pt x="2700" y="613"/>
                </a:lnTo>
                <a:cubicBezTo>
                  <a:pt x="2700" y="307"/>
                  <a:pt x="3120" y="0"/>
                  <a:pt x="3540" y="0"/>
                </a:cubicBezTo>
                <a:lnTo>
                  <a:pt x="18060" y="0"/>
                </a:lnTo>
                <a:cubicBezTo>
                  <a:pt x="18480" y="0"/>
                  <a:pt x="18900" y="307"/>
                  <a:pt x="18900" y="613"/>
                </a:cubicBezTo>
                <a:lnTo>
                  <a:pt x="18900" y="2453"/>
                </a:lnTo>
                <a:lnTo>
                  <a:pt x="21600" y="2453"/>
                </a:lnTo>
                <a:lnTo>
                  <a:pt x="18850" y="12027"/>
                </a:lnTo>
                <a:lnTo>
                  <a:pt x="21600" y="21600"/>
                </a:lnTo>
                <a:lnTo>
                  <a:pt x="17040" y="21600"/>
                </a:lnTo>
                <a:cubicBezTo>
                  <a:pt x="16620" y="21600"/>
                  <a:pt x="16200" y="21293"/>
                  <a:pt x="16200" y="20987"/>
                </a:cubicBezTo>
                <a:lnTo>
                  <a:pt x="16200" y="19147"/>
                </a:lnTo>
                <a:close/>
              </a:path>
              <a:path fill="darkenLess" w="21600" h="21600">
                <a:moveTo>
                  <a:pt x="5400" y="19147"/>
                </a:moveTo>
                <a:lnTo>
                  <a:pt x="5400" y="20987"/>
                </a:lnTo>
                <a:cubicBezTo>
                  <a:pt x="5400" y="20680"/>
                  <a:pt x="4980" y="20374"/>
                  <a:pt x="4560" y="20374"/>
                </a:cubicBezTo>
                <a:lnTo>
                  <a:pt x="3540" y="20374"/>
                </a:lnTo>
                <a:cubicBezTo>
                  <a:pt x="3120" y="20374"/>
                  <a:pt x="2700" y="20067"/>
                  <a:pt x="2700" y="19760"/>
                </a:cubicBezTo>
                <a:cubicBezTo>
                  <a:pt x="2700" y="19454"/>
                  <a:pt x="3120" y="19147"/>
                  <a:pt x="3540" y="19147"/>
                </a:cubicBezTo>
                <a:close/>
              </a:path>
              <a:path fill="darkenLess" w="21600" h="21600">
                <a:moveTo>
                  <a:pt x="16200" y="19147"/>
                </a:moveTo>
                <a:lnTo>
                  <a:pt x="16200" y="20987"/>
                </a:lnTo>
                <a:cubicBezTo>
                  <a:pt x="16200" y="20680"/>
                  <a:pt x="16620" y="20374"/>
                  <a:pt x="17040" y="20374"/>
                </a:cubicBezTo>
                <a:lnTo>
                  <a:pt x="18060" y="20374"/>
                </a:lnTo>
                <a:cubicBezTo>
                  <a:pt x="18480" y="20374"/>
                  <a:pt x="18900" y="20067"/>
                  <a:pt x="18900" y="19760"/>
                </a:cubicBezTo>
                <a:cubicBezTo>
                  <a:pt x="18900" y="19454"/>
                  <a:pt x="18480" y="19147"/>
                  <a:pt x="18060" y="19147"/>
                </a:cubicBezTo>
                <a:close/>
              </a:path>
              <a:path fill="darkenLess" w="21600" h="21600">
                <a:moveTo>
                  <a:pt x="2700" y="19760"/>
                </a:moveTo>
                <a:lnTo>
                  <a:pt x="2700" y="2453"/>
                </a:lnTo>
              </a:path>
              <a:path fill="darkenLess" w="21600" h="21600">
                <a:moveTo>
                  <a:pt x="18900" y="19760"/>
                </a:moveTo>
                <a:lnTo>
                  <a:pt x="18900" y="2453"/>
                </a:lnTo>
              </a:path>
            </a:pathLst>
          </a:custGeom>
          <a:gradFill rotWithShape="0">
            <a:gsLst>
              <a:gs pos="0">
                <a:srgbClr val="33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9426600" y="8977320"/>
            <a:ext cx="12240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INCARNAZION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8489880" y="192240"/>
            <a:ext cx="2368800" cy="231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en-US" sz="900" spc="-1" strike="noStrike">
                <a:solidFill>
                  <a:srgbClr val="000000"/>
                </a:solidFill>
                <a:latin typeface="Tahoma"/>
              </a:rPr>
              <a:t>analizzata in prospettiva umanist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"/>
          <p:cNvSpPr/>
          <p:nvPr/>
        </p:nvSpPr>
        <p:spPr>
          <a:xfrm>
            <a:off x="4602240" y="47520"/>
            <a:ext cx="1800000" cy="816120"/>
          </a:xfrm>
          <a:prstGeom prst="flowChartPunchedTape">
            <a:avLst/>
          </a:prstGeom>
          <a:gradFill rotWithShape="0">
            <a:gsLst>
              <a:gs pos="0">
                <a:srgbClr val="ffffff"/>
              </a:gs>
              <a:gs pos="100000">
                <a:srgbClr val="ffff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ahoma"/>
              </a:rPr>
              <a:t>La tensione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1400" spc="-1" strike="noStrike">
                <a:solidFill>
                  <a:srgbClr val="cc0000"/>
                </a:solidFill>
                <a:latin typeface="Tahoma"/>
              </a:rPr>
              <a:t>Finito - Infinito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3" name=""/>
          <p:cNvSpPr/>
          <p:nvPr/>
        </p:nvSpPr>
        <p:spPr>
          <a:xfrm>
            <a:off x="2009880" y="984240"/>
            <a:ext cx="1584360" cy="792000"/>
          </a:xfrm>
          <a:custGeom>
            <a:avLst/>
            <a:gdLst>
              <a:gd name="textAreaLeft" fmla="*/ 348480 w 1584360"/>
              <a:gd name="textAreaRight" fmla="*/ 1235880 w 1584360"/>
              <a:gd name="textAreaTop" fmla="*/ 174240 h 792000"/>
              <a:gd name="textAreaBottom" fmla="*/ 6177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277" y="11546"/>
                </a:lnTo>
                <a:lnTo>
                  <a:pt x="198" y="12861"/>
                </a:lnTo>
                <a:lnTo>
                  <a:pt x="2575" y="13158"/>
                </a:lnTo>
                <a:lnTo>
                  <a:pt x="786" y="14846"/>
                </a:lnTo>
                <a:lnTo>
                  <a:pt x="3246" y="14817"/>
                </a:lnTo>
                <a:lnTo>
                  <a:pt x="1742" y="16682"/>
                </a:lnTo>
                <a:lnTo>
                  <a:pt x="4151" y="16184"/>
                </a:lnTo>
                <a:lnTo>
                  <a:pt x="3163" y="18437"/>
                </a:lnTo>
                <a:lnTo>
                  <a:pt x="5300" y="17354"/>
                </a:lnTo>
                <a:lnTo>
                  <a:pt x="4761" y="19754"/>
                </a:lnTo>
                <a:lnTo>
                  <a:pt x="6652" y="18283"/>
                </a:lnTo>
                <a:lnTo>
                  <a:pt x="6580" y="20741"/>
                </a:lnTo>
                <a:lnTo>
                  <a:pt x="8298" y="18982"/>
                </a:lnTo>
                <a:lnTo>
                  <a:pt x="8555" y="21364"/>
                </a:lnTo>
                <a:lnTo>
                  <a:pt x="9906" y="19309"/>
                </a:lnTo>
                <a:lnTo>
                  <a:pt x="10800" y="21600"/>
                </a:lnTo>
                <a:lnTo>
                  <a:pt x="11546" y="19323"/>
                </a:lnTo>
                <a:lnTo>
                  <a:pt x="12861" y="21402"/>
                </a:lnTo>
                <a:lnTo>
                  <a:pt x="13158" y="19025"/>
                </a:lnTo>
                <a:lnTo>
                  <a:pt x="14846" y="20814"/>
                </a:lnTo>
                <a:lnTo>
                  <a:pt x="14817" y="18354"/>
                </a:lnTo>
                <a:lnTo>
                  <a:pt x="16682" y="19858"/>
                </a:lnTo>
                <a:lnTo>
                  <a:pt x="16184" y="17449"/>
                </a:lnTo>
                <a:lnTo>
                  <a:pt x="18437" y="18437"/>
                </a:lnTo>
                <a:lnTo>
                  <a:pt x="17354" y="16300"/>
                </a:lnTo>
                <a:lnTo>
                  <a:pt x="19754" y="16839"/>
                </a:lnTo>
                <a:lnTo>
                  <a:pt x="18283" y="14948"/>
                </a:lnTo>
                <a:lnTo>
                  <a:pt x="20741" y="15020"/>
                </a:lnTo>
                <a:lnTo>
                  <a:pt x="18982" y="13302"/>
                </a:lnTo>
                <a:lnTo>
                  <a:pt x="21364" y="13045"/>
                </a:lnTo>
                <a:lnTo>
                  <a:pt x="19309" y="11694"/>
                </a:lnTo>
                <a:lnTo>
                  <a:pt x="21600" y="10800"/>
                </a:lnTo>
                <a:lnTo>
                  <a:pt x="19323" y="10054"/>
                </a:lnTo>
                <a:lnTo>
                  <a:pt x="21402" y="8739"/>
                </a:lnTo>
                <a:lnTo>
                  <a:pt x="19025" y="8442"/>
                </a:lnTo>
                <a:lnTo>
                  <a:pt x="20814" y="6754"/>
                </a:lnTo>
                <a:lnTo>
                  <a:pt x="18354" y="6783"/>
                </a:lnTo>
                <a:lnTo>
                  <a:pt x="19858" y="4918"/>
                </a:lnTo>
                <a:lnTo>
                  <a:pt x="17449" y="5416"/>
                </a:lnTo>
                <a:lnTo>
                  <a:pt x="18437" y="3163"/>
                </a:lnTo>
                <a:lnTo>
                  <a:pt x="16300" y="4246"/>
                </a:lnTo>
                <a:lnTo>
                  <a:pt x="16839" y="1846"/>
                </a:lnTo>
                <a:lnTo>
                  <a:pt x="14948" y="3317"/>
                </a:lnTo>
                <a:lnTo>
                  <a:pt x="15020" y="859"/>
                </a:lnTo>
                <a:lnTo>
                  <a:pt x="13302" y="2618"/>
                </a:lnTo>
                <a:lnTo>
                  <a:pt x="13045" y="236"/>
                </a:lnTo>
                <a:lnTo>
                  <a:pt x="11694" y="2291"/>
                </a:lnTo>
                <a:lnTo>
                  <a:pt x="10800" y="0"/>
                </a:lnTo>
                <a:lnTo>
                  <a:pt x="10054" y="2277"/>
                </a:lnTo>
                <a:lnTo>
                  <a:pt x="8739" y="198"/>
                </a:lnTo>
                <a:lnTo>
                  <a:pt x="8442" y="2575"/>
                </a:lnTo>
                <a:lnTo>
                  <a:pt x="6754" y="786"/>
                </a:lnTo>
                <a:lnTo>
                  <a:pt x="6783" y="3246"/>
                </a:lnTo>
                <a:lnTo>
                  <a:pt x="4918" y="1742"/>
                </a:lnTo>
                <a:lnTo>
                  <a:pt x="5416" y="4151"/>
                </a:lnTo>
                <a:lnTo>
                  <a:pt x="3163" y="3163"/>
                </a:lnTo>
                <a:lnTo>
                  <a:pt x="4246" y="5300"/>
                </a:lnTo>
                <a:lnTo>
                  <a:pt x="1846" y="4761"/>
                </a:lnTo>
                <a:lnTo>
                  <a:pt x="3317" y="6652"/>
                </a:lnTo>
                <a:lnTo>
                  <a:pt x="859" y="6580"/>
                </a:lnTo>
                <a:lnTo>
                  <a:pt x="2618" y="8298"/>
                </a:lnTo>
                <a:lnTo>
                  <a:pt x="236" y="8555"/>
                </a:lnTo>
                <a:lnTo>
                  <a:pt x="2291" y="990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008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2225520" y="1195560"/>
            <a:ext cx="1224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SPERIMENTALE 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ASTRONOMICA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6041880" y="912960"/>
            <a:ext cx="1584360" cy="792000"/>
          </a:xfrm>
          <a:custGeom>
            <a:avLst/>
            <a:gdLst>
              <a:gd name="textAreaLeft" fmla="*/ 348480 w 1584360"/>
              <a:gd name="textAreaRight" fmla="*/ 1235880 w 1584360"/>
              <a:gd name="textAreaTop" fmla="*/ 174240 h 792000"/>
              <a:gd name="textAreaBottom" fmla="*/ 617760 h 79200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2277" y="11546"/>
                </a:lnTo>
                <a:lnTo>
                  <a:pt x="198" y="12861"/>
                </a:lnTo>
                <a:lnTo>
                  <a:pt x="2575" y="13158"/>
                </a:lnTo>
                <a:lnTo>
                  <a:pt x="786" y="14846"/>
                </a:lnTo>
                <a:lnTo>
                  <a:pt x="3246" y="14817"/>
                </a:lnTo>
                <a:lnTo>
                  <a:pt x="1742" y="16682"/>
                </a:lnTo>
                <a:lnTo>
                  <a:pt x="4151" y="16184"/>
                </a:lnTo>
                <a:lnTo>
                  <a:pt x="3163" y="18437"/>
                </a:lnTo>
                <a:lnTo>
                  <a:pt x="5300" y="17354"/>
                </a:lnTo>
                <a:lnTo>
                  <a:pt x="4761" y="19754"/>
                </a:lnTo>
                <a:lnTo>
                  <a:pt x="6652" y="18283"/>
                </a:lnTo>
                <a:lnTo>
                  <a:pt x="6580" y="20741"/>
                </a:lnTo>
                <a:lnTo>
                  <a:pt x="8298" y="18982"/>
                </a:lnTo>
                <a:lnTo>
                  <a:pt x="8555" y="21364"/>
                </a:lnTo>
                <a:lnTo>
                  <a:pt x="9906" y="19309"/>
                </a:lnTo>
                <a:lnTo>
                  <a:pt x="10800" y="21600"/>
                </a:lnTo>
                <a:lnTo>
                  <a:pt x="11546" y="19323"/>
                </a:lnTo>
                <a:lnTo>
                  <a:pt x="12861" y="21402"/>
                </a:lnTo>
                <a:lnTo>
                  <a:pt x="13158" y="19025"/>
                </a:lnTo>
                <a:lnTo>
                  <a:pt x="14846" y="20814"/>
                </a:lnTo>
                <a:lnTo>
                  <a:pt x="14817" y="18354"/>
                </a:lnTo>
                <a:lnTo>
                  <a:pt x="16682" y="19858"/>
                </a:lnTo>
                <a:lnTo>
                  <a:pt x="16184" y="17449"/>
                </a:lnTo>
                <a:lnTo>
                  <a:pt x="18437" y="18437"/>
                </a:lnTo>
                <a:lnTo>
                  <a:pt x="17354" y="16300"/>
                </a:lnTo>
                <a:lnTo>
                  <a:pt x="19754" y="16839"/>
                </a:lnTo>
                <a:lnTo>
                  <a:pt x="18283" y="14948"/>
                </a:lnTo>
                <a:lnTo>
                  <a:pt x="20741" y="15020"/>
                </a:lnTo>
                <a:lnTo>
                  <a:pt x="18982" y="13302"/>
                </a:lnTo>
                <a:lnTo>
                  <a:pt x="21364" y="13045"/>
                </a:lnTo>
                <a:lnTo>
                  <a:pt x="19309" y="11694"/>
                </a:lnTo>
                <a:lnTo>
                  <a:pt x="21600" y="10800"/>
                </a:lnTo>
                <a:lnTo>
                  <a:pt x="19323" y="10054"/>
                </a:lnTo>
                <a:lnTo>
                  <a:pt x="21402" y="8739"/>
                </a:lnTo>
                <a:lnTo>
                  <a:pt x="19025" y="8442"/>
                </a:lnTo>
                <a:lnTo>
                  <a:pt x="20814" y="6754"/>
                </a:lnTo>
                <a:lnTo>
                  <a:pt x="18354" y="6783"/>
                </a:lnTo>
                <a:lnTo>
                  <a:pt x="19858" y="4918"/>
                </a:lnTo>
                <a:lnTo>
                  <a:pt x="17449" y="5416"/>
                </a:lnTo>
                <a:lnTo>
                  <a:pt x="18437" y="3163"/>
                </a:lnTo>
                <a:lnTo>
                  <a:pt x="16300" y="4246"/>
                </a:lnTo>
                <a:lnTo>
                  <a:pt x="16839" y="1846"/>
                </a:lnTo>
                <a:lnTo>
                  <a:pt x="14948" y="3317"/>
                </a:lnTo>
                <a:lnTo>
                  <a:pt x="15020" y="859"/>
                </a:lnTo>
                <a:lnTo>
                  <a:pt x="13302" y="2618"/>
                </a:lnTo>
                <a:lnTo>
                  <a:pt x="13045" y="236"/>
                </a:lnTo>
                <a:lnTo>
                  <a:pt x="11694" y="2291"/>
                </a:lnTo>
                <a:lnTo>
                  <a:pt x="10800" y="0"/>
                </a:lnTo>
                <a:lnTo>
                  <a:pt x="10054" y="2277"/>
                </a:lnTo>
                <a:lnTo>
                  <a:pt x="8739" y="198"/>
                </a:lnTo>
                <a:lnTo>
                  <a:pt x="8442" y="2575"/>
                </a:lnTo>
                <a:lnTo>
                  <a:pt x="6754" y="786"/>
                </a:lnTo>
                <a:lnTo>
                  <a:pt x="6783" y="3246"/>
                </a:lnTo>
                <a:lnTo>
                  <a:pt x="4918" y="1742"/>
                </a:lnTo>
                <a:lnTo>
                  <a:pt x="5416" y="4151"/>
                </a:lnTo>
                <a:lnTo>
                  <a:pt x="3163" y="3163"/>
                </a:lnTo>
                <a:lnTo>
                  <a:pt x="4246" y="5300"/>
                </a:lnTo>
                <a:lnTo>
                  <a:pt x="1846" y="4761"/>
                </a:lnTo>
                <a:lnTo>
                  <a:pt x="3317" y="6652"/>
                </a:lnTo>
                <a:lnTo>
                  <a:pt x="859" y="6580"/>
                </a:lnTo>
                <a:lnTo>
                  <a:pt x="2618" y="8298"/>
                </a:lnTo>
                <a:lnTo>
                  <a:pt x="236" y="8555"/>
                </a:lnTo>
                <a:lnTo>
                  <a:pt x="2291" y="9906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6257880" y="1128600"/>
            <a:ext cx="1152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561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MATEMATICA e RAZIONALE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>
            <a:off x="1144440" y="1920960"/>
            <a:ext cx="1081080" cy="360360"/>
          </a:xfrm>
          <a:prstGeom prst="flowChartProcess">
            <a:avLst/>
          </a:prstGeom>
          <a:blipFill rotWithShape="0">
            <a:blip r:embed="rId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281160" y="1487520"/>
            <a:ext cx="2160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</a:rPr>
              <a:t>ripercorrendo le tappe che hanno portato alla formulazione del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1073160" y="199224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LEGGE di HUBB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>
            <a:off x="281160" y="2279520"/>
            <a:ext cx="1942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</a:rPr>
              <a:t>verifica dell’allontanamento  delle galassi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>
            <a:off x="1649520" y="2279520"/>
            <a:ext cx="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>
            <a:off x="1144440" y="2568600"/>
            <a:ext cx="1081080" cy="360360"/>
          </a:xfrm>
          <a:prstGeom prst="flowChartProcess">
            <a:avLst/>
          </a:prstGeom>
          <a:blipFill rotWithShape="0">
            <a:blip r:embed="rId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928800" y="2568600"/>
            <a:ext cx="1511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vengono rielaborate equazioni di Einstei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1576440" y="2928960"/>
            <a:ext cx="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1649520" y="292896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1073160" y="3144960"/>
            <a:ext cx="1152360" cy="647640"/>
          </a:xfrm>
          <a:prstGeom prst="horizontalScroll">
            <a:avLst>
              <a:gd name="adj" fmla="val 12500"/>
            </a:avLst>
          </a:prstGeom>
          <a:blipFill rotWithShape="0">
            <a:blip r:embed="rId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>
            <a:off x="1217520" y="3287880"/>
            <a:ext cx="935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TEORIA del BIG BANG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>
            <a:off x="353880" y="2928960"/>
            <a:ext cx="2087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</a:rPr>
              <a:t>se si espande, come è nato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2152440" y="1631880"/>
            <a:ext cx="21564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V="1">
            <a:off x="2225520" y="3216240"/>
            <a:ext cx="28764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>
            <a:off x="2297160" y="3287880"/>
            <a:ext cx="1439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</a:rPr>
              <a:t>in parte modificata dal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2513160" y="2855880"/>
            <a:ext cx="1081080" cy="360360"/>
          </a:xfrm>
          <a:prstGeom prst="flowChartProcess">
            <a:avLst/>
          </a:prstGeom>
          <a:blipFill rotWithShape="0">
            <a:blip r:embed="rId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TEORIA UNIVERS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INFLAZIONARI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>
            <a:off x="1649520" y="3720960"/>
            <a:ext cx="0" cy="3589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>
            <a:off x="281160" y="3720960"/>
            <a:ext cx="1792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</a:rPr>
              <a:t>verificata dalla scoperta del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1001880" y="4079880"/>
            <a:ext cx="1296720" cy="360360"/>
          </a:xfrm>
          <a:prstGeom prst="flowChartProcess">
            <a:avLst/>
          </a:prstGeom>
          <a:blipFill rotWithShape="0">
            <a:blip r:embed="rId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RADIAZIONE COSMIC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DI FOND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6"/>
          <a:stretch/>
        </p:blipFill>
        <p:spPr>
          <a:xfrm>
            <a:off x="496800" y="7521480"/>
            <a:ext cx="2233800" cy="879480"/>
          </a:xfrm>
          <a:prstGeom prst="rect">
            <a:avLst/>
          </a:prstGeom>
          <a:ln w="0">
            <a:noFill/>
          </a:ln>
        </p:spPr>
      </p:pic>
      <p:cxnSp>
        <p:nvCxnSpPr>
          <p:cNvPr id="87" name=""/>
          <p:cNvCxnSpPr>
            <a:stCxn id="63" idx="0"/>
          </p:cNvCxnSpPr>
          <p:nvPr/>
        </p:nvCxnSpPr>
        <p:spPr>
          <a:xfrm>
            <a:off x="2010240" y="984600"/>
            <a:ext cx="2448360" cy="287964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88" name=""/>
          <p:cNvSpPr/>
          <p:nvPr/>
        </p:nvSpPr>
        <p:spPr>
          <a:xfrm>
            <a:off x="2585880" y="4032360"/>
            <a:ext cx="19447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</a:rPr>
              <a:t>Conduce a considerare da due diversi punti di vista l’UNIVERSO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 flipH="1">
            <a:off x="4097160" y="3863880"/>
            <a:ext cx="360720" cy="21600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1001880" y="4871880"/>
            <a:ext cx="1223640" cy="649440"/>
          </a:xfrm>
          <a:prstGeom prst="horizontalScroll">
            <a:avLst>
              <a:gd name="adj" fmla="val 16138"/>
            </a:avLst>
          </a:prstGeom>
          <a:blipFill rotWithShape="0">
            <a:blip r:embed="rId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“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POTENZIALMENTE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Tahoma"/>
              </a:rPr>
              <a:t>INFINI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4602240" y="4871880"/>
            <a:ext cx="1008000" cy="649440"/>
          </a:xfrm>
          <a:prstGeom prst="horizontalScroll">
            <a:avLst>
              <a:gd name="adj" fmla="val 12500"/>
            </a:avLst>
          </a:prstGeom>
          <a:blipFill rotWithShape="0">
            <a:blip r:embed="rId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SICURAME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Tahoma"/>
              </a:rPr>
              <a:t>FINITO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 quell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OSSERVAB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92" name=""/>
          <p:cNvCxnSpPr>
            <a:stCxn id="88" idx="2"/>
            <a:endCxn id="90" idx="3"/>
          </p:cNvCxnSpPr>
          <p:nvPr/>
        </p:nvCxnSpPr>
        <p:spPr>
          <a:xfrm flipH="1">
            <a:off x="2225520" y="4369680"/>
            <a:ext cx="1333080" cy="827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cxnSp>
        <p:nvCxnSpPr>
          <p:cNvPr id="93" name=""/>
          <p:cNvCxnSpPr>
            <a:stCxn id="88" idx="2"/>
          </p:cNvCxnSpPr>
          <p:nvPr/>
        </p:nvCxnSpPr>
        <p:spPr>
          <a:xfrm>
            <a:off x="3558240" y="4369680"/>
            <a:ext cx="1044360" cy="86328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94" name=""/>
          <p:cNvSpPr/>
          <p:nvPr/>
        </p:nvSpPr>
        <p:spPr>
          <a:xfrm>
            <a:off x="5610240" y="5160960"/>
            <a:ext cx="50328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5465880" y="4946760"/>
            <a:ext cx="7905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</a:rPr>
              <a:t>poich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6113520" y="4944960"/>
            <a:ext cx="1297080" cy="360360"/>
          </a:xfrm>
          <a:prstGeom prst="flowChartProcess">
            <a:avLst/>
          </a:prstGeom>
          <a:blipFill rotWithShape="0">
            <a:blip r:embed="rId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la velocità della luce è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una grandezza fini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6689880" y="5305320"/>
            <a:ext cx="0" cy="432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5681520" y="5376960"/>
            <a:ext cx="1081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</a:rPr>
              <a:t>consente di stimarlo in cir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6113520" y="5737320"/>
            <a:ext cx="1297080" cy="360360"/>
          </a:xfrm>
          <a:prstGeom prst="flowChartProcess">
            <a:avLst/>
          </a:prstGeom>
          <a:blipFill rotWithShape="0">
            <a:blip r:embed="rId1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50 miliardi di anni lu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1576440" y="5448240"/>
            <a:ext cx="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281160" y="5448240"/>
            <a:ext cx="2160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</a:rPr>
              <a:t>studiando la sua evoluzione attravers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1073160" y="5737320"/>
            <a:ext cx="1008000" cy="360360"/>
          </a:xfrm>
          <a:prstGeom prst="flowChartProcess">
            <a:avLst/>
          </a:prstGeom>
          <a:blipFill rotWithShape="0">
            <a:blip r:embed="rId1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il PARAMETRO 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Ω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DI DENSITA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2081160" y="595296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2081160" y="5737320"/>
            <a:ext cx="865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</a:rPr>
              <a:t>cioè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2513160" y="5592600"/>
            <a:ext cx="1295280" cy="576360"/>
          </a:xfrm>
          <a:prstGeom prst="flowChartProcess">
            <a:avLst/>
          </a:prstGeom>
          <a:blipFill rotWithShape="0">
            <a:blip r:embed="rId12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il rapporto tr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DENSITA’ MEDI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della MASSA TOTA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e DENSITA’ CRITIC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785880" y="6529320"/>
            <a:ext cx="251928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785880" y="65278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3305160" y="65278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"/>
          <p:cNvSpPr/>
          <p:nvPr/>
        </p:nvSpPr>
        <p:spPr>
          <a:xfrm>
            <a:off x="2009880" y="6527880"/>
            <a:ext cx="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"/>
          <p:cNvSpPr/>
          <p:nvPr/>
        </p:nvSpPr>
        <p:spPr>
          <a:xfrm>
            <a:off x="1649520" y="6192720"/>
            <a:ext cx="2376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</a:rPr>
              <a:t>è possibile ottenere tre modelli di evoluzione universale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1" name=""/>
          <p:cNvSpPr/>
          <p:nvPr/>
        </p:nvSpPr>
        <p:spPr>
          <a:xfrm>
            <a:off x="1576440" y="6095880"/>
            <a:ext cx="0" cy="4334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1576440" y="6816600"/>
            <a:ext cx="1081080" cy="432000"/>
          </a:xfrm>
          <a:prstGeom prst="flowChartProcess">
            <a:avLst/>
          </a:prstGeom>
          <a:blipFill rotWithShape="0">
            <a:blip r:embed="rId13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Ω&gt;1 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univers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CHIUS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(curvatura positiva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"/>
          <p:cNvSpPr/>
          <p:nvPr/>
        </p:nvSpPr>
        <p:spPr>
          <a:xfrm>
            <a:off x="352440" y="6816600"/>
            <a:ext cx="1081080" cy="432000"/>
          </a:xfrm>
          <a:prstGeom prst="flowChartProcess">
            <a:avLst/>
          </a:prstGeom>
          <a:blipFill rotWithShape="0">
            <a:blip r:embed="rId14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Ω&lt;1 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univers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APER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(curvatura negativa)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4" name=""/>
          <p:cNvSpPr/>
          <p:nvPr/>
        </p:nvSpPr>
        <p:spPr>
          <a:xfrm>
            <a:off x="2873520" y="6816600"/>
            <a:ext cx="1368360" cy="576360"/>
          </a:xfrm>
          <a:custGeom>
            <a:avLst/>
            <a:gdLst>
              <a:gd name="textAreaLeft" fmla="*/ 171000 w 1368360"/>
              <a:gd name="textAreaRight" fmla="*/ 1197360 w 1368360"/>
              <a:gd name="textAreaTop" fmla="*/ 0 h 576360"/>
              <a:gd name="textAreaBottom" fmla="*/ 511200 h 576360"/>
            </a:gdLst>
            <a:ahLst/>
            <a:rect l="textAreaLeft" t="textAreaTop" r="textAreaRight" b="textAreaBottom"/>
            <a:pathLst>
              <a:path w="21600" h="21600">
                <a:moveTo>
                  <a:pt x="5400" y="19147"/>
                </a:moveTo>
                <a:lnTo>
                  <a:pt x="5400" y="20987"/>
                </a:lnTo>
                <a:cubicBezTo>
                  <a:pt x="5400" y="21293"/>
                  <a:pt x="4980" y="21600"/>
                  <a:pt x="4560" y="21600"/>
                </a:cubicBezTo>
                <a:lnTo>
                  <a:pt x="0" y="21600"/>
                </a:lnTo>
                <a:lnTo>
                  <a:pt x="2750" y="12027"/>
                </a:lnTo>
                <a:lnTo>
                  <a:pt x="0" y="2453"/>
                </a:lnTo>
                <a:lnTo>
                  <a:pt x="2700" y="2453"/>
                </a:lnTo>
                <a:lnTo>
                  <a:pt x="2700" y="613"/>
                </a:lnTo>
                <a:cubicBezTo>
                  <a:pt x="2700" y="307"/>
                  <a:pt x="3120" y="0"/>
                  <a:pt x="3540" y="0"/>
                </a:cubicBezTo>
                <a:lnTo>
                  <a:pt x="18060" y="0"/>
                </a:lnTo>
                <a:cubicBezTo>
                  <a:pt x="18480" y="0"/>
                  <a:pt x="18900" y="307"/>
                  <a:pt x="18900" y="613"/>
                </a:cubicBezTo>
                <a:lnTo>
                  <a:pt x="18900" y="2453"/>
                </a:lnTo>
                <a:lnTo>
                  <a:pt x="21600" y="2453"/>
                </a:lnTo>
                <a:lnTo>
                  <a:pt x="18850" y="12027"/>
                </a:lnTo>
                <a:lnTo>
                  <a:pt x="21600" y="21600"/>
                </a:lnTo>
                <a:lnTo>
                  <a:pt x="17040" y="21600"/>
                </a:lnTo>
                <a:cubicBezTo>
                  <a:pt x="16620" y="21600"/>
                  <a:pt x="16200" y="21293"/>
                  <a:pt x="16200" y="20987"/>
                </a:cubicBezTo>
                <a:lnTo>
                  <a:pt x="16200" y="19147"/>
                </a:lnTo>
                <a:close/>
              </a:path>
              <a:path fill="darkenLess" w="21600" h="21600">
                <a:moveTo>
                  <a:pt x="5400" y="19147"/>
                </a:moveTo>
                <a:lnTo>
                  <a:pt x="5400" y="20987"/>
                </a:lnTo>
                <a:cubicBezTo>
                  <a:pt x="5400" y="20680"/>
                  <a:pt x="4980" y="20374"/>
                  <a:pt x="4560" y="20374"/>
                </a:cubicBezTo>
                <a:lnTo>
                  <a:pt x="3540" y="20374"/>
                </a:lnTo>
                <a:cubicBezTo>
                  <a:pt x="3120" y="20374"/>
                  <a:pt x="2700" y="20067"/>
                  <a:pt x="2700" y="19760"/>
                </a:cubicBezTo>
                <a:cubicBezTo>
                  <a:pt x="2700" y="19454"/>
                  <a:pt x="3120" y="19147"/>
                  <a:pt x="3540" y="19147"/>
                </a:cubicBezTo>
                <a:close/>
              </a:path>
              <a:path fill="darkenLess" w="21600" h="21600">
                <a:moveTo>
                  <a:pt x="16200" y="19147"/>
                </a:moveTo>
                <a:lnTo>
                  <a:pt x="16200" y="20987"/>
                </a:lnTo>
                <a:cubicBezTo>
                  <a:pt x="16200" y="20680"/>
                  <a:pt x="16620" y="20374"/>
                  <a:pt x="17040" y="20374"/>
                </a:cubicBezTo>
                <a:lnTo>
                  <a:pt x="18060" y="20374"/>
                </a:lnTo>
                <a:cubicBezTo>
                  <a:pt x="18480" y="20374"/>
                  <a:pt x="18900" y="20067"/>
                  <a:pt x="18900" y="19760"/>
                </a:cubicBezTo>
                <a:cubicBezTo>
                  <a:pt x="18900" y="19454"/>
                  <a:pt x="18480" y="19147"/>
                  <a:pt x="18060" y="19147"/>
                </a:cubicBezTo>
                <a:close/>
              </a:path>
              <a:path fill="darkenLess" w="21600" h="21600">
                <a:moveTo>
                  <a:pt x="2700" y="19760"/>
                </a:moveTo>
                <a:lnTo>
                  <a:pt x="2700" y="2453"/>
                </a:lnTo>
              </a:path>
              <a:path fill="darkenLess" w="21600" h="21600">
                <a:moveTo>
                  <a:pt x="18900" y="19760"/>
                </a:moveTo>
                <a:lnTo>
                  <a:pt x="18900" y="2453"/>
                </a:lnTo>
              </a:path>
            </a:pathLst>
          </a:custGeom>
          <a:gradFill rotWithShape="0">
            <a:gsLst>
              <a:gs pos="0">
                <a:srgbClr val="c0c0c0"/>
              </a:gs>
              <a:gs pos="100000">
                <a:srgbClr val="0099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Ω=1 univers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ff0000"/>
                </a:solidFill>
                <a:latin typeface="Tahoma"/>
                <a:ea typeface="Tahoma"/>
              </a:rPr>
              <a:t>PIAT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  <a:ea typeface="Tahoma"/>
              </a:rPr>
              <a:t>(curvatura nulla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"/>
          <p:cNvSpPr/>
          <p:nvPr/>
        </p:nvSpPr>
        <p:spPr>
          <a:xfrm>
            <a:off x="3521160" y="7321680"/>
            <a:ext cx="0" cy="503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4241880" y="696132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</a:rPr>
              <a:t>considera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3017880" y="7824960"/>
            <a:ext cx="1152360" cy="431640"/>
          </a:xfrm>
          <a:prstGeom prst="flowChartProcess">
            <a:avLst/>
          </a:prstGeom>
          <a:blipFill rotWithShape="0">
            <a:blip r:embed="rId15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massa sufficiente per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fermare l’espansion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521160" y="825660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49520" y="832968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</a:rPr>
              <a:t>ma soltan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2801880" y="8616960"/>
            <a:ext cx="1440000" cy="576360"/>
          </a:xfrm>
          <a:prstGeom prst="flowChartProcess">
            <a:avLst/>
          </a:prstGeom>
          <a:blipFill rotWithShape="0">
            <a:blip r:embed="rId16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dopo un TEMPO INFINITO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raggiungendo lo zer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asintoticament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097160" y="6888240"/>
            <a:ext cx="721080" cy="2174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818240" y="6456240"/>
            <a:ext cx="1439640" cy="503280"/>
          </a:xfrm>
          <a:prstGeom prst="flowChartProcess">
            <a:avLst/>
          </a:prstGeom>
          <a:blipFill rotWithShape="0">
            <a:blip r:embed="rId17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il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più attendibile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 poich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verificato dall’esperimen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BOOMERANG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4457880" y="8832960"/>
            <a:ext cx="360360" cy="144360"/>
          </a:xfrm>
          <a:prstGeom prst="rightArrow">
            <a:avLst>
              <a:gd name="adj1" fmla="val 34065"/>
              <a:gd name="adj2" fmla="val 58731"/>
            </a:avLst>
          </a:prstGeom>
          <a:solidFill>
            <a:srgbClr val="009900">
              <a:alpha val="71000"/>
            </a:srgbClr>
          </a:solidFill>
          <a:ln w="90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2520" bIns="252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"/>
          <p:cNvSpPr/>
          <p:nvPr/>
        </p:nvSpPr>
        <p:spPr>
          <a:xfrm>
            <a:off x="4386240" y="890424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en-US" sz="800" spc="-1" strike="noStrike">
                <a:solidFill>
                  <a:srgbClr val="ff0000"/>
                </a:solidFill>
                <a:latin typeface="Tahoma"/>
              </a:rPr>
              <a:t>però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960800" y="8688240"/>
            <a:ext cx="1368720" cy="433440"/>
          </a:xfrm>
          <a:prstGeom prst="flowChartProcess">
            <a:avLst/>
          </a:prstGeom>
          <a:blipFill rotWithShape="0">
            <a:blip r:embed="rId18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considerando la presen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dell’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ENERGIA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OSCUR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 flipV="1">
            <a:off x="5537160" y="8256240"/>
            <a:ext cx="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5249880" y="724860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</a:rPr>
              <a:t>dun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5105520" y="7824960"/>
            <a:ext cx="1152360" cy="431640"/>
          </a:xfrm>
          <a:prstGeom prst="flowChartProcess">
            <a:avLst/>
          </a:prstGeom>
          <a:blipFill rotWithShape="0">
            <a:blip r:embed="rId19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ESPANSION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DELLE GALASSI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STA ACCELERAND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 flipV="1">
            <a:off x="6329520" y="8616960"/>
            <a:ext cx="504720" cy="2872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6545160" y="8712360"/>
            <a:ext cx="12240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</a:rPr>
              <a:t>e che se AUMENTASS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6905520" y="8113680"/>
            <a:ext cx="1224000" cy="503280"/>
          </a:xfrm>
          <a:prstGeom prst="flowChartProcess">
            <a:avLst/>
          </a:prstGeom>
          <a:blipFill rotWithShape="0">
            <a:blip r:embed="rId20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l’UNIVERSO VERREBB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FRANTUMA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(Teoria del BIG RIP)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2" name=""/>
          <p:cNvCxnSpPr/>
          <p:nvPr/>
        </p:nvCxnSpPr>
        <p:spPr>
          <a:xfrm flipV="1">
            <a:off x="5536800" y="7463880"/>
            <a:ext cx="1080" cy="36108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sp>
        <p:nvSpPr>
          <p:cNvPr id="133" name=""/>
          <p:cNvSpPr/>
          <p:nvPr/>
        </p:nvSpPr>
        <p:spPr>
          <a:xfrm>
            <a:off x="5537160" y="7464600"/>
            <a:ext cx="43200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5969160" y="7176960"/>
            <a:ext cx="1223640" cy="503280"/>
          </a:xfrm>
          <a:prstGeom prst="flowChartProcess">
            <a:avLst/>
          </a:prstGeom>
          <a:blipFill rotWithShape="0">
            <a:blip r:embed="rId21"/>
            <a:srcRect/>
            <a:stretch/>
          </a:blip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la COSTANT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COSMOLOGI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di Einstein era corret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35" name=""/>
          <p:cNvCxnSpPr/>
          <p:nvPr/>
        </p:nvCxnSpPr>
        <p:spPr>
          <a:xfrm>
            <a:off x="12664800" y="479160"/>
            <a:ext cx="1080" cy="30265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  <p:cxnSp>
        <p:nvCxnSpPr>
          <p:cNvPr id="136" name=""/>
          <p:cNvCxnSpPr/>
          <p:nvPr/>
        </p:nvCxnSpPr>
        <p:spPr>
          <a:xfrm flipH="1">
            <a:off x="12016800" y="3505320"/>
            <a:ext cx="648360" cy="288000"/>
          </a:xfrm>
          <a:prstGeom prst="straightConnector1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37" name=""/>
          <p:cNvSpPr/>
          <p:nvPr/>
        </p:nvSpPr>
        <p:spPr>
          <a:xfrm>
            <a:off x="7769160" y="5016600"/>
            <a:ext cx="1081080" cy="511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cc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sembrerebb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allontanarsi dall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teoria geocentric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tolemai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7842240" y="5664240"/>
            <a:ext cx="576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</a:rPr>
              <a:t>dun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 flipV="1">
            <a:off x="8273880" y="4655880"/>
            <a:ext cx="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7553160" y="3938760"/>
            <a:ext cx="1441440" cy="6825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cc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E’ GUIDATO DALLA 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FEDE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: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L’IMMAGINE DI DI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COME PRINCIPIO 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FINE, “colui che mov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il sole e l’altre stelle”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8202600" y="4729320"/>
            <a:ext cx="1008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</a:rPr>
              <a:t>ma, in realtà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3449520" y="746460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</a:rPr>
              <a:t>che possiede un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5105520" y="8402760"/>
            <a:ext cx="158436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</a:rPr>
              <a:t>è stato osservato c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H="1">
            <a:off x="9713520" y="7753320"/>
            <a:ext cx="14436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>
            <a:off x="8634240" y="7826400"/>
            <a:ext cx="122400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</a:rPr>
              <a:t>che racchiude in sé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>
            <a:off x="8848800" y="8102520"/>
            <a:ext cx="936720" cy="4431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cc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ESSENZA di tut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l’UNIVERS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>
            <a:off x="10433160" y="559260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</a:rPr>
              <a:t>dal momento c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H="1">
            <a:off x="11585160" y="5521320"/>
            <a:ext cx="144360" cy="5065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11874600" y="6529320"/>
            <a:ext cx="14292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12082320" y="6529320"/>
            <a:ext cx="728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</a:rPr>
              <a:t>ha crea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1" name=""/>
          <p:cNvSpPr/>
          <p:nvPr/>
        </p:nvSpPr>
        <p:spPr>
          <a:xfrm>
            <a:off x="11153880" y="6888240"/>
            <a:ext cx="1441440" cy="5238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cc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L’UOMO PER AMORE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poiché LA PERFEZION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HA GENERATO DELL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CREATURE PECCATRIC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1226960" y="7488360"/>
            <a:ext cx="10792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</a:rPr>
              <a:t>ci si domanda dunqu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3" name=""/>
          <p:cNvSpPr/>
          <p:nvPr/>
        </p:nvSpPr>
        <p:spPr>
          <a:xfrm>
            <a:off x="12161880" y="7464600"/>
            <a:ext cx="0" cy="3585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4" name=""/>
          <p:cNvSpPr/>
          <p:nvPr/>
        </p:nvSpPr>
        <p:spPr>
          <a:xfrm>
            <a:off x="11729880" y="8400960"/>
            <a:ext cx="12160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</a:rPr>
              <a:t>lo risolve mostrando c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"/>
          <p:cNvSpPr/>
          <p:nvPr/>
        </p:nvSpPr>
        <p:spPr>
          <a:xfrm flipH="1">
            <a:off x="9642240" y="5376960"/>
            <a:ext cx="21564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"/>
          <p:cNvSpPr/>
          <p:nvPr/>
        </p:nvSpPr>
        <p:spPr>
          <a:xfrm>
            <a:off x="8993160" y="5448240"/>
            <a:ext cx="194472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</a:rPr>
              <a:t>poiché è entrat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7" name=""/>
          <p:cNvSpPr/>
          <p:nvPr/>
        </p:nvSpPr>
        <p:spPr>
          <a:xfrm>
            <a:off x="8491680" y="5808600"/>
            <a:ext cx="1366560" cy="64620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cc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nell’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EMPIREO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 dove si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ABBANDONA l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CONCEZIONE RAZIONALE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di SPAZIO e TEMP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158" name=""/>
          <p:cNvCxnSpPr>
            <a:stCxn id="157" idx="1"/>
            <a:endCxn id="137" idx="2"/>
          </p:cNvCxnSpPr>
          <p:nvPr/>
        </p:nvCxnSpPr>
        <p:spPr>
          <a:xfrm rot="10800000">
            <a:off x="8309520" y="5527440"/>
            <a:ext cx="182520" cy="604080"/>
          </a:xfrm>
          <a:prstGeom prst="bentConnector2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</p:cxnSp>
      <p:sp>
        <p:nvSpPr>
          <p:cNvPr id="159" name=""/>
          <p:cNvSpPr/>
          <p:nvPr/>
        </p:nvSpPr>
        <p:spPr>
          <a:xfrm>
            <a:off x="11082240" y="6024600"/>
            <a:ext cx="936720" cy="576360"/>
          </a:xfrm>
          <a:custGeom>
            <a:avLst/>
            <a:gdLst>
              <a:gd name="textAreaLeft" fmla="*/ 213840 w 936720"/>
              <a:gd name="textAreaRight" fmla="*/ 722880 w 936720"/>
              <a:gd name="textAreaTop" fmla="*/ 131400 h 576360"/>
              <a:gd name="textAreaBottom" fmla="*/ 444960 h 57636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33cccc"/>
              </a:gs>
              <a:gs pos="100000">
                <a:srgbClr val="ffffff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900" spc="-1" strike="noStrike">
                <a:solidFill>
                  <a:srgbClr val="ff0000"/>
                </a:solidFill>
                <a:latin typeface="Tahoma"/>
              </a:rPr>
              <a:t>DIO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"/>
          <p:cNvSpPr/>
          <p:nvPr/>
        </p:nvSpPr>
        <p:spPr>
          <a:xfrm>
            <a:off x="9731160" y="6672240"/>
            <a:ext cx="976320" cy="371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</a:rPr>
              <a:t>rappresentat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</a:rPr>
              <a:t>attravers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11298240" y="7824960"/>
            <a:ext cx="1079640" cy="577800"/>
          </a:xfrm>
          <a:custGeom>
            <a:avLst/>
            <a:gdLst>
              <a:gd name="textAreaLeft" fmla="*/ 0 w 1079640"/>
              <a:gd name="textAreaRight" fmla="*/ 1080000 w 1079640"/>
              <a:gd name="textAreaTop" fmla="*/ 74880 h 577800"/>
              <a:gd name="textAreaBottom" fmla="*/ 502920 h 577800"/>
            </a:gdLst>
            <a:ahLst/>
            <a:rect l="textAreaLeft" t="textAreaTop" r="textAreaRight" b="textAreaBottom"/>
            <a:pathLst>
              <a:path w="21600" h="21600">
                <a:moveTo>
                  <a:pt x="0" y="1400"/>
                </a:moveTo>
                <a:cubicBezTo>
                  <a:pt x="3600" y="-3560"/>
                  <a:pt x="7200" y="6360"/>
                  <a:pt x="10800" y="1400"/>
                </a:cubicBezTo>
                <a:cubicBezTo>
                  <a:pt x="14400" y="-3560"/>
                  <a:pt x="18000" y="6360"/>
                  <a:pt x="21600" y="1400"/>
                </a:cubicBezTo>
                <a:lnTo>
                  <a:pt x="21600" y="20200"/>
                </a:lnTo>
                <a:cubicBezTo>
                  <a:pt x="18000" y="25160"/>
                  <a:pt x="14400" y="15240"/>
                  <a:pt x="10800" y="20200"/>
                </a:cubicBezTo>
                <a:cubicBezTo>
                  <a:pt x="7200" y="25160"/>
                  <a:pt x="3600" y="15240"/>
                  <a:pt x="0" y="20200"/>
                </a:cubicBezTo>
                <a:close/>
              </a:path>
            </a:pathLst>
          </a:custGeom>
          <a:gradFill rotWithShape="0">
            <a:gsLst>
              <a:gs pos="0">
                <a:srgbClr val="33cccc"/>
              </a:gs>
              <a:gs pos="100000">
                <a:srgbClr val="ffffff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11226960" y="7896240"/>
            <a:ext cx="115236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en-US" sz="800" spc="-1" strike="noStrike">
                <a:solidFill>
                  <a:srgbClr val="ff0000"/>
                </a:solidFill>
                <a:latin typeface="Tahoma"/>
              </a:rPr>
              <a:t>qual è il rapporto uomo-Dio: finito-infinito?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 flipH="1">
            <a:off x="11874600" y="8329680"/>
            <a:ext cx="71280" cy="431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11080800" y="8786880"/>
            <a:ext cx="1657440" cy="603360"/>
          </a:xfrm>
          <a:prstGeom prst="roundRect">
            <a:avLst>
              <a:gd name="adj" fmla="val 16667"/>
            </a:avLst>
          </a:prstGeom>
          <a:gradFill rotWithShape="0">
            <a:gsLst>
              <a:gs pos="0">
                <a:srgbClr val="33cccc"/>
              </a:gs>
              <a:gs pos="100000">
                <a:srgbClr val="ffffff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DIO SI TROVA IN TUTTI GLI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UOMINI, PER QUESTO NE 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VISTI I VOLTI, anche se no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comprende l’eterno mister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H="1">
            <a:off x="10721520" y="9193320"/>
            <a:ext cx="360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10650600" y="8978760"/>
            <a:ext cx="43164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</a:rPr>
              <a:t>dell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7" name=""/>
          <p:cNvSpPr/>
          <p:nvPr/>
        </p:nvSpPr>
        <p:spPr>
          <a:xfrm flipH="1">
            <a:off x="5969160" y="1558800"/>
            <a:ext cx="287280" cy="28908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"/>
          <p:cNvSpPr/>
          <p:nvPr/>
        </p:nvSpPr>
        <p:spPr>
          <a:xfrm>
            <a:off x="5249880" y="1487520"/>
            <a:ext cx="108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</a:rPr>
              <a:t>per merito d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"/>
          <p:cNvSpPr/>
          <p:nvPr/>
        </p:nvSpPr>
        <p:spPr>
          <a:xfrm>
            <a:off x="5392800" y="1776240"/>
            <a:ext cx="792000" cy="57636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81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Georg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CAN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0" name=""/>
          <p:cNvSpPr/>
          <p:nvPr/>
        </p:nvSpPr>
        <p:spPr>
          <a:xfrm flipH="1">
            <a:off x="4960800" y="2063880"/>
            <a:ext cx="43344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1" name=""/>
          <p:cNvSpPr/>
          <p:nvPr/>
        </p:nvSpPr>
        <p:spPr>
          <a:xfrm>
            <a:off x="4964400" y="1814400"/>
            <a:ext cx="4230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</a:rPr>
              <a:t>c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3594240" y="1704960"/>
            <a:ext cx="1366560" cy="72216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riesce a definire un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insieme INFINITO, sen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partire da quello finito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4241880" y="2424240"/>
            <a:ext cx="216000" cy="36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4258800" y="2424240"/>
            <a:ext cx="76284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</a:rPr>
              <a:t>attravers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4529160" y="2784600"/>
            <a:ext cx="1873080" cy="647640"/>
          </a:xfrm>
          <a:custGeom>
            <a:avLst/>
            <a:gdLst>
              <a:gd name="textAreaLeft" fmla="*/ 277200 w 1873080"/>
              <a:gd name="textAreaRight" fmla="*/ 1595880 w 1873080"/>
              <a:gd name="textAreaTop" fmla="*/ 105120 h 647640"/>
              <a:gd name="textAreaBottom" fmla="*/ 648000 h 647640"/>
            </a:gdLst>
            <a:ahLst/>
            <a:rect l="textAreaLeft" t="textAreaTop" r="textAreaRight" b="textAreaBottom"/>
            <a:pathLst>
              <a:path w="21600" h="21600">
                <a:moveTo>
                  <a:pt x="0" y="0"/>
                </a:moveTo>
                <a:lnTo>
                  <a:pt x="5225" y="0"/>
                </a:lnTo>
                <a:arcTo wR="675" hR="878" stAng="16200000" swAng="5400000"/>
                <a:lnTo>
                  <a:pt x="5900" y="3511"/>
                </a:lnTo>
                <a:lnTo>
                  <a:pt x="15700" y="3511"/>
                </a:lnTo>
                <a:lnTo>
                  <a:pt x="15700" y="878"/>
                </a:lnTo>
                <a:arcTo wR="675" hR="878" stAng="10800000" swAng="5400000"/>
                <a:lnTo>
                  <a:pt x="21600" y="0"/>
                </a:lnTo>
                <a:lnTo>
                  <a:pt x="18900" y="9045"/>
                </a:lnTo>
                <a:lnTo>
                  <a:pt x="21600" y="18089"/>
                </a:lnTo>
                <a:lnTo>
                  <a:pt x="18400" y="18089"/>
                </a:lnTo>
                <a:lnTo>
                  <a:pt x="18400" y="20722"/>
                </a:lnTo>
                <a:arcTo wR="675" hR="878" stAng="0" swAng="5400000"/>
                <a:lnTo>
                  <a:pt x="3875" y="21600"/>
                </a:lnTo>
                <a:arcTo wR="675" hR="878" stAng="5400000" swAng="5400000"/>
                <a:lnTo>
                  <a:pt x="3200" y="18089"/>
                </a:lnTo>
                <a:lnTo>
                  <a:pt x="0" y="18089"/>
                </a:lnTo>
                <a:lnTo>
                  <a:pt x="2700" y="9045"/>
                </a:lnTo>
                <a:close/>
              </a:path>
              <a:path fill="none" w="21600" h="21600">
                <a:moveTo>
                  <a:pt x="5900" y="878"/>
                </a:moveTo>
                <a:arcTo wR="675" hR="878" stAng="0" swAng="5400000"/>
                <a:lnTo>
                  <a:pt x="3875" y="1756"/>
                </a:lnTo>
                <a:arcTo wR="675" hR="878" stAng="16200000" swAng="-5400000"/>
                <a:arcTo wR="675" hR="878" stAng="10800000" swAng="-5400000"/>
                <a:lnTo>
                  <a:pt x="5900" y="3511"/>
                </a:lnTo>
              </a:path>
              <a:path fill="none" w="21600" h="21600">
                <a:moveTo>
                  <a:pt x="15700" y="878"/>
                </a:moveTo>
                <a:arcTo wR="675" hR="878" stAng="10800000" swAng="-5400000"/>
                <a:lnTo>
                  <a:pt x="17725" y="1756"/>
                </a:lnTo>
                <a:arcTo wR="675" hR="878" stAng="16200000" swAng="5400000"/>
                <a:arcTo wR="675" hR="878" stAng="0" swAng="5400000"/>
                <a:lnTo>
                  <a:pt x="15700" y="3511"/>
                </a:lnTo>
              </a:path>
              <a:path fill="none" w="21600" h="21600">
                <a:moveTo>
                  <a:pt x="3200" y="2633"/>
                </a:moveTo>
                <a:lnTo>
                  <a:pt x="3200" y="18089"/>
                </a:lnTo>
              </a:path>
              <a:path fill="none" w="21600" h="21600">
                <a:moveTo>
                  <a:pt x="18400" y="2633"/>
                </a:moveTo>
                <a:lnTo>
                  <a:pt x="18400" y="18089"/>
                </a:lnTo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una peculiare proprietà:</a:t>
            </a: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l’EQUIPOTENZA 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QUALCHE SU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PARTE PROPRI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6400800" y="3287880"/>
            <a:ext cx="36036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5033880" y="3720960"/>
            <a:ext cx="1440000" cy="71928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due insiemi sono legati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da una CORRISPONDENZ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BIUNIVO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761160" y="3144960"/>
            <a:ext cx="1152360" cy="5778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ahoma"/>
              </a:rPr>
              <a:t>sulla </a:t>
            </a:r>
            <a:r>
              <a:rPr b="1" lang="it-IT" sz="800" spc="-1" strike="noStrike">
                <a:solidFill>
                  <a:srgbClr val="000000"/>
                </a:solidFill>
                <a:latin typeface="Tahoma"/>
              </a:rPr>
              <a:t>CARDINALITA’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it-IT" sz="800" spc="-1" strike="noStrike">
                <a:solidFill>
                  <a:srgbClr val="000000"/>
                </a:solidFill>
                <a:latin typeface="Tahoma"/>
              </a:rPr>
              <a:t>degli insiem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6260760" y="3038400"/>
            <a:ext cx="59076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</a:rPr>
              <a:t>basat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 flipH="1">
            <a:off x="6473520" y="3648240"/>
            <a:ext cx="43164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>
            <a:off x="6498720" y="3863880"/>
            <a:ext cx="842400" cy="250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128160" rIns="128160" tIns="64080" bIns="6408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</a:rPr>
              <a:t>cioè quand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84800" y="2063880"/>
            <a:ext cx="57636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3" name=""/>
          <p:cNvSpPr/>
          <p:nvPr/>
        </p:nvSpPr>
        <p:spPr>
          <a:xfrm>
            <a:off x="5969160" y="1920960"/>
            <a:ext cx="108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</a:rPr>
              <a:t>definisc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"/>
          <p:cNvSpPr/>
          <p:nvPr/>
        </p:nvSpPr>
        <p:spPr>
          <a:xfrm>
            <a:off x="6689880" y="2136600"/>
            <a:ext cx="1295280" cy="64800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insieme </a:t>
            </a: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NUMERAB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come ogni insiem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equipotente a N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"/>
          <p:cNvSpPr/>
          <p:nvPr/>
        </p:nvSpPr>
        <p:spPr>
          <a:xfrm>
            <a:off x="7985160" y="2496960"/>
            <a:ext cx="433440" cy="287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"/>
          <p:cNvSpPr/>
          <p:nvPr/>
        </p:nvSpPr>
        <p:spPr>
          <a:xfrm>
            <a:off x="8416800" y="2568600"/>
            <a:ext cx="1081080" cy="64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la </a:t>
            </a:r>
            <a:r>
              <a:rPr b="1" lang="en-US" sz="800" spc="-1" strike="noStrike">
                <a:solidFill>
                  <a:srgbClr val="1d5893"/>
                </a:solidFill>
                <a:latin typeface="Tahoma"/>
              </a:rPr>
              <a:t>POTENZA 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1d5893"/>
                </a:solidFill>
                <a:latin typeface="Tahoma"/>
              </a:rPr>
              <a:t>NUMERAB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con </a:t>
            </a:r>
            <a:r>
              <a:rPr b="1" lang="en-US" sz="900" spc="-1" strike="noStrike">
                <a:solidFill>
                  <a:srgbClr val="000000"/>
                </a:solidFill>
                <a:latin typeface="Tahoma"/>
              </a:rPr>
              <a:t>ℵ</a:t>
            </a:r>
            <a:r>
              <a:rPr b="1" lang="en-US" sz="500" spc="-1" strike="noStrike">
                <a:solidFill>
                  <a:srgbClr val="000000"/>
                </a:solidFill>
                <a:latin typeface="Tahoma"/>
              </a:rPr>
              <a:t>0</a:t>
            </a:r>
            <a:r>
              <a:rPr b="0" lang="en-US" sz="800" spc="-1" strike="noStrike">
                <a:solidFill>
                  <a:srgbClr val="000000"/>
                </a:solidFill>
                <a:latin typeface="Tahoma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"/>
          <p:cNvSpPr/>
          <p:nvPr/>
        </p:nvSpPr>
        <p:spPr>
          <a:xfrm>
            <a:off x="7480440" y="2639880"/>
            <a:ext cx="108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</a:rPr>
              <a:t>e ne indic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 flipH="1" rot="2977200">
            <a:off x="8129160" y="3057120"/>
            <a:ext cx="142920" cy="431640"/>
          </a:xfrm>
          <a:prstGeom prst="downArrow">
            <a:avLst>
              <a:gd name="adj1" fmla="val 50000"/>
              <a:gd name="adj2" fmla="val 75504"/>
            </a:avLst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7913520" y="3290760"/>
            <a:ext cx="108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</a:rPr>
              <a:t>cioè la su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 flipV="1">
            <a:off x="7915320" y="2134800"/>
            <a:ext cx="287280" cy="144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>
            <a:off x="6977160" y="1920960"/>
            <a:ext cx="108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</a:rPr>
              <a:t>e verifica c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8129520" y="1631880"/>
            <a:ext cx="1081080" cy="64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gli insiemi Z e Q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sono numerabili,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l’insieme R n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8489520" y="1271520"/>
            <a:ext cx="14436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 flipV="1">
            <a:off x="8994600" y="1271520"/>
            <a:ext cx="216000" cy="2160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5" name=""/>
          <p:cNvSpPr/>
          <p:nvPr/>
        </p:nvSpPr>
        <p:spPr>
          <a:xfrm>
            <a:off x="8201160" y="1417680"/>
            <a:ext cx="108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</a:rPr>
              <a:t>ne consegue c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"/>
          <p:cNvSpPr/>
          <p:nvPr/>
        </p:nvSpPr>
        <p:spPr>
          <a:xfrm>
            <a:off x="7769160" y="623880"/>
            <a:ext cx="1152720" cy="64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NON TUTTI GLI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INSIEMI INFINIT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SONO NUMERABIL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7" name=""/>
          <p:cNvSpPr/>
          <p:nvPr/>
        </p:nvSpPr>
        <p:spPr>
          <a:xfrm>
            <a:off x="9282240" y="839880"/>
            <a:ext cx="1295280" cy="72072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IL NUMER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TRANSINFINITO dei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REALI RISULTA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MAGGIORE di </a:t>
            </a:r>
            <a:r>
              <a:rPr b="1" lang="en-US" sz="1000" spc="-1" strike="noStrike">
                <a:solidFill>
                  <a:srgbClr val="000000"/>
                </a:solidFill>
                <a:latin typeface="Tahoma"/>
              </a:rPr>
              <a:t>ℵ</a:t>
            </a:r>
            <a:r>
              <a:rPr b="1" lang="en-US" sz="500" spc="-1" strike="noStrike">
                <a:solidFill>
                  <a:srgbClr val="000000"/>
                </a:solidFill>
                <a:latin typeface="Tahoma"/>
              </a:rPr>
              <a:t>0</a:t>
            </a:r>
            <a:endParaRPr b="0" lang="en-US" sz="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8" name=""/>
          <p:cNvSpPr/>
          <p:nvPr/>
        </p:nvSpPr>
        <p:spPr>
          <a:xfrm>
            <a:off x="10577520" y="1200240"/>
            <a:ext cx="576360" cy="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9" name=""/>
          <p:cNvSpPr/>
          <p:nvPr/>
        </p:nvSpPr>
        <p:spPr>
          <a:xfrm>
            <a:off x="10361520" y="985680"/>
            <a:ext cx="108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</a:rPr>
              <a:t>e chiam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0" name=""/>
          <p:cNvSpPr/>
          <p:nvPr/>
        </p:nvSpPr>
        <p:spPr>
          <a:xfrm>
            <a:off x="11225160" y="839880"/>
            <a:ext cx="1297080" cy="647640"/>
          </a:xfrm>
          <a:prstGeom prst="ellipse">
            <a:avLst/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lin ang="13500000"/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questo numero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000000"/>
                </a:solidFill>
                <a:latin typeface="Tahoma"/>
              </a:rPr>
              <a:t>cardinale di R,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1d5893"/>
                </a:solidFill>
                <a:latin typeface="Tahoma"/>
              </a:rPr>
              <a:t>POTENZA 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>
                <a:solidFill>
                  <a:srgbClr val="1d5893"/>
                </a:solidFill>
                <a:latin typeface="Tahoma"/>
              </a:rPr>
              <a:t>CONTINU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1" name=""/>
          <p:cNvSpPr/>
          <p:nvPr/>
        </p:nvSpPr>
        <p:spPr>
          <a:xfrm flipH="1">
            <a:off x="11082240" y="1487520"/>
            <a:ext cx="432000" cy="288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2" name=""/>
          <p:cNvSpPr/>
          <p:nvPr/>
        </p:nvSpPr>
        <p:spPr>
          <a:xfrm>
            <a:off x="11226960" y="1560600"/>
            <a:ext cx="108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</a:rPr>
              <a:t>e dimostra ch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"/>
          <p:cNvSpPr/>
          <p:nvPr/>
        </p:nvSpPr>
        <p:spPr>
          <a:xfrm>
            <a:off x="9569520" y="1631880"/>
            <a:ext cx="1511280" cy="936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LA POTENZA DEL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CONTINUO E’ MAGGIO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DELLA POTENZA 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NUMERABIL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4" name=""/>
          <p:cNvSpPr/>
          <p:nvPr/>
        </p:nvSpPr>
        <p:spPr>
          <a:xfrm>
            <a:off x="11226960" y="1920960"/>
            <a:ext cx="1439640" cy="936720"/>
          </a:xfrm>
          <a:prstGeom prst="horizontalScroll">
            <a:avLst>
              <a:gd name="adj" fmla="val 12500"/>
            </a:avLst>
          </a:pr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L’INSIEME DELLE PARTI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DI UN INSIEME HA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POTENZA MAGGIORE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800" spc="-1" strike="noStrike" u="sng">
                <a:solidFill>
                  <a:srgbClr val="000000"/>
                </a:solidFill>
                <a:uFillTx/>
                <a:latin typeface="Tahoma"/>
              </a:rPr>
              <a:t>DELL’INSIEME STESSO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5" name=""/>
          <p:cNvSpPr/>
          <p:nvPr/>
        </p:nvSpPr>
        <p:spPr>
          <a:xfrm>
            <a:off x="11874600" y="1487520"/>
            <a:ext cx="215640" cy="50472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6" name=""/>
          <p:cNvSpPr/>
          <p:nvPr/>
        </p:nvSpPr>
        <p:spPr>
          <a:xfrm flipH="1">
            <a:off x="10938960" y="2784600"/>
            <a:ext cx="287640" cy="2156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7" name=""/>
          <p:cNvSpPr/>
          <p:nvPr/>
        </p:nvSpPr>
        <p:spPr>
          <a:xfrm>
            <a:off x="10937880" y="2855880"/>
            <a:ext cx="1081080" cy="215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 algn="ctr">
              <a:lnSpc>
                <a:spcPct val="100000"/>
              </a:lnSpc>
              <a:spcBef>
                <a:spcPts val="499"/>
              </a:spcBef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i="1" lang="en-US" sz="800" spc="-1" strike="noStrike">
                <a:solidFill>
                  <a:srgbClr val="000000"/>
                </a:solidFill>
                <a:latin typeface="Tahoma"/>
              </a:rPr>
              <a:t>espressione del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"/>
          <p:cNvSpPr/>
          <p:nvPr/>
        </p:nvSpPr>
        <p:spPr>
          <a:xfrm>
            <a:off x="10002960" y="2855880"/>
            <a:ext cx="1079280" cy="719280"/>
          </a:xfrm>
          <a:custGeom>
            <a:avLst/>
            <a:gdLst>
              <a:gd name="textAreaLeft" fmla="*/ 246240 w 1079280"/>
              <a:gd name="textAreaRight" fmla="*/ 833040 w 1079280"/>
              <a:gd name="textAreaTop" fmla="*/ 164160 h 719280"/>
              <a:gd name="textAreaBottom" fmla="*/ 555120 h 719280"/>
            </a:gdLst>
            <a:ahLst/>
            <a:rect l="textAreaLeft" t="textAreaTop" r="textAreaRight" b="textAreaBottom"/>
            <a:pathLst>
              <a:path w="21600" h="21600">
                <a:moveTo>
                  <a:pt x="0" y="10800"/>
                </a:moveTo>
                <a:lnTo>
                  <a:pt x="3104" y="13909"/>
                </a:lnTo>
                <a:lnTo>
                  <a:pt x="3163" y="18437"/>
                </a:lnTo>
                <a:lnTo>
                  <a:pt x="7557" y="18440"/>
                </a:lnTo>
                <a:lnTo>
                  <a:pt x="10800" y="21600"/>
                </a:lnTo>
                <a:lnTo>
                  <a:pt x="13909" y="18496"/>
                </a:lnTo>
                <a:lnTo>
                  <a:pt x="18437" y="18437"/>
                </a:lnTo>
                <a:lnTo>
                  <a:pt x="18440" y="14043"/>
                </a:lnTo>
                <a:lnTo>
                  <a:pt x="21600" y="10800"/>
                </a:lnTo>
                <a:lnTo>
                  <a:pt x="18496" y="7691"/>
                </a:lnTo>
                <a:lnTo>
                  <a:pt x="18437" y="3163"/>
                </a:lnTo>
                <a:lnTo>
                  <a:pt x="14043" y="3160"/>
                </a:lnTo>
                <a:lnTo>
                  <a:pt x="10800" y="0"/>
                </a:lnTo>
                <a:lnTo>
                  <a:pt x="7691" y="3104"/>
                </a:lnTo>
                <a:lnTo>
                  <a:pt x="3163" y="3163"/>
                </a:lnTo>
                <a:lnTo>
                  <a:pt x="3160" y="7557"/>
                </a:lnTo>
                <a:lnTo>
                  <a:pt x="0" y="10800"/>
                </a:lnTo>
                <a:close/>
              </a:path>
            </a:pathLst>
          </a:custGeom>
          <a:gradFill rotWithShape="0">
            <a:gsLst>
              <a:gs pos="0">
                <a:srgbClr val="ffffff"/>
              </a:gs>
              <a:gs pos="100000">
                <a:srgbClr val="ff0000"/>
              </a:gs>
            </a:gsLst>
            <a:path path="rect">
              <a:fillToRect l="50000" t="50000" r="50000" b="50000"/>
            </a:path>
          </a:gra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900" spc="-1" strike="noStrike">
                <a:solidFill>
                  <a:srgbClr val="1d5893"/>
                </a:solidFill>
                <a:latin typeface="Tahoma"/>
              </a:rPr>
              <a:t>TEOREMA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1279440"/>
                <a:tab algn="l" pos="2558880"/>
                <a:tab algn="l" pos="3838680"/>
                <a:tab algn="l" pos="5118120"/>
                <a:tab algn="l" pos="6397560"/>
                <a:tab algn="l" pos="7677000"/>
                <a:tab algn="l" pos="8956800"/>
                <a:tab algn="l" pos="10236240"/>
              </a:tabLst>
            </a:pPr>
            <a:r>
              <a:rPr b="1" lang="en-US" sz="900" spc="-1" strike="noStrike">
                <a:solidFill>
                  <a:srgbClr val="1d5893"/>
                </a:solidFill>
                <a:latin typeface="Tahoma"/>
              </a:rPr>
              <a:t>di CANTOR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</p:txBody>
      </p:sp>
      <p:cxnSp>
        <p:nvCxnSpPr>
          <p:cNvPr id="209" name=""/>
          <p:cNvCxnSpPr>
            <a:endCxn id="62" idx="3"/>
          </p:cNvCxnSpPr>
          <p:nvPr/>
        </p:nvCxnSpPr>
        <p:spPr>
          <a:xfrm flipH="1" flipV="1">
            <a:off x="6402240" y="455760"/>
            <a:ext cx="6262920" cy="24120"/>
          </a:xfrm>
          <a:prstGeom prst="straightConnector1">
            <a:avLst/>
          </a:prstGeom>
          <a:ln w="9360">
            <a:solidFill>
              <a:srgbClr val="000000"/>
            </a:solidFill>
            <a:miter/>
          </a:ln>
        </p:spPr>
      </p:cxn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16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2-03-28T19:52:01Z</dcterms:created>
  <dc:creator> Giovanni Miceli</dc:creator>
  <dc:description/>
  <dc:language>en-US</dc:language>
  <cp:lastModifiedBy>fc07856</cp:lastModifiedBy>
  <dcterms:modified xsi:type="dcterms:W3CDTF">2007-06-19T12:42:57Z</dcterms:modified>
  <cp:revision>153</cp:revision>
  <dc:subject/>
  <dc:title>Diapositiva 1</dc:title>
</cp:coreProperties>
</file>