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6858000" cy="9907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7077-641D-432F-B51B-FF183BB735F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48338E-2F15-422D-AC2A-D0B9C91CF08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459D36F-D727-4CAD-B8B6-7DCE032EE02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242964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4516560" y="23112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34272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242964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4516560" y="5725800"/>
            <a:ext cx="1987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9BDDC0-9A57-4AC6-968C-39CE9C3F322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E19B14-DE48-4B87-99C7-90C7853BFE5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E8D8AF-4FF3-4BD8-8216-5F6DC6201A1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7EA858-12B1-4F9C-8EBB-56BE6F2785C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431E8-1B38-45C6-A2BA-AC5325DC34F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342720" y="396360"/>
            <a:ext cx="6172200" cy="76557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5C88C5-15B6-4ABD-8994-39876E4E787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C26E2D9-D1A3-437C-AAF4-59CFE7ABF0C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3505320" y="57258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977BFB-6B51-47F0-830B-8A3FB6C1D91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3427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3505320" y="2311200"/>
            <a:ext cx="301176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342720" y="5725800"/>
            <a:ext cx="6172200" cy="311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D81E5C0-C4B8-4643-AB88-89320F300E5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42720" y="396360"/>
            <a:ext cx="6172200" cy="1651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2720" y="2311200"/>
            <a:ext cx="6172200" cy="653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2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2343240" y="9020160"/>
            <a:ext cx="217152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4914720" y="9020160"/>
            <a:ext cx="1600200" cy="689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8E90058-078C-497E-B2F1-990D519FE123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95360" y="1828800"/>
            <a:ext cx="5829120" cy="2124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400" spc="-1" strike="noStrike">
                <a:solidFill>
                  <a:srgbClr val="000000"/>
                </a:solidFill>
                <a:latin typeface="Century"/>
              </a:rPr>
              <a:t>LA TENSIONE FINITO-INFINITO:</a:t>
            </a:r>
            <a:r>
              <a:rPr b="0" lang="en-US" sz="40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4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609120" y="4038480"/>
            <a:ext cx="5715000" cy="2532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80000"/>
              </a:lnSpc>
              <a:spcBef>
                <a:spcPts val="5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entury"/>
              </a:rPr>
              <a:t>un dualismo che attraversa l’umanità dalla sua dimensione spirituale, nel binomio uomo-Dio del Paradiso dantesco, alla sua anima razionale, negli insiemi di Cantor e nelle teorie sull’espansione dell’universo</a:t>
            </a:r>
            <a:endParaRPr b="0" lang="en-US" sz="2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7086600"/>
            <a:ext cx="3810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entury"/>
              </a:rPr>
              <a:t>Giovanni Miceli VC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533520" y="8686800"/>
            <a:ext cx="5029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entury"/>
              </a:rPr>
              <a:t>Anno scolastico 2006 - 2007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533520" y="8929800"/>
            <a:ext cx="58672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it-IT" sz="1400" spc="-1" strike="noStrike">
                <a:solidFill>
                  <a:srgbClr val="000000"/>
                </a:solidFill>
                <a:latin typeface="Century"/>
              </a:rPr>
              <a:t>Liceo scientifico statale Guido Castelnuovo - Firenz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Benedetta</cp:lastModifiedBy>
  <dcterms:modified xsi:type="dcterms:W3CDTF">2007-07-04T14:21:20Z</dcterms:modified>
  <cp:revision>5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