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5.gif" ContentType="image/gif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FA92-DA0D-4065-956C-406D76D18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2A8B-E85C-4882-BF47-17D81DE98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F24E-6997-41F2-972D-E5BD80255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67C4-9FD9-4CD9-8A65-BFFE8D1FD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1D27-950D-43CE-AB0A-B5DB3C483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FD14-71AA-4EC1-9792-5BAB81A7E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5CA5-A635-475F-95D2-6BD7B5658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475D-2C1C-402F-929F-83C992947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859E-B492-4005-BD51-DD77AC5DC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AF47-9257-49DA-A879-BEF31E63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6232-0DCE-4784-960C-D124C308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C31B-12A0-48F6-ACA0-9BCF6D54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E401D-8595-497C-AE78-E2892FCEE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oudy Old Style"/>
              </a:rPr>
              <a:t>Percorso multidisciplin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240" y="251460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oudy Old Style"/>
              </a:rPr>
              <a:t>LA DUPLICITA’ DEL REA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5334120"/>
            <a:ext cx="6324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oudy Old Style"/>
              </a:rPr>
              <a:t>Federica Gaiani Classe 5^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oudy Old Style"/>
              </a:rPr>
              <a:t>Liceo Scientifico Guglielmo Marc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412640" y="760320"/>
            <a:ext cx="630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Palatino Linotype"/>
                <a:ea typeface="SimSun"/>
              </a:rPr>
              <a:t>LA DOPPIA REALTA’ DI TONIO KRÖ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Palatino Linotype"/>
                <a:ea typeface="SimSun"/>
              </a:rPr>
              <a:t>Die doppelte Wirklichkeit in Tonio Krög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057040" y="304812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181480" y="3048120"/>
            <a:ext cx="160020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-6840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-68400" y="380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55000" y="2286000"/>
            <a:ext cx="35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Goudy Old Style"/>
              </a:rPr>
              <a:t>SOCIETA’ </a:t>
            </a:r>
            <a:r>
              <a:rPr b="1" i="1" lang="de-DE" sz="2400" spc="-1" strike="noStrike">
                <a:solidFill>
                  <a:srgbClr val="000000"/>
                </a:solidFill>
                <a:latin typeface="Goudy Old Style"/>
              </a:rPr>
              <a:t>(Gesellschaf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73440" y="3733200"/>
            <a:ext cx="92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oudy Old Style"/>
              </a:rPr>
              <a:t>BORGHESI</a:t>
            </a:r>
            <a:r>
              <a:rPr b="0" lang="de-DE" sz="1800" spc="-1" strike="noStrike">
                <a:solidFill>
                  <a:srgbClr val="000000"/>
                </a:solidFill>
                <a:latin typeface="Goudy Old Style"/>
              </a:rPr>
              <a:t> (Bürger)                                                   </a:t>
            </a:r>
            <a:r>
              <a:rPr b="1" lang="de-DE" sz="1800" spc="-1" strike="noStrike">
                <a:solidFill>
                  <a:srgbClr val="000000"/>
                </a:solidFill>
                <a:latin typeface="Goudy Old Style"/>
              </a:rPr>
              <a:t>ARTISTI</a:t>
            </a:r>
            <a:r>
              <a:rPr b="0" lang="de-DE" sz="1800" spc="-1" strike="noStrike">
                <a:solidFill>
                  <a:srgbClr val="000000"/>
                </a:solidFill>
                <a:latin typeface="Goudy Old Style"/>
              </a:rPr>
              <a:t> (Künstl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Goudy Old Style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Goudy Old Style"/>
              </a:rPr>
              <a:t>EREDITA’ PATERNA </a:t>
            </a:r>
            <a:r>
              <a:rPr b="0" i="1" lang="de-DE" sz="1800" spc="-1" strike="noStrike">
                <a:solidFill>
                  <a:srgbClr val="000000"/>
                </a:solidFill>
                <a:latin typeface="Goudy Old Style"/>
              </a:rPr>
              <a:t>(väterlichen Erbe)</a:t>
            </a:r>
            <a:r>
              <a:rPr b="0" lang="de-DE" sz="1800" spc="-1" strike="noStrike">
                <a:solidFill>
                  <a:srgbClr val="000000"/>
                </a:solidFill>
                <a:latin typeface="Goudy Old Style"/>
              </a:rPr>
              <a:t>                 EREDITA’ MATERNA </a:t>
            </a:r>
            <a:r>
              <a:rPr b="0" i="1" lang="de-DE" sz="1800" spc="-1" strike="noStrike">
                <a:solidFill>
                  <a:srgbClr val="000000"/>
                </a:solidFill>
                <a:latin typeface="Goudy Old Style"/>
              </a:rPr>
              <a:t>(mütterlichen Erb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14400" y="457200"/>
            <a:ext cx="2133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oudy Old Style"/>
              </a:rPr>
              <a:t>BORGHE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553080" y="457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oudy Old Style"/>
              </a:rPr>
              <a:t>ARTI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-776160" y="1144440"/>
            <a:ext cx="106048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oudy Old Style"/>
              </a:rPr>
              <a:t>      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Goudy Old Style"/>
              </a:rPr>
              <a:t>Lati positivi</a:t>
            </a:r>
            <a:r>
              <a:rPr b="0" lang="it-IT" sz="1800" spc="-1" strike="noStrike">
                <a:solidFill>
                  <a:srgbClr val="000000"/>
                </a:solidFill>
                <a:latin typeface="Goudy Old Style"/>
              </a:rPr>
              <a:t>              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Goudy Old Style"/>
              </a:rPr>
              <a:t>Lati negativi</a:t>
            </a:r>
            <a:r>
              <a:rPr b="0" lang="it-IT" sz="1800" spc="-1" strike="noStrike">
                <a:solidFill>
                  <a:srgbClr val="000000"/>
                </a:solidFill>
                <a:latin typeface="Goudy Old Style"/>
              </a:rPr>
              <a:t>                               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Goudy Old Style"/>
              </a:rPr>
              <a:t> Lati positivi</a:t>
            </a:r>
            <a:r>
              <a:rPr b="0" lang="it-IT" sz="1800" spc="-1" strike="noStrike">
                <a:solidFill>
                  <a:srgbClr val="000000"/>
                </a:solidFill>
                <a:latin typeface="Goudy Old Style"/>
              </a:rPr>
              <a:t>                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Goudy Old Style"/>
              </a:rPr>
              <a:t>Lati negativ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oudy Old Style"/>
              </a:rPr>
              <a:t>      </a:t>
            </a:r>
            <a:r>
              <a:rPr b="0" lang="de-DE" sz="1800" spc="-1" strike="noStrike">
                <a:solidFill>
                  <a:srgbClr val="000000"/>
                </a:solidFill>
                <a:latin typeface="Goudy Old Style"/>
              </a:rPr>
              <a:t>(gute Seiten)           (schlechte Seiten)                            (gute Seiten)               (schlechte Seit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Goudy Old Style"/>
              </a:rPr>
              <a:t>    </a:t>
            </a:r>
            <a:r>
              <a:rPr b="0" i="1" lang="de-DE" sz="1800" spc="-1" strike="noStrike">
                <a:solidFill>
                  <a:srgbClr val="000000"/>
                </a:solidFill>
                <a:latin typeface="Goudy Old Style"/>
              </a:rPr>
              <a:t>- Würde                     - Mittelm</a:t>
            </a:r>
            <a:r>
              <a:rPr b="0" i="1" lang="de-DE" sz="1800" spc="-1" strike="noStrike">
                <a:solidFill>
                  <a:srgbClr val="000000"/>
                </a:solidFill>
                <a:latin typeface="Goudy Old Style"/>
                <a:ea typeface="SimSun"/>
              </a:rPr>
              <a:t>äßigkeit                              - Sensibilität                - Unanständigk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Goudy Old Style"/>
                <a:ea typeface="SimSun"/>
              </a:rPr>
              <a:t>    </a:t>
            </a:r>
            <a:r>
              <a:rPr b="0" i="1" lang="de-DE" sz="1800" spc="-1" strike="noStrike">
                <a:solidFill>
                  <a:srgbClr val="000000"/>
                </a:solidFill>
                <a:latin typeface="Goudy Old Style"/>
                <a:ea typeface="SimSun"/>
              </a:rPr>
              <a:t>- Anständigkeit            - Banalität                                      - Kunstsinn                  - Unordn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Goudy Old Style"/>
                <a:ea typeface="SimSun"/>
              </a:rPr>
              <a:t>    </a:t>
            </a:r>
            <a:r>
              <a:rPr b="0" i="1" lang="de-DE" sz="1800" spc="-1" strike="noStrike">
                <a:solidFill>
                  <a:srgbClr val="000000"/>
                </a:solidFill>
                <a:latin typeface="Goudy Old Style"/>
                <a:ea typeface="SimSun"/>
              </a:rPr>
              <a:t>- Verantwortung          - Mangel an Sensibilität                    - Freiheit des Geistes     - Lebensunfähigk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Goudy Old Style"/>
                <a:ea typeface="SimSun"/>
              </a:rPr>
              <a:t>    </a:t>
            </a:r>
            <a:r>
              <a:rPr b="0" i="1" lang="de-DE" sz="1800" spc="-1" strike="noStrike">
                <a:solidFill>
                  <a:srgbClr val="000000"/>
                </a:solidFill>
                <a:latin typeface="Goudy Old Style"/>
                <a:ea typeface="SimSun"/>
              </a:rPr>
              <a:t>- Moralische Werte      - keinen Kunstsinn                           -Empfindsamkeit           - Einsamk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Goudy Old Style"/>
                <a:ea typeface="SimSun"/>
              </a:rPr>
              <a:t>    </a:t>
            </a:r>
            <a:r>
              <a:rPr b="0" i="1" lang="de-DE" sz="1800" spc="-1" strike="noStrike">
                <a:solidFill>
                  <a:srgbClr val="000000"/>
                </a:solidFill>
                <a:latin typeface="Goudy Old Style"/>
                <a:ea typeface="SimSun"/>
              </a:rPr>
              <a:t>- Ernst                                                                             - Schönheitssinn             - Entfremd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Goudy Old Style"/>
                <a:ea typeface="SimSun"/>
              </a:rPr>
              <a:t>    </a:t>
            </a:r>
            <a:r>
              <a:rPr b="0" i="1" lang="de-DE" sz="1800" spc="-1" strike="noStrike">
                <a:solidFill>
                  <a:srgbClr val="000000"/>
                </a:solidFill>
                <a:latin typeface="Goudy Old Style"/>
                <a:ea typeface="SimSun"/>
              </a:rPr>
              <a:t>- Sorgfalt                                                                          - Individualismus           - Gleichgültigke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Goudy Old Style"/>
                <a:ea typeface="SimSun"/>
              </a:rPr>
              <a:t>    </a:t>
            </a:r>
            <a:r>
              <a:rPr b="0" i="1" lang="de-DE" sz="1800" spc="-1" strike="noStrike">
                <a:solidFill>
                  <a:srgbClr val="000000"/>
                </a:solidFill>
                <a:latin typeface="Goudy Old Style"/>
                <a:ea typeface="SimSun"/>
              </a:rPr>
              <a:t>- Ordnung                                                                        - Innerlichkeit                  gegenü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Goudy Old Style"/>
                <a:ea typeface="SimSun"/>
              </a:rPr>
              <a:t>    </a:t>
            </a:r>
            <a:r>
              <a:rPr b="0" i="1" lang="de-DE" sz="1800" spc="-1" strike="noStrike">
                <a:solidFill>
                  <a:srgbClr val="000000"/>
                </a:solidFill>
                <a:latin typeface="Goudy Old Style"/>
                <a:ea typeface="SimSun"/>
              </a:rPr>
              <a:t>- Fleiß                                                                              - Überfeinerung               bürgerlichen W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Goudy Old Style"/>
                <a:ea typeface="SimSun"/>
              </a:rPr>
              <a:t>    </a:t>
            </a:r>
            <a:r>
              <a:rPr b="0" i="1" lang="de-DE" sz="1800" spc="-1" strike="noStrike">
                <a:solidFill>
                  <a:srgbClr val="000000"/>
                </a:solidFill>
                <a:latin typeface="Goudy Old Style"/>
                <a:ea typeface="SimSun"/>
              </a:rPr>
              <a:t>- Harmonie 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Goudy Old Style"/>
                <a:ea typeface="SimSun"/>
              </a:rPr>
              <a:t>      </a:t>
            </a:r>
            <a:r>
              <a:rPr b="0" i="1" lang="de-DE" sz="1800" spc="-1" strike="noStrike">
                <a:solidFill>
                  <a:srgbClr val="000000"/>
                </a:solidFill>
                <a:latin typeface="Goudy Old Style"/>
                <a:ea typeface="SimSun"/>
              </a:rPr>
              <a:t>dem Reste der We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Goudy Old Style"/>
                <a:ea typeface="SimSun"/>
              </a:rPr>
              <a:t>    </a:t>
            </a:r>
            <a:r>
              <a:rPr b="0" i="1" lang="de-DE" sz="1800" spc="-1" strike="noStrike">
                <a:solidFill>
                  <a:srgbClr val="000000"/>
                </a:solidFill>
                <a:latin typeface="Goudy Old Style"/>
                <a:ea typeface="SimSun"/>
              </a:rPr>
              <a:t>- Einreih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Goudy Old Style"/>
                <a:ea typeface="SimSun"/>
              </a:rPr>
              <a:t>    </a:t>
            </a:r>
            <a:r>
              <a:rPr b="0" i="1" lang="de-DE" sz="1800" spc="-1" strike="noStrike">
                <a:solidFill>
                  <a:srgbClr val="000000"/>
                </a:solidFill>
                <a:latin typeface="Goudy Old Style"/>
                <a:ea typeface="SimSun"/>
              </a:rPr>
              <a:t>- Pflichtst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oudy Old Style"/>
              </a:rPr>
              <a:t>La nascita della tragedia dallo spirito della musica</a:t>
            </a:r>
            <a:br>
              <a:rPr sz="3400"/>
            </a:br>
            <a:r>
              <a:rPr b="1" lang="en-US" sz="3000" spc="-1" strike="noStrike">
                <a:solidFill>
                  <a:srgbClr val="000000"/>
                </a:solidFill>
                <a:latin typeface="Goudy Old Style"/>
              </a:rPr>
              <a:t>APOLLINEO E DIONISIA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APOLLINEO: armonia, form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equilibri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fuga dal diven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DIONISIACO: forza vitale, partecipaz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al divenire, cao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ebbrez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715000" y="1295280"/>
            <a:ext cx="2876400" cy="21495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2320" cy="25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80880" y="15238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oudy Old Style"/>
              </a:rPr>
              <a:t>La Grecia presocra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oudy Old Style"/>
              </a:rPr>
              <a:t>La tragedia attica: perfetto accoppiamento di apollineo 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oudy Old Style"/>
              </a:rPr>
              <a:t>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Goudy Old Style"/>
              </a:rPr>
              <a:t>dionisia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oudy Old Style"/>
              </a:rPr>
              <a:t>L’avvento dell’intellettualismo socra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oudy Old Style"/>
              </a:rPr>
              <a:t>La debolezza dell’uman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oudy Old Style"/>
              </a:rPr>
              <a:t>La fuga dal caos e dalla soffer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057400" y="0"/>
            <a:ext cx="497196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ffffff"/>
                </a:solidFill>
                <a:latin typeface="Goudy Old Style"/>
              </a:rPr>
              <a:t>Il balcone di Manet (1868)</a:t>
            </a:r>
            <a:br>
              <a:rPr sz="3400"/>
            </a:br>
            <a:r>
              <a:rPr b="1" lang="it-IT" sz="2400" spc="-1" strike="noStrike">
                <a:solidFill>
                  <a:srgbClr val="ffffff"/>
                </a:solidFill>
                <a:latin typeface="Goudy Old Style"/>
              </a:rPr>
              <a:t>un’immagine della borghesia tra essere ed appar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oudy Old Style"/>
              </a:rPr>
              <a:t>Le figure sono in primo pian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oudy Old Style"/>
              </a:rPr>
              <a:t>L’estraneità dei personagg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oudy Old Style"/>
              </a:rPr>
              <a:t>Il colore ma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oudy Old Style"/>
              </a:rPr>
              <a:t>Il mondo vero della borghesia ed il suo caratt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oudy Old Style"/>
              </a:rPr>
              <a:t>La borghesia senza prospet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oudy Old Style"/>
              </a:rPr>
              <a:t>L’appari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oudy Old Style"/>
              </a:rPr>
              <a:t>La bivalenza del messaggio fascista</a:t>
            </a:r>
            <a:r>
              <a:rPr b="0" lang="en-US" sz="3400" spc="-1" strike="noStrike">
                <a:solidFill>
                  <a:srgbClr val="000000"/>
                </a:solidFill>
                <a:latin typeface="Goudy Old Style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Le radici: cambiamenti operati dalla prima guerra mond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Risposta alle frustrazioni della vittoria mutilata e al maless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La nascita il 23 marzo 19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La provenienza differenziata degli aderenti</a:t>
            </a: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I fascisti si proclamano avversari dell’al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borghesia, insieme al socialismo, repubblican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anticleric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Demagogia, nazionalismo, populismo, re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400800" y="2362320"/>
            <a:ext cx="2341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80808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oudy Old Style"/>
              </a:rPr>
              <a:t>Il Manifesto dei Fasci di combattiment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Per il problema politico:     - suffragio univers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- abolizione del Sen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- Assemblea Costitu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Per il problema sociale:      - giornata lavorativa di otto 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           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Goudy Old Style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- minimi di pa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- partecipazione dei rappresentanti dei lavoratori 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funzionamento tecnico dell’industr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- gestione di industrie e servizi alle organizzazion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proletar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Per il problema militare:   - milizia nazionale a scopo unicamente difens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- nazionalizzazione di fabbriche di armi ed esplosi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- valorizzazione della politica est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Per il problema finanziario: - espropriazione parziale di tutte le ricchez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- sequestro dei beni ecclesiast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04920" y="457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oudy Old Style"/>
              </a:rPr>
              <a:t>La bivalenza delle form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oudy Old Style"/>
              </a:rPr>
              <a:t>L’adesione delle classi piccolo-borghes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oudy Old Style"/>
              </a:rPr>
              <a:t>La creazione del consen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oudy Old Style"/>
              </a:rPr>
              <a:t>La debolezza dello Stato libera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oudy Old Style"/>
              </a:rPr>
              <a:t>L’ascesa di Mussolin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oudy Old Style"/>
              </a:rPr>
              <a:t>La caduta delle note socialiste e 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oudy Old Style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Goudy Old Style"/>
              </a:rPr>
              <a:t>fascistizzazione dello Sta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rcRect l="3966" t="5414" r="3966" b="2866"/>
          <a:stretch/>
        </p:blipFill>
        <p:spPr>
          <a:xfrm>
            <a:off x="5334120" y="2895480"/>
            <a:ext cx="3276360" cy="33400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451400" y="6508800"/>
            <a:ext cx="4460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oudy Old Style"/>
              </a:rPr>
              <a:t>La doppia natura della lu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La controversia : corpuscolare o ondulatori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oudy Old Style"/>
              </a:rPr>
              <a:t>Il modello corpuscol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oudy Old Style"/>
              </a:rPr>
              <a:t>Newton</a:t>
            </a: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: la luce come raggi di piccolissime particelle ad al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veloc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oudy Old Style"/>
              </a:rPr>
              <a:t>Punti a favore: - la traiettoria rettilin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oudy Old Style"/>
              </a:rPr>
              <a:t>   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Goudy Old Style"/>
              </a:rPr>
              <a:t>- il fenomeno della riflessi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oudy Old Style"/>
              </a:rPr>
              <a:t>Punti deboli:    - l’interpretazione di interferenz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oudy Old Style"/>
              </a:rPr>
              <a:t>   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Goudy Old Style"/>
              </a:rPr>
              <a:t>- rifrazi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oudy Old Style"/>
              </a:rPr>
              <a:t>   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Goudy Old Style"/>
              </a:rPr>
              <a:t>- diffrazi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477120" y="2514600"/>
            <a:ext cx="2219040" cy="21812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191120" y="4800600"/>
            <a:ext cx="2743200" cy="16858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80880" y="4495680"/>
            <a:ext cx="200052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oudy Old Style"/>
              </a:rPr>
              <a:t>Lo sdoppiamento nell’ </a:t>
            </a:r>
            <a:r>
              <a:rPr b="1" i="1" lang="en-US" sz="3400" spc="-1" strike="noStrike">
                <a:solidFill>
                  <a:srgbClr val="000000"/>
                </a:solidFill>
                <a:latin typeface="Goudy Old Style"/>
              </a:rPr>
              <a:t>Amphitruo</a:t>
            </a:r>
            <a:r>
              <a:rPr b="1" lang="en-US" sz="3400" spc="-1" strike="noStrike">
                <a:solidFill>
                  <a:srgbClr val="000000"/>
                </a:solidFill>
                <a:latin typeface="Goudy Old Style"/>
              </a:rPr>
              <a:t> plautin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La t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Il momento cruciale: l’incontro di Sosia e Mercu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L’indebolimento dell’ident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La perdita dell’ident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L’uscita di scena e lo strani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195280" cy="3210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486400" y="5029200"/>
            <a:ext cx="68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Goudy Old Style"/>
              </a:rPr>
              <a:t>Plau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0066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Goudy Old Style"/>
              </a:rPr>
              <a:t>Il modello ondula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Goudy Old Style"/>
              </a:rPr>
              <a:t>Huygens</a:t>
            </a:r>
            <a:r>
              <a:rPr b="0" lang="it-IT" sz="2400" spc="-1" strike="noStrike">
                <a:solidFill>
                  <a:srgbClr val="000000"/>
                </a:solidFill>
                <a:latin typeface="Goudy Old Style"/>
              </a:rPr>
              <a:t>: la luce è formata da onde elastiche longitudinal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oudy Old Style"/>
              </a:rPr>
              <a:t>                </a:t>
            </a:r>
            <a:r>
              <a:rPr b="0" lang="it-IT" sz="2400" spc="-1" strike="noStrike">
                <a:solidFill>
                  <a:srgbClr val="000000"/>
                </a:solidFill>
                <a:latin typeface="Goudy Old Style"/>
              </a:rPr>
              <a:t>trasferimento di energia ma non di ma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oudy Old Style"/>
              </a:rPr>
              <a:t>Punti a favore: - interpretazione dell’interfer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oudy Old Style"/>
              </a:rPr>
              <a:t>                             </a:t>
            </a:r>
            <a:r>
              <a:rPr b="0" lang="it-IT" sz="2400" spc="-1" strike="noStrike">
                <a:solidFill>
                  <a:srgbClr val="000000"/>
                </a:solidFill>
                <a:latin typeface="Goudy Old Style"/>
              </a:rPr>
              <a:t>- corretta interpretazione della rifr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oudy Old Style"/>
              </a:rPr>
              <a:t>Punti deboli:   </a:t>
            </a:r>
            <a:r>
              <a:rPr b="0" lang="it-IT" sz="900" spc="-1" strike="noStrike">
                <a:solidFill>
                  <a:srgbClr val="000000"/>
                </a:solidFill>
                <a:latin typeface="Goudy Old Style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Goudy Old Style"/>
              </a:rPr>
              <a:t>- la natura del mezzo di propagazione: et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Goudy Old Style"/>
              </a:rPr>
              <a:t>Maxwell</a:t>
            </a:r>
            <a:r>
              <a:rPr b="0" lang="it-IT" sz="2400" spc="-1" strike="noStrike">
                <a:solidFill>
                  <a:srgbClr val="000000"/>
                </a:solidFill>
                <a:latin typeface="Goudy Old Style"/>
              </a:rPr>
              <a:t>: la luce come onda elettromagnetica trasversa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oudy Old Style"/>
              </a:rPr>
              <a:t>               </a:t>
            </a:r>
            <a:r>
              <a:rPr b="0" lang="it-IT" sz="2400" spc="-1" strike="noStrike">
                <a:solidFill>
                  <a:srgbClr val="000000"/>
                </a:solidFill>
                <a:latin typeface="Goudy Old Style"/>
              </a:rPr>
              <a:t>appartenente allo spettro elettromagne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4582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Si riaffaccia il modello corpuscol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oudy Old Style"/>
              </a:rPr>
              <a:t>Einstein: </a:t>
            </a: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la luce è costituita da quantità discrete di energia, i </a:t>
            </a:r>
            <a:r>
              <a:rPr b="1" lang="en-US" sz="2400" spc="-1" strike="noStrike">
                <a:solidFill>
                  <a:srgbClr val="000000"/>
                </a:solidFill>
                <a:latin typeface="Goudy Old Style"/>
              </a:rPr>
              <a:t>fot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(Plan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oudy Old Style"/>
              </a:rPr>
              <a:t>L’effetto fotoelettrico: </a:t>
            </a: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spiega l’interazione tra materia e radiazion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ad alta frequenz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066680" y="2666880"/>
            <a:ext cx="6640560" cy="24685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09480" y="55627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oudy Old Style"/>
              </a:rPr>
              <a:t>La luce manifestava un comportamento du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cc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Goudy Old Style"/>
              </a:rPr>
              <a:t>De Broglie</a:t>
            </a:r>
            <a:r>
              <a:rPr b="0" lang="it-IT" sz="2400" spc="-1" strike="noStrike">
                <a:solidFill>
                  <a:srgbClr val="000000"/>
                </a:solidFill>
                <a:latin typeface="Goudy Old Style"/>
              </a:rPr>
              <a:t>, 1924: anche le particelle hanno una doppia na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oudy Old Style"/>
              </a:rPr>
              <a:t>Associa una lunghezza d’onda: p = λ/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oudy Old Style"/>
              </a:rPr>
              <a:t>                                                      </a:t>
            </a:r>
            <a:r>
              <a:rPr b="0" lang="it-IT" sz="2400" spc="-1" strike="noStrike">
                <a:solidFill>
                  <a:srgbClr val="000000"/>
                </a:solidFill>
                <a:latin typeface="Goudy Old Style"/>
              </a:rPr>
              <a:t>λ = h /p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it-IT" sz="2400" spc="-1" strike="noStrike">
                <a:solidFill>
                  <a:srgbClr val="000000"/>
                </a:solidFill>
                <a:latin typeface="Goudy Old Style"/>
              </a:rPr>
              <a:t>λ = h /mv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oudy Old Style"/>
              </a:rPr>
              <a:t>Risoluzione dei problemi del modello atomico di Boh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oudy Old Style"/>
              </a:rPr>
              <a:t>     </a:t>
            </a:r>
            <a:r>
              <a:rPr b="0" lang="it-IT" sz="2400" spc="-1" strike="noStrike">
                <a:solidFill>
                  <a:srgbClr val="000000"/>
                </a:solidFill>
                <a:latin typeface="Goudy Old Style"/>
              </a:rPr>
              <a:t>l’elettrone come onda che si propaga lungo un’orb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oudy Old Style"/>
              </a:rPr>
              <a:t>Il principio di </a:t>
            </a:r>
            <a:r>
              <a:rPr b="1" lang="it-IT" sz="2400" spc="-1" strike="noStrike">
                <a:solidFill>
                  <a:srgbClr val="000000"/>
                </a:solidFill>
                <a:latin typeface="Goudy Old Style"/>
              </a:rPr>
              <a:t>complementarietà</a:t>
            </a:r>
            <a:r>
              <a:rPr b="0" lang="it-IT" sz="2400" spc="-1" strike="noStrike">
                <a:solidFill>
                  <a:srgbClr val="000000"/>
                </a:solidFill>
                <a:latin typeface="Goudy Old Style"/>
              </a:rPr>
              <a:t> di Bohr, 1927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oudy Old Style"/>
              </a:rPr>
              <a:t>     </a:t>
            </a:r>
            <a:r>
              <a:rPr b="0" lang="it-IT" sz="2400" spc="-1" strike="noStrike">
                <a:solidFill>
                  <a:srgbClr val="000000"/>
                </a:solidFill>
                <a:latin typeface="Goudy Old Style"/>
              </a:rPr>
              <a:t>I modelli corpuscolare ed ondulatorio sono complementari, cioè entrambi necessari, si escludono però a vicenda nella comprensione di una singola esperienz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04640" y="684360"/>
            <a:ext cx="81572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Goudy Old Style"/>
              </a:rPr>
              <a:t>Abeo potius. Di immortales, obsecro vostram fidem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Goudy Old Style"/>
              </a:rPr>
              <a:t>ubi ego perii? Ubi immutatus sum?Ubi ego formam perdidi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200" spc="-1" strike="noStrike">
                <a:solidFill>
                  <a:srgbClr val="000000"/>
                </a:solidFill>
                <a:latin typeface="Goudy Old Style"/>
              </a:rPr>
              <a:t>An egomet me illic reliqui, si forte oblitus fui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200" spc="-1" strike="noStrike">
                <a:solidFill>
                  <a:srgbClr val="000000"/>
                </a:solidFill>
                <a:latin typeface="Goudy Old Style"/>
              </a:rPr>
              <a:t>Nam hicquidem omnem imaginem meam, quae antehac fuerat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200" spc="-1" strike="noStrike">
                <a:solidFill>
                  <a:srgbClr val="000000"/>
                </a:solidFill>
                <a:latin typeface="Goudy Old Style"/>
              </a:rPr>
              <a:t>possid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74840" y="2741400"/>
            <a:ext cx="64566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oudy Old Style"/>
              </a:rPr>
              <a:t>Me ne vado piuttosto. O dei immortali, vi prego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oudy Old Style"/>
              </a:rPr>
              <a:t>dove ho incontrato la mia fine? Dove m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oudy Old Style"/>
              </a:rPr>
              <a:t>sono trasformato? Dove ho perso 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oudy Old Style"/>
              </a:rPr>
              <a:t>mia identità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oudy Old Style"/>
              </a:rPr>
              <a:t>O forse mi sono lasciato laggiù, e me 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oudy Old Style"/>
              </a:rPr>
              <a:t>sono dimenticato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oudy Old Style"/>
              </a:rPr>
              <a:t>Perché, di certo, costui possiede tutto i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oudy Old Style"/>
              </a:rPr>
              <a:t>mio aspetto, quello che prima era mi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oudy Old Style"/>
              </a:rPr>
              <a:t>Mi accade da vivo quello che nessuno m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oudy Old Style"/>
              </a:rPr>
              <a:t>farà mai da morto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7fb5b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oudy Old Style"/>
              </a:rPr>
              <a:t>La divisione dell’io nel </a:t>
            </a:r>
            <a:r>
              <a:rPr b="1" i="1" lang="en-US" sz="3400" spc="-1" strike="noStrike">
                <a:solidFill>
                  <a:srgbClr val="000000"/>
                </a:solidFill>
                <a:latin typeface="Goudy Old Style"/>
              </a:rPr>
              <a:t>Fu Mattia Pasca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oudy Old Style"/>
              </a:rPr>
              <a:t>La vita come trapp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oudy Old Style"/>
              </a:rPr>
              <a:t>Liberazione da una realtà fal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oudy Old Style"/>
              </a:rPr>
              <a:t>La condizione schizoide: - il sistema dei “falsi i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oudy Old Style"/>
              </a:rPr>
              <a:t>                                             </a:t>
            </a:r>
            <a:r>
              <a:rPr b="0" lang="it-IT" sz="2400" spc="-1" strike="noStrike">
                <a:solidFill>
                  <a:srgbClr val="000000"/>
                </a:solidFill>
                <a:latin typeface="Goudy Old Style"/>
              </a:rPr>
              <a:t>- il rifiuto delle masc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Goudy Old Style"/>
              </a:rPr>
              <a:t>    “</a:t>
            </a:r>
            <a:r>
              <a:rPr b="0" i="1" lang="it-IT" sz="2400" spc="-1" strike="noStrike">
                <a:solidFill>
                  <a:srgbClr val="000000"/>
                </a:solidFill>
                <a:latin typeface="Goudy Old Style"/>
              </a:rPr>
              <a:t>Niente di quello che voi vedete sono io», pensa chi è coinvolto nella divisione schizoide, ma egli può essere qualcuno soltanto in quello che vediamo noi: e se quello che vediamo noi, le sue azioni, non sono il suo vero io, allora egli è irreale davvero; è qualcosa di ambiguo e del tutto simbolico, una persona puramente virtuale, potenziale, immaginaria, in realtà un niente”</a:t>
            </a:r>
            <a:r>
              <a:rPr b="0" lang="it-IT" sz="2400" spc="-1" strike="noStrike">
                <a:solidFill>
                  <a:srgbClr val="000000"/>
                </a:solidFill>
                <a:latin typeface="Goudy Old Style"/>
              </a:rPr>
              <a:t> R. D. Laing, 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Goudy Old Style"/>
              </a:rPr>
              <a:t>L’io divi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086600" y="1066680"/>
            <a:ext cx="173196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a7fb5b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L’esperienza del vu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Le prime reazioni di Mattia balzato giù dal treno, dopo la notizia del proprio suicidi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i="1" lang="en-US" sz="2200" spc="-1" strike="noStrike">
                <a:solidFill>
                  <a:srgbClr val="000000"/>
                </a:solidFill>
                <a:latin typeface="Goudy Old Style"/>
              </a:rPr>
              <a:t>“</a:t>
            </a:r>
            <a:r>
              <a:rPr b="0" i="1" lang="en-US" sz="2200" spc="-1" strike="noStrike">
                <a:solidFill>
                  <a:srgbClr val="000000"/>
                </a:solidFill>
                <a:latin typeface="Goudy Old Style"/>
              </a:rPr>
              <a:t>Mi voltai a guardare il binario deserto, che si snodava lucido per un tratto nella notte silenziosa, e mi sentii come smarrito nel vuoto […]. La violenta impressione ricevuta alla lettura di quella notizia che mi riguardava così da vicino mi si ridestava in quella mera, ignota solitudine, e mi sentivo, allora, per un attimo, nel vuoto, come poc’ anzi alla vista del binario deserto; mi sentivo paurosamente sciolto dalla vita, sperduto, in attesa di rivivere oltre la morte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cc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80880" y="6094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Il bisogno di una nuova identit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Lo sdoppiamento in Adriano Me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L’apparente creazione dell’ ”io vero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Il rifiuto di un’ulteriore maschera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Il forestiere della v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15262" t="0" r="0" b="0"/>
          <a:stretch/>
        </p:blipFill>
        <p:spPr>
          <a:xfrm>
            <a:off x="6477120" y="2743200"/>
            <a:ext cx="22762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7621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oudy Old Style"/>
              </a:rPr>
              <a:t>THE DIVIDED SEL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2819520"/>
            <a:ext cx="8305920" cy="25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oudy Old Style"/>
              </a:rPr>
              <a:t>Ambiguities and contradictions during the Victorian 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oudy Old Style"/>
              </a:rPr>
              <a:t>Believes and moral conduct of the upper-middle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oudy Old Style"/>
              </a:rPr>
              <a:t>Double identity: a façade and a hidden-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oudy Old Style"/>
              </a:rPr>
              <a:t>The Strange Case of Dr Jekyll And Mr Hyde</a:t>
            </a:r>
            <a:br>
              <a:rPr sz="3400"/>
            </a:b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by R. L. Stevenson</a:t>
            </a:r>
            <a:r>
              <a:rPr b="0" lang="it-IT" sz="4000" spc="-1" strike="noStrike">
                <a:solidFill>
                  <a:srgbClr val="000000"/>
                </a:solidFill>
                <a:latin typeface="Goudy Old Style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2590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Hypocrisy of middle-class Victorian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Appearances counted more than sub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Inner confl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Decision to split body and soul into two parts: Dr Jekyll and Mr Hy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Beyond human possibilities: the overrea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oudy Old Style"/>
              </a:rPr>
              <a:t>The Picture of Dorian Gray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by Oscar Wil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Aestheticism and middle-upper classes’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Dorian Gray: the dan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Beauty, Youth and lack of mor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Surface and so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An attempt to escape re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aiani</cp:lastModifiedBy>
  <dcterms:modified xsi:type="dcterms:W3CDTF">2007-07-04T18:33:03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