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A8D9D-8197-46E4-9E99-C6250484D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63656-2350-4F4D-A864-1C2962BF3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6D238-7911-40A9-B5C1-C76D15CAE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778B8-256D-439A-845B-4E41A0533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7C2F3-FC0D-4BBE-927A-58C84BDFC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5D35F-A567-4DC6-A95E-97F76429A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96395-F0F7-484F-9ACD-98AFECA6C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0CFFD-D678-43AF-B205-ADB5FB7EF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E5D45-0CBA-42E9-89F1-B079EF967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E509-F805-4536-80D2-7FFC6497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D95A4-07F1-4AFE-B814-B59771A39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31773-2FCC-4B22-81FE-C219A11BC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D3C8-7121-40D6-83BD-A89496A9DE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olte vite da salvare,</a:t>
            </a:r>
            <a:br>
              <a:rPr sz="4400"/>
            </a:br>
            <a:r>
              <a:rPr b="1" lang="en-US" sz="4400" spc="-1" strike="noStrike">
                <a:solidFill>
                  <a:srgbClr val="ffff00"/>
                </a:solidFill>
                <a:latin typeface="Arial"/>
              </a:rPr>
              <a:t>un solo cuore da perde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Mons. Angelo Roncalli, Giorgio Perlasca, Salvo D’Acquisto</a:t>
            </a:r>
            <a:endParaRPr b="0"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Questi tre personaggi, diversi tra loro sia per la formazione sia per il territorio in cui operarono, sono legati tra loro da un filo conduttore: si batterono tutti per il bene del prossimo, per la sua salvezza, tanto da arrivare, in uno di questi casi, a sacrificare anche la propria vita per il “fratello”. Sono persone più o meno comuni, che giustamente vanno ricordate e appellate con il titolo di Eroi, perché il loro gesto di puro altruismo (senza secondi fini) non vada dimenticato, anzi serva come insegnamento per noi e per i posteri. </a:t>
            </a:r>
            <a:endParaRPr b="0" lang="en-US" sz="3200" spc="-1" strike="noStrike">
              <a:solidFill>
                <a:srgbClr val="000000"/>
              </a:solidFill>
              <a:latin typeface="Arial"/>
            </a:endParaRPr>
          </a:p>
        </p:txBody>
      </p:sp>
      <p:pic>
        <p:nvPicPr>
          <p:cNvPr id="68" name="" descr=""/>
          <p:cNvPicPr/>
          <p:nvPr/>
        </p:nvPicPr>
        <p:blipFill>
          <a:blip r:embed="rId1"/>
          <a:stretch/>
        </p:blipFill>
        <p:spPr>
          <a:xfrm>
            <a:off x="0" y="6858000"/>
            <a:ext cx="304920" cy="304920"/>
          </a:xfrm>
          <a:prstGeom prst="rect">
            <a:avLst/>
          </a:prstGeom>
          <a:ln w="0">
            <a:noFill/>
          </a:ln>
        </p:spPr>
      </p:pic>
    </p:spTree>
  </p:cSld>
  <p:transition spd="slow">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65087"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295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Molto spesso la storia ci viene raccontata e insegnata tenendo conto dei grandi personaggi, dei condottieri che l’hanno caratterizzata e degli eventi più importanti che hanno descritto quel dato periodo; ma, chi ha donato la propria vita gratuitamente, chi si è impegnato per la salvezza di molti altri, purtroppo viene raramente ricordato. Questo è accaduto anche durante la  2° Guerra Mondiale, un periodo da dimenticare per la brutalità, efferatezza  e disumanità di molte persone più o meno note, che sterminarono e  uccisero milioni di uomini e donne, vecchi e bambini, tra ebrei, omosessuali, emarginati, zingari, oppositori politici, oltre a tutte le altre vittime civili e non fatte da uno o l’altro schieramento. </a:t>
            </a:r>
            <a:endParaRPr b="0" lang="en-US" sz="2000" spc="-1" strike="noStrike">
              <a:solidFill>
                <a:srgbClr val="000000"/>
              </a:solidFill>
              <a:latin typeface="Arial"/>
            </a:endParaRPr>
          </a:p>
        </p:txBody>
      </p:sp>
      <p:pic>
        <p:nvPicPr>
          <p:cNvPr id="44" name="" descr=""/>
          <p:cNvPicPr/>
          <p:nvPr/>
        </p:nvPicPr>
        <p:blipFill>
          <a:blip r:embed="rId1"/>
          <a:stretch/>
        </p:blipFill>
        <p:spPr>
          <a:xfrm>
            <a:off x="468360" y="4013280"/>
            <a:ext cx="3456000" cy="2614680"/>
          </a:xfrm>
          <a:prstGeom prst="rect">
            <a:avLst/>
          </a:prstGeom>
          <a:ln w="0">
            <a:noFill/>
          </a:ln>
        </p:spPr>
      </p:pic>
      <p:pic>
        <p:nvPicPr>
          <p:cNvPr id="45" name="" descr=""/>
          <p:cNvPicPr/>
          <p:nvPr/>
        </p:nvPicPr>
        <p:blipFill>
          <a:blip r:embed="rId2"/>
          <a:stretch/>
        </p:blipFill>
        <p:spPr>
          <a:xfrm>
            <a:off x="4500720" y="4005360"/>
            <a:ext cx="4464000" cy="262872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360"/>
            <a:ext cx="9144000" cy="2592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n queste pagine buie e tristi per la storia dell’uomo si inseriscono diversi personaggi che si distinsero dalla massa per il loro impegno e sacrificio per salvare la vita a migliaia di persone; forse il più noto, perché in seguito divenne Papa con il nome di Giovanni XXIII, è Angelo Roncalli, all’epoca Delegato Apostolico in Turchia che salvò la vita a migliaia di ebrei bambini e adulti, o come Giorgio Perlasca, un comune commerciante di carni fintosi Ambasciatore Spagnolo che salvò così la vita a oltre 5.000 ebrei, o il vicebrigadiere dell’Arma dei Carabinieri Salvo D’Acquisto, autoaccusatosi di un presunto attentato contro le SS naziste, che salvò con il suo gesto 22 innocenti, come lui, che erano stati condannati all’esecuzione. </a:t>
            </a:r>
            <a:endParaRPr b="0" lang="en-US" sz="2000" spc="-1" strike="noStrike">
              <a:solidFill>
                <a:srgbClr val="000000"/>
              </a:solidFill>
              <a:latin typeface="Arial"/>
            </a:endParaRPr>
          </a:p>
        </p:txBody>
      </p:sp>
      <p:pic>
        <p:nvPicPr>
          <p:cNvPr id="47" name="" descr=""/>
          <p:cNvPicPr/>
          <p:nvPr/>
        </p:nvPicPr>
        <p:blipFill>
          <a:blip r:embed="rId1"/>
          <a:stretch/>
        </p:blipFill>
        <p:spPr>
          <a:xfrm>
            <a:off x="6732720" y="2852640"/>
            <a:ext cx="2273040" cy="3810240"/>
          </a:xfrm>
          <a:prstGeom prst="rect">
            <a:avLst/>
          </a:prstGeom>
          <a:ln w="0">
            <a:noFill/>
          </a:ln>
        </p:spPr>
      </p:pic>
      <p:pic>
        <p:nvPicPr>
          <p:cNvPr id="48" name="" descr=""/>
          <p:cNvPicPr/>
          <p:nvPr/>
        </p:nvPicPr>
        <p:blipFill>
          <a:blip r:embed="rId2"/>
          <a:stretch/>
        </p:blipFill>
        <p:spPr>
          <a:xfrm>
            <a:off x="468360" y="2852640"/>
            <a:ext cx="2865240" cy="3787920"/>
          </a:xfrm>
          <a:prstGeom prst="rect">
            <a:avLst/>
          </a:prstGeom>
          <a:ln w="0">
            <a:noFill/>
          </a:ln>
        </p:spPr>
      </p:pic>
      <p:pic>
        <p:nvPicPr>
          <p:cNvPr id="49" name="" descr=""/>
          <p:cNvPicPr/>
          <p:nvPr/>
        </p:nvPicPr>
        <p:blipFill>
          <a:blip r:embed="rId3"/>
          <a:stretch/>
        </p:blipFill>
        <p:spPr>
          <a:xfrm>
            <a:off x="3635280" y="2852640"/>
            <a:ext cx="2749680" cy="3816360"/>
          </a:xfrm>
          <a:prstGeom prst="rect">
            <a:avLst/>
          </a:prstGeom>
          <a:ln w="0">
            <a:noFill/>
          </a:ln>
        </p:spPr>
      </p:pic>
      <p:pic>
        <p:nvPicPr>
          <p:cNvPr id="50" name="" descr=""/>
          <p:cNvPicPr/>
          <p:nvPr/>
        </p:nvPicPr>
        <p:blipFill>
          <a:blip r:embed="rId4"/>
          <a:stretch/>
        </p:blipFill>
        <p:spPr>
          <a:xfrm>
            <a:off x="0" y="685800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1766"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elegato Apostolico in Turchia e Grecia</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ons. Angelo Roncalli</a:t>
            </a:r>
            <a:endParaRPr b="0" lang="en-US" sz="32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60" y="0"/>
            <a:ext cx="687708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Gli ebrei hanno sempre riconosciuto l’eroica e l’incessante attività di Roncalli a loro favore. Il gran rabbino di Palestina rivelò di aver potuto, durante gli anni della guerra, comunicare con i rappresentanti delle varie comunità ebraiche nei Paesi dell’Europa occupata dai nazisti, tramite monsignor Roncalli che faceva pervenire le missive a vescovi e sacerdoti, i quali a loro volta le consegnavano alle persone interessate. Molto è stato scritto intorno a una fantomatica “operazione battesimo”. E’ stato detto che monsignor Roncalli, per salvare ebrei dalla deportazione e dalla morte, dava loro dei certificati di battesimo, documentava cioè che non erano ebrei ma erano cristiani battezzati. Nel 1963, alla morte di Giovanni XXIII, il quotidiano “The Jerusalem Post”, a sostegno di questa tesi, riportò un’importante testimonianza. “A quell’epoca” scrisse il giornale “il delegato apostolico in Turchia, Roncalli, ricevette il signor Ira Hirschmann, inviato speciale dell’Ufficio rifugiati di guerra degli Stati Uniti. Il signor Hirschmann gli parlò del destino di migliaia di ebrei, inclusi i bambini che figuravano sull’elenco delle deportazioni per Auschwitz. Immediatamente il delegato offrì migliaia di certificati di battesimo agli ebrei, senza porre alcuna condizione, cosicchè migliaia di infelici furono salvati dai forni crematori nazisti. Questa distribuzione all’ingrosso di certificati di battesimo fu in seguito chiamata “operazione battesimo”.</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     </a:t>
            </a:r>
            <a:r>
              <a:rPr b="0" lang="it-IT" sz="1400" spc="-1" strike="noStrike">
                <a:solidFill>
                  <a:srgbClr val="ffff00"/>
                </a:solidFill>
                <a:latin typeface="Arial"/>
              </a:rPr>
              <a:t>- Brano tratto dal libro “Il Papa Buono, Giovanni XXIII”, di Renzo Allegri - </a:t>
            </a:r>
            <a:endParaRPr b="0" lang="en-US" sz="1400" spc="-1" strike="noStrike">
              <a:solidFill>
                <a:srgbClr val="000000"/>
              </a:solidFill>
              <a:latin typeface="Arial"/>
            </a:endParaRPr>
          </a:p>
        </p:txBody>
      </p:sp>
      <p:pic>
        <p:nvPicPr>
          <p:cNvPr id="54" name="" descr=""/>
          <p:cNvPicPr/>
          <p:nvPr/>
        </p:nvPicPr>
        <p:blipFill>
          <a:blip r:embed="rId1"/>
          <a:stretch/>
        </p:blipFill>
        <p:spPr>
          <a:xfrm>
            <a:off x="6850080" y="1413000"/>
            <a:ext cx="2293920" cy="3558960"/>
          </a:xfrm>
          <a:prstGeom prst="rect">
            <a:avLst/>
          </a:prstGeom>
          <a:ln w="0">
            <a:noFill/>
          </a:ln>
        </p:spPr>
      </p:pic>
      <p:pic>
        <p:nvPicPr>
          <p:cNvPr id="55" name="" descr=""/>
          <p:cNvPicPr/>
          <p:nvPr/>
        </p:nvPicPr>
        <p:blipFill>
          <a:blip r:embed="rId2"/>
          <a:stretch/>
        </p:blipFill>
        <p:spPr>
          <a:xfrm>
            <a:off x="0" y="6858000"/>
            <a:ext cx="304920" cy="304920"/>
          </a:xfrm>
          <a:prstGeom prst="rect">
            <a:avLst/>
          </a:prstGeom>
          <a:ln w="0">
            <a:noFill/>
          </a:ln>
        </p:spPr>
      </p:pic>
    </p:spTree>
  </p:cSld>
  <p:transition spd="slow">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82764"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l “finto” Console Spagnolo</a:t>
            </a:r>
            <a:endParaRPr b="0" lang="en-US" sz="4400" spc="-1" strike="noStrike">
              <a:solidFill>
                <a:srgbClr val="000000"/>
              </a:solidFill>
              <a:latin typeface="Arial"/>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l commerciante di carni bovin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Giorgio Perlasca</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      …”</a:t>
            </a:r>
            <a:r>
              <a:rPr b="0" lang="it-IT" sz="1600" spc="-1" strike="noStrike">
                <a:solidFill>
                  <a:srgbClr val="ffff00"/>
                </a:solidFill>
                <a:latin typeface="Arial"/>
              </a:rPr>
              <a:t>I sottoscritti, rappresentanti delle potenze neutrali accreditate a Budapest, si sono già per due volte cortesemente appellati al Governo Reale Ungherese affinchè questo intervenga in favore degli ebrei, perseguitati e considerati fuori legge. Ora che il governo reale ha ritenuto necessario rinchiudere gli ebrei in un ghetto – e in questa nota non possono certo essere discusse le sue motivazioni -  i rappresentanti delle potenze neutrali intendono compiere un ulteriore passo diplomatico, perché almeno i bambini vengano esclusi da questo provvedimento. Sarebbe veramente incomprensibile punire degli innocenti, così come parlare di legittima difesa nei confronti di esseri assolutamente inoffensivi.  Anche se tale fatto fosse attuato allo scopo di prevenire possibili disordini, risulterebbe ugualmente inaccettabile punire, per tale motivo dei bambini. Si sente dire che gli ebrei sono i nemici dell’Ungheria, ma sia le norme legali che la coscienza sono sufficienti da sole, anche durante una guerra, a far condannare ogni azione contro dei bambini innocenti. Perché si devono obbligare questi esseri a vivere in un luogo che assomiglia a una prigione e dove non potranno che vedere sempre e soltanto la miseria e la sofferenze di donne e vecchi, perseguitati unicamente per la loro origine razziale? Ogni popolo civile rispetta i bambini e tutto il mondo sarebbe terribilmente sorpreso se dovesse apprendere che l’Ungheria, paese di tradizione nobile e cristiano, interviene contro i minori, i rappresentanti delle potenze neutrali sperano che il governo reale voglia accogliere di buon grado tale richiesta ed acconsentire a che tutti i bambini ( insieme alle loro madri, se ancora lattanti), possano essere lasciati al di fuori del ghetto, in luoghi protetti messi a disposizione delle sedi diplomatiche, oppure presso centri predisposti dalla Croce Rossa Internazionale. Insieme all’accoglimento di questa richiesta, che ha scopi strettamente umanitari,  si dovrà anche aver cura affinché, per l’assistenza dei bambini vengano scelte persone politicamente incensurate e capaci di un’educazione patriott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Budapest, 24 dicembre 194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Angelo Rotta, Nunzio apostolic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Carl Ivan Daniellson, ministro svede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Harald Feheler, incaricato svizze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Jorge Perlasca, incaricato spagnol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Conte Pongràcz, incaricato portoghe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Arial"/>
              </a:rPr>
              <a:t>      </a:t>
            </a:r>
            <a:r>
              <a:rPr b="0" lang="it-IT" sz="1400" spc="-1" strike="noStrike">
                <a:solidFill>
                  <a:srgbClr val="ffff00"/>
                </a:solidFill>
                <a:latin typeface="Arial"/>
              </a:rPr>
              <a:t>- Tratto dal libro “La banalità del bene, storia di Giorgio Perlasca”, di Enrico Deaglio - </a:t>
            </a:r>
            <a:endParaRPr b="0" lang="en-US" sz="1400" spc="-1" strike="noStrike">
              <a:solidFill>
                <a:srgbClr val="000000"/>
              </a:solidFill>
              <a:latin typeface="Arial"/>
            </a:endParaRPr>
          </a:p>
        </p:txBody>
      </p:sp>
      <p:pic>
        <p:nvPicPr>
          <p:cNvPr id="59" name="" descr=""/>
          <p:cNvPicPr/>
          <p:nvPr/>
        </p:nvPicPr>
        <p:blipFill>
          <a:blip r:embed="rId1"/>
          <a:stretch/>
        </p:blipFill>
        <p:spPr>
          <a:xfrm>
            <a:off x="0" y="6858000"/>
            <a:ext cx="304920" cy="304920"/>
          </a:xfrm>
          <a:prstGeom prst="rect">
            <a:avLst/>
          </a:prstGeom>
          <a:ln w="0">
            <a:noFill/>
          </a:ln>
        </p:spPr>
      </p:pic>
      <p:pic>
        <p:nvPicPr>
          <p:cNvPr id="60" name="" descr=""/>
          <p:cNvPicPr/>
          <p:nvPr/>
        </p:nvPicPr>
        <p:blipFill>
          <a:blip r:embed="rId2"/>
          <a:stretch/>
        </p:blipFill>
        <p:spPr>
          <a:xfrm>
            <a:off x="7380360" y="4437000"/>
            <a:ext cx="1563480" cy="2232000"/>
          </a:xfrm>
          <a:prstGeom prst="rect">
            <a:avLst/>
          </a:prstGeom>
          <a:ln w="0">
            <a:noFill/>
          </a:ln>
        </p:spPr>
      </p:pic>
    </p:spTree>
  </p:cSld>
  <p:transition spd="slow">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25616"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l sacrificio della propria vita per il “Fratello”</a:t>
            </a:r>
            <a:endParaRPr b="0" lang="en-US" sz="4400" spc="-1" strike="noStrike">
              <a:solidFill>
                <a:srgbClr val="000000"/>
              </a:solidFill>
              <a:latin typeface="Arial"/>
            </a:endParaRPr>
          </a:p>
        </p:txBody>
      </p:sp>
      <p:sp>
        <p:nvSpPr>
          <p:cNvPr id="62" name="PlaceHolder 2"/>
          <p:cNvSpPr>
            <a:spLocks noGrp="1"/>
          </p:cNvSpPr>
          <p:nvPr>
            <p:ph type="subTitle"/>
          </p:nvPr>
        </p:nvSpPr>
        <p:spPr>
          <a:xfrm>
            <a:off x="1332000" y="3357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alvo D’Acquisto: vicebrigadiere dell’Arma dei Carabinieri </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360"/>
            <a:ext cx="9144000" cy="393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 Il sacrificio di Salvo d’Acquisto appartiene ormai alla memoria collettiva degli italiani come simbolo di suprema generosità e di supremo altruismo. Il suo martirio si inserisce di pieno diritto nel capitolo di sangue e di gloria scritto dall'Arma dei Carabinieri... fra l'8 settembre e la Liberazione, riconsacrando il legame di dedizione indissolubile fra i Carabinieri e la Nazione.</a:t>
            </a:r>
            <a:br>
              <a:rPr sz="1800"/>
            </a:br>
            <a:r>
              <a:rPr b="0" lang="it-IT" sz="1800" spc="-1" strike="noStrike">
                <a:solidFill>
                  <a:srgbClr val="ffff00"/>
                </a:solidFill>
                <a:latin typeface="Arial"/>
              </a:rPr>
              <a:t>E il suo eroismo rappresenta un presagio, quasi un presentimento dell'Italia che si avvia alla rinascita dopo l'umiliazione militare e morale dell'8 settembre...</a:t>
            </a:r>
            <a:br>
              <a:rPr sz="1800"/>
            </a:br>
            <a:r>
              <a:rPr b="0" lang="it-IT" sz="1800" spc="-1" strike="noStrike">
                <a:solidFill>
                  <a:srgbClr val="ffff00"/>
                </a:solidFill>
                <a:latin typeface="Arial"/>
              </a:rPr>
              <a:t>Nel Carabiniere Salvo D'acquisto noi non ricordiamo soltanto un soldato e un eroe. Noi ci inchiniamo commossi di fronte ad un uomo che onora il genere umano, la cui umanità possiede un timbro che non ha il colore del tempo e la cui testimonianza è patrimonio comune della coscienza della Repubblica Italia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Arial"/>
              </a:rPr>
              <a:t>Giovanni Spadolini</a:t>
            </a:r>
            <a:endParaRPr b="0" lang="en-US" sz="1400" spc="-1" strike="noStrike">
              <a:solidFill>
                <a:srgbClr val="000000"/>
              </a:solidFill>
              <a:latin typeface="Arial"/>
            </a:endParaRPr>
          </a:p>
        </p:txBody>
      </p:sp>
      <p:pic>
        <p:nvPicPr>
          <p:cNvPr id="64" name="" descr=""/>
          <p:cNvPicPr/>
          <p:nvPr/>
        </p:nvPicPr>
        <p:blipFill>
          <a:blip r:embed="rId1"/>
          <a:stretch/>
        </p:blipFill>
        <p:spPr>
          <a:xfrm>
            <a:off x="395280" y="3573360"/>
            <a:ext cx="5041800" cy="2667240"/>
          </a:xfrm>
          <a:prstGeom prst="rect">
            <a:avLst/>
          </a:prstGeom>
          <a:ln w="0">
            <a:noFill/>
          </a:ln>
        </p:spPr>
      </p:pic>
      <p:pic>
        <p:nvPicPr>
          <p:cNvPr id="65" name="" descr=""/>
          <p:cNvPicPr/>
          <p:nvPr/>
        </p:nvPicPr>
        <p:blipFill>
          <a:blip r:embed="rId2"/>
          <a:stretch/>
        </p:blipFill>
        <p:spPr>
          <a:xfrm>
            <a:off x="6948360" y="3573360"/>
            <a:ext cx="2038320" cy="2657520"/>
          </a:xfrm>
          <a:prstGeom prst="rect">
            <a:avLst/>
          </a:prstGeom>
          <a:ln w="0">
            <a:noFill/>
          </a:ln>
        </p:spPr>
      </p:pic>
      <p:pic>
        <p:nvPicPr>
          <p:cNvPr id="66" name="" descr=""/>
          <p:cNvPicPr/>
          <p:nvPr/>
        </p:nvPicPr>
        <p:blipFill>
          <a:blip r:embed="rId3"/>
          <a:stretch/>
        </p:blipFill>
        <p:spPr>
          <a:xfrm>
            <a:off x="0" y="6858000"/>
            <a:ext cx="304920" cy="304920"/>
          </a:xfrm>
          <a:prstGeom prst="rect">
            <a:avLst/>
          </a:prstGeom>
          <a:ln w="0">
            <a:noFill/>
          </a:ln>
        </p:spPr>
      </p:pic>
    </p:spTree>
  </p:cSld>
  <p:transition spd="slow">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43035"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19:51:02Z</dcterms:created>
  <dc:creator>utente</dc:creator>
  <dc:description/>
  <dc:language>en-US</dc:language>
  <cp:lastModifiedBy>utente</cp:lastModifiedBy>
  <dcterms:modified xsi:type="dcterms:W3CDTF">2007-07-03T14:30:37Z</dcterms:modified>
  <cp:revision>10</cp:revision>
  <dc:subject/>
  <dc:title>Il sacrificio della propria vita per il “Fratello”</dc:title>
</cp:coreProperties>
</file>