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A89-72ED-4F1C-92F4-203B744F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5B-AD16-4019-8AC7-A390D17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62B-DBDC-4A5F-8500-4E77CDD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33D-E721-48E0-A3A8-65A07227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959-D3B9-4B1A-9418-D69C4A0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7EE-8190-46C9-8E8C-3D113842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FE3-6C68-4305-A0A1-FA08CE2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630-65F4-4B4A-A5B7-8E8EE772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EEE-B8EA-418D-882D-EA04ED1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BC2-8066-4692-AC87-D6F3504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5B3-090A-4C3F-9C04-1D6F5AC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C43-A7A7-4AA3-9C68-F1E1DA30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6DE-04A7-4051-9092-015AD3857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E E POTE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ZIONI CULTURALI DURANTE I TOTALITARISMI DEL NOVEC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143000"/>
            <a:ext cx="8915400" cy="128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zione storica riguardante i governi dispotic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’interazione fra produzioni culturali e potere nella Grecia ellenistica e sotto il despota Domizia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re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nterazione negativa fra arte e potere: la rivoluzionaria proposta dell’eliocentrismo venne accantonata perché non combaciava con il pensiero del sovr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i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nterazione positiva fra arte e potere:Tacito, nell’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gricola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ostra come, anche sotto governi dispotici e tirannici, si possano trovare degli spiragli in cui l’azione del singolo sia ancora possibile e propone pertanto una via di mezzo fra il suicidio e l’adul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743200"/>
            <a:ext cx="891540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roduzione ai totalitarismi del Novecento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aspetti negativi: la propaganda e la censura dei regimi totalitari vengono affrontate facendo riferimento al testo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origini del totalitarism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nnah Arend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 capitoli riguardanti le masse e la propaganda totalitaria) e con una breve parentesi sulla psicologia delle masse (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omm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l rapporto simbiotico fra masse e capo politico)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aspetti positivi: Hitler, Stalin e Mussolini si impegnarono nel campo del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419720"/>
            <a:ext cx="251460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ascismo: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in appoggio: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l rapporto fra Mussolini e Marinetti, alcuni quadri futuristi usati come propaganda per il Duce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in opposizione: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alian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iganti della Montagn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Pirandello possono essere interpretati come una velata allusione ai crimini del regime fasc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600200" y="41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00600" y="41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419720"/>
            <a:ext cx="3657600" cy="21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zism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in appoggio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losof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eidegger e la sua adesione al partito nazionalsocialista; l’essere-per-la-morte e la scelta di sposare la civiltà del proprio temp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in opposizione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imonianze ebraic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ritte durante il nazismo; come Auschwitz ha cambiato il concetto di Dio (diario di Anna Frank, diario di Etty Hillesum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ot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Elie Wiesel e un saggio di Hans Jona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i cenni sulle riflessioni di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annah Arend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l’origine dell’antisemitismo e sui campi di concentr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419720"/>
            <a:ext cx="236232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talinismo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arte riguardante lo stalinismo viene trattata in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glese,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ffrontando, come critica allo stalinismo,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nimal Farm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George Orwell e, con rapidi cenni,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6:06:15Z</dcterms:created>
  <dc:creator>Veronica</dc:creator>
  <dc:description/>
  <dc:language>en-US</dc:language>
  <cp:lastModifiedBy>Veronica</cp:lastModifiedBy>
  <dcterms:modified xsi:type="dcterms:W3CDTF">2007-06-05T20:12:03Z</dcterms:modified>
  <cp:revision>86</cp:revision>
  <dc:subject/>
  <dc:title>ARTE E POTERE PRODUZIONI CULTURALI DURANTE I TOTALITARISMI DEL NOVECENTO</dc:title>
</cp:coreProperties>
</file>