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23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wmf" ContentType="image/x-wmf"/>
  <Override PartName="/ppt/media/image22.wmf" ContentType="image/x-wmf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5.wmf" ContentType="image/x-wmf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7F79-5607-46E3-92EB-0C92A9DEE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3B1B-9F3C-417F-A38E-51543EA1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5E0B-05FD-4B7F-9BEB-548134B2E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1AC9-F860-4B4B-9FA5-95295DC6E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5AA56-6867-4B82-978D-8EA77F21B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19E2-8938-432B-8D70-3FFB5855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EA27-10F6-480B-BDD3-85E8D0F7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E72D-AB7E-482D-AF24-C732BAD9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B7F74-415C-4277-A545-EFC51343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A961-002D-4F9E-89CE-13B60A20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7E3D-435A-4080-93A0-6CDA82CC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81B0-7ADA-453D-816B-D891E110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CBD7-0F92-4852-968D-78AB3047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62D6-A2C8-476E-B22C-9562B95B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DEA12-9599-46BB-BAD9-47DD3991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5444-A770-4008-9CC7-DE08DA7E2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11468-7822-48E6-934A-85C691161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1DB21-5F11-4842-B807-5A7CA43C4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ACA2A-0994-4CC1-869E-2C6ED941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80C1C-0041-4B7F-9A3D-022743E2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3FAB2-3438-4544-8E00-55319E3C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BD54F-745D-4C64-92A5-0FB4A64B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6483-249B-4960-A03E-29FCCE37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60E12-4E09-485A-9DC2-B17D4A0A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7B6AF-0889-4E07-B672-B3F437AC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41ACC-47E9-4B06-8186-62217429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1BB29-C4D3-4A5D-96E5-66FBDB6B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86442-2234-4B7E-A1F4-E58472A9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D285A-EB69-45C7-8E25-7C5DE16BD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07D95-A5EA-4E29-98DB-052E2363B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F3EBA-FE2C-49A4-B581-A757D6F5D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54D05-CFC3-445A-B4A5-FC18DDA0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FFDD8-A15F-4135-842A-67F4B3BF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38CC-921E-426A-96FA-382CAEBF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D3BBA-590A-411B-8CB1-C6F13324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B11DE-78AF-4CF7-A2DE-DB192F71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5800C-6AC5-4D5C-9A83-E5677D51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2B2D2-E967-41F7-85CC-88298C36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F1C0D-5FAD-4F51-A3BD-3B23B1BE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00748-8332-4172-8984-7286650B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14E8B-C8AE-40EA-AC11-37162A0D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A1FFB-FA58-4561-9B46-0AA757F5F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79228-8A75-47BD-9F42-928CBE979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BE37C-65A3-460E-845D-48B0DD480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7577-789A-4F12-BE7A-7FEFEABA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0BBEF-A7FF-4710-AF00-D699A43E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17267-1E00-450E-831C-98AB2E90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0C77F-A3EE-4A5F-A85B-EBD3EB37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EB0CB-5298-40D3-8FAC-51540FA6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0CDFD-848C-46A5-8528-FAF5F994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911EE-D43A-43FF-9557-384B3A39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8C6A1-9734-4C21-A6D6-DDE93CCE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585AF-4B28-4FBC-8288-0DEDB01A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9485D-7647-450F-8C24-FBCF1A9A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52414-B5E9-43CF-A878-18EF78EEC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F7EB-71F5-4EA4-A9A0-68F07F5A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73A3C-86BA-4F14-BEF6-B9E97163A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C4FA-996A-4231-A504-ABCB8298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D4CD-541E-4E1E-9B99-4980F960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D28F-7242-4584-80BA-A95D3908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06CB-E1F0-46D5-A810-4D1C6B6F63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AB13-D11C-4A2C-8CC4-0E84EF35CC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0B70-C69A-4C31-BED9-A029854E74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3F7C-650F-4B3F-8B26-11A4B7C582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4009-8AE8-4B42-85CF-2493F6B70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it.wikipedia.org/wiki/Immagine:Film_reel_and_film.jpg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356000" y="5510160"/>
            <a:ext cx="478800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lamencoD"/>
              </a:rPr>
              <a:t>Tesina presentata d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lamencoD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FlamencoD"/>
              </a:rPr>
              <a:t>Irene Lanz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 rot="18865200">
            <a:off x="-611640" y="1195560"/>
            <a:ext cx="4679640" cy="13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ff"/>
                    </a:gs>
                    <a:gs pos="100000">
                      <a:srgbClr val="cc0066"/>
                    </a:gs>
                  </a:gsLst>
                  <a:lin ang="8136000"/>
                </a:gradFill>
                <a:latin typeface="Harlow Solid Italic"/>
              </a:rPr>
              <a:t>Mass Med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ff"/>
                  </a:gs>
                  <a:gs pos="100000">
                    <a:srgbClr val="cc0066"/>
                  </a:gs>
                </a:gsLst>
                <a:lin ang="8136000"/>
              </a:gradFill>
              <a:latin typeface="Harlow Solid Italic"/>
              <a:ea typeface="Harlow Solid Italic"/>
            </a:endParaRPr>
          </a:p>
        </p:txBody>
      </p:sp>
      <p:pic>
        <p:nvPicPr>
          <p:cNvPr id="22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64000" y="1413000"/>
            <a:ext cx="1312920" cy="16430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internet.jpg"/>
          <p:cNvPicPr/>
          <p:nvPr/>
        </p:nvPicPr>
        <p:blipFill>
          <a:blip r:embed="rId4"/>
          <a:stretch/>
        </p:blipFill>
        <p:spPr>
          <a:xfrm>
            <a:off x="2411280" y="5229360"/>
            <a:ext cx="1111320" cy="1296720"/>
          </a:xfrm>
          <a:prstGeom prst="rect">
            <a:avLst/>
          </a:prstGeom>
          <a:ln w="0">
            <a:noFill/>
          </a:ln>
        </p:spPr>
      </p:pic>
      <p:pic>
        <p:nvPicPr>
          <p:cNvPr id="224" name="images" descr=""/>
          <p:cNvPicPr/>
          <p:nvPr/>
        </p:nvPicPr>
        <p:blipFill>
          <a:blip r:embed="rId5"/>
          <a:stretch/>
        </p:blipFill>
        <p:spPr>
          <a:xfrm>
            <a:off x="3851280" y="3500280"/>
            <a:ext cx="1368360" cy="13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750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lamencoD"/>
              </a:rPr>
              <a:t>Analisi della crescita degli HOST in Europa: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42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FlamencoD"/>
              </a:rPr>
              <a:t>Nell’esame di fenomeni di qualsiasi natura si cerca di esprimere media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FlamencoD"/>
              </a:rPr>
              <a:t>relazioni matematiche o indici specifici, i legami rilevati fra le grandezze pre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FlamencoD"/>
              </a:rPr>
              <a:t>in esame. Nello studio dei legami fra due variabili statistiche, partendo da 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FlamencoD"/>
              </a:rPr>
              <a:t>insieme di coppie ( xi ; yi ) di dati rilevati si determina, se possibile, un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FlamencoD"/>
              </a:rPr>
              <a:t>funzione y = </a:t>
            </a:r>
            <a:r>
              <a:rPr b="0" i="1" lang="it-IT" sz="2000" spc="-1" strike="noStrike">
                <a:solidFill>
                  <a:srgbClr val="ffffff"/>
                </a:solidFill>
                <a:latin typeface="FlamencoD"/>
              </a:rPr>
              <a:t>f</a:t>
            </a:r>
            <a:r>
              <a:rPr b="0" lang="it-IT" sz="2000" spc="-1" strike="noStrike">
                <a:solidFill>
                  <a:srgbClr val="ffffff"/>
                </a:solidFill>
                <a:latin typeface="FlamencoD"/>
              </a:rPr>
              <a:t> (x) che rappresenti il fenome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FlamencoD"/>
              </a:rPr>
              <a:t>1. INTERPOLAZIONE MATEMATICA</a:t>
            </a:r>
            <a:r>
              <a:rPr b="0" lang="it-IT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FlamencoD"/>
              </a:rPr>
              <a:t>     </a:t>
            </a:r>
            <a:r>
              <a:rPr b="0" lang="it-IT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FlamencoD"/>
              </a:rPr>
              <a:t>2. INTERPOLAZIONE STATIS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FlamencoD"/>
              </a:rPr>
              <a:t>Per la ricerca della funzione interpolante ci sono 3 fas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Flamenco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FlamencoD"/>
              </a:rPr>
              <a:t>_ rappresentazione del diagramma a dispersi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FlamencoD"/>
              </a:rPr>
              <a:t>_ determinazione dei parametri con il metodo dei </a:t>
            </a:r>
            <a:r>
              <a:rPr b="0" i="1" lang="it-IT" sz="2000" spc="-1" strike="noStrike">
                <a:solidFill>
                  <a:srgbClr val="ffffff"/>
                </a:solidFill>
                <a:latin typeface="FlamencoD"/>
              </a:rPr>
              <a:t>minimi quadra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Flamenco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FlamencoD"/>
              </a:rPr>
              <a:t>b1=</a:t>
            </a:r>
            <a:r>
              <a:rPr b="0" lang="it-IT" sz="2000" spc="-1" strike="noStrike" u="sng">
                <a:solidFill>
                  <a:srgbClr val="ffffff"/>
                </a:solidFill>
                <a:uFillTx/>
                <a:latin typeface="FlamencoD"/>
              </a:rPr>
              <a:t> Σ(yi-M(y))(xi-M(x))</a:t>
            </a:r>
            <a:r>
              <a:rPr b="0" lang="it-IT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FlamencoD"/>
              </a:rPr>
              <a:t>a1= M(y)- b*M(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FlamencoD"/>
              </a:rPr>
              <a:t>        </a:t>
            </a:r>
            <a:r>
              <a:rPr b="0" lang="it-IT" sz="2000" spc="-1" strike="noStrike">
                <a:solidFill>
                  <a:srgbClr val="ffffff"/>
                </a:solidFill>
                <a:latin typeface="FlamencoD"/>
              </a:rPr>
              <a:t>Σ(xi-M(x))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FlamencoD"/>
              </a:rPr>
              <a:t>_ valutazione del grado di accostam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7164360" y="5013360"/>
            <a:ext cx="154944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708000" y="836640"/>
            <a:ext cx="4978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FlamencoD"/>
              </a:rPr>
              <a:t>Dati raccolti in Europa: rapporto fra anno e numero di HOST di internet.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FlamencoD"/>
              </a:rPr>
              <a:t>Si definisce host o end system (</a:t>
            </a:r>
            <a:r>
              <a:rPr b="0" i="1" lang="it-IT" sz="2000" spc="-1" strike="noStrike">
                <a:solidFill>
                  <a:srgbClr val="ffffff"/>
                </a:solidFill>
                <a:latin typeface="FlamencoD"/>
              </a:rPr>
              <a:t>terminali</a:t>
            </a:r>
            <a:r>
              <a:rPr b="0" lang="it-IT" sz="2000" spc="-1" strike="noStrike">
                <a:solidFill>
                  <a:srgbClr val="ffffff"/>
                </a:solidFill>
                <a:latin typeface="FlamencoD"/>
              </a:rPr>
              <a:t>) ogni terminale collegato ad Internet. Gli host possono essere di diverso tipo, ad esempio computer, palmari, dispositivi mobili e così via.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FlamencoD"/>
              </a:rPr>
              <a:t>Partendo da questi dati si cercherà di esprimere questo legame mediante la funzione matematica, essendo una serie storica tale funzione prende il nome di trend, e sucessivamente si valuteranno i risultati.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24000" y="133200"/>
          <a:ext cx="3024000" cy="6470640"/>
        </p:xfrm>
        <a:graphic>
          <a:graphicData uri="http://schemas.openxmlformats.org/drawingml/2006/table">
            <a:tbl>
              <a:tblPr/>
              <a:tblGrid>
                <a:gridCol w="1292040"/>
                <a:gridCol w="1731960"/>
              </a:tblGrid>
              <a:tr h="351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      </a:t>
                      </a: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. ho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9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9.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9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9.7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99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84.4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99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53.4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99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029.3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99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206.4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99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674.3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99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.790.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9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.872.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9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.268.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5.804.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2.332.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7.241.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3.708.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3.965.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1.888.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7.606.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9152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lamencoD"/>
              </a:rPr>
              <a:t>Rappresentazione cartesiana dei dati rilevati: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4960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6407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lamencoD"/>
              </a:rPr>
              <a:t>I parametri trovati dallo studio delle due grandezze sono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lamencoD"/>
              </a:rPr>
              <a:t>b1 = 4619461,029</a:t>
            </a:r>
            <a:r>
              <a:rPr b="0" lang="en-US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lamencoD"/>
              </a:rPr>
              <a:t>a1 = -21317461</a:t>
            </a:r>
            <a:r>
              <a:rPr b="0" lang="en-US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lamenco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lamencoD"/>
              </a:rPr>
              <a:t>E costituiscono la retta di equazione </a:t>
            </a:r>
            <a:r>
              <a:rPr b="0" lang="en-US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lamencoD"/>
              </a:rPr>
              <a:t>y = -21317461 + 4619461,029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lamencoD"/>
              </a:rPr>
              <a:t>Che sovrapposta al diagramma precedente si presenta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838836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785440" cy="32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FlamencoD"/>
              </a:rPr>
              <a:t>Si calcola l’indice di scostamento i2 per verificare il grado di accostamento fra i dati rilevati yi e quelli teorici ŷi, che si trovano sostituendo le xi alla retta del trend 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FlamencoD"/>
              </a:rPr>
              <a:t>(y = -21317461 + 4619461,029x). 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FlamencoD"/>
              </a:rPr>
              <a:t>i2 = 0,646917378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FlamencoD"/>
              </a:rPr>
              <a:t>Essendo i2 maggiore di 0.1 il grado di accostamento non è buono, infatti dall’analisi del diagramma di dispersione come funzione interpolante non si sarebbe scelta la retta ma un'altra funzione come una funzione esponenziale o potenza.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684360" y="2997360"/>
            <a:ext cx="763272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4724280"/>
            <a:ext cx="805968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lamencoD"/>
              </a:rPr>
              <a:t>Questi due grafici esprimono bene come la scelta di una diversa funzione avrebbe determinato un migliore grado di accostamento, perché la crescita si presenta lieve per i primi anni( dal 1990 al 1999) mentre negli anni successivi si registra una crescita esponenziale.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883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58920" y="404640"/>
            <a:ext cx="65530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lamencoD"/>
              </a:rPr>
              <a:t>SCHEMA TESINA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lamencoD"/>
              </a:rPr>
              <a:t>Il Cinem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FlamencoD"/>
              </a:rPr>
              <a:t>- La politica cinematografica del fascis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FlamencoD"/>
              </a:rPr>
              <a:t>- La politica economica del fascism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lamencoD"/>
              </a:rPr>
              <a:t>La television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FlamencoD"/>
              </a:rPr>
              <a:t>- Programmi per la societ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lamencoD"/>
              </a:rPr>
              <a:t>Interne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FlamencoD"/>
              </a:rPr>
              <a:t>- Analisi della concorrenza tra sit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FlamencoD"/>
              </a:rPr>
              <a:t>- Diffusione dal 1990 al 20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1152720" cy="10746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971640" y="527832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5940360" y="3068640"/>
            <a:ext cx="225576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84360" y="476280"/>
            <a:ext cx="79930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lamencoD"/>
              </a:rPr>
              <a:t>IL CINEM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lamencoD"/>
              </a:rPr>
              <a:t>Nascita del cinema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lamencoD"/>
              </a:rPr>
              <a:t>Il 28 Dicembre del 1895 proiezione dei fratelli Lumiè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lamencoD"/>
              </a:rPr>
              <a:t>Sviluppo del cinema surrealista</a:t>
            </a:r>
            <a:r>
              <a:rPr b="0" lang="en-US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lamencoD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lamencoD"/>
              </a:rPr>
              <a:t>Politica cinematografica fascismo:   - Istituto LU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lamencoD"/>
              </a:rPr>
              <a:t>- Cinecitt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lamencoD"/>
              </a:rPr>
              <a:t>- Cens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516720" y="1916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451640" y="1628640"/>
            <a:ext cx="144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lamencoD"/>
              </a:rPr>
              <a:t>Ricerca della realt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140360" y="3716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48360" y="3284640"/>
            <a:ext cx="30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lamencoD"/>
              </a:rPr>
              <a:t>Rappresentazione del surreale per una riflessione sulla realt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300px-Film_reel_and_film" descr="Una pellicola cinematografica super 8 m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35640" y="189000"/>
            <a:ext cx="1109520" cy="14842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684360" y="2060640"/>
            <a:ext cx="1179360" cy="15112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3132000" y="3860640"/>
            <a:ext cx="1513080" cy="11322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250920" y="5373720"/>
            <a:ext cx="1979640" cy="13269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7"/>
          <a:stretch/>
        </p:blipFill>
        <p:spPr>
          <a:xfrm>
            <a:off x="6084720" y="4508640"/>
            <a:ext cx="284328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324000" y="189000"/>
            <a:ext cx="8351640" cy="81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FlamencoD"/>
              </a:rPr>
              <a:t>La politica economica del fascismo</a:t>
            </a:r>
            <a:r>
              <a:rPr b="0" lang="en-US" sz="2000" spc="-1" strike="noStrike">
                <a:solidFill>
                  <a:srgbClr val="000000"/>
                </a:solidFill>
                <a:latin typeface="FlamencoD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lamencoD"/>
              </a:rPr>
              <a:t>Prima fase:  1922 - 1925  "Il liberismo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0000"/>
              </a:buClr>
              <a:buFont typeface="Flamenco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0000"/>
              </a:buClr>
              <a:buFont typeface="Flamenco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lamencoD"/>
                <a:ea typeface="Arial"/>
              </a:rPr>
              <a:t>Alberto De Stefani è nominato ministro dell'econom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0000"/>
              </a:buClr>
              <a:buFont typeface="Flamenco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lamencoD"/>
                <a:ea typeface="Arial"/>
              </a:rPr>
              <a:t>Viene incoraggiata l'iniziativa priv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0000"/>
              </a:buClr>
              <a:buFont typeface="Flamenco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lamencoD"/>
                <a:ea typeface="Arial"/>
              </a:rPr>
              <a:t>Privatizzazione del servizio telefonico e assicurati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0000"/>
              </a:buClr>
              <a:buFont typeface="Flamenco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lamencoD"/>
                <a:ea typeface="Arial"/>
              </a:rPr>
              <a:t>Viene ridotta la spesa pubbl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lamencoD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FlamencoD"/>
              </a:rPr>
              <a:t>Seconda fase: 1925 - 1929 " Deflazione e protezionismo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0000"/>
              </a:buClr>
              <a:buFont typeface="Flamenco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0000"/>
              </a:buClr>
              <a:buFont typeface="Flamenco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lamencoD"/>
                <a:ea typeface="Arial"/>
              </a:rPr>
              <a:t>Vengono attuati interventi deflattivi: “Quota Novanta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0000"/>
              </a:buClr>
              <a:buFont typeface="Flamenco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lamencoD"/>
                <a:ea typeface="Arial"/>
              </a:rPr>
              <a:t>Giuseppe Volpi diventa il nuovo ministro dell'econom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0000"/>
              </a:buClr>
              <a:buFont typeface="Flamenco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lamencoD"/>
                <a:ea typeface="Arial"/>
              </a:rPr>
              <a:t>Ripristino dazi su grano e zucche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0000"/>
              </a:buClr>
              <a:buFont typeface="Flamenco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lamencoD"/>
                <a:ea typeface="Arial"/>
              </a:rPr>
              <a:t>Trasformazione industria italia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ITC Lt BT"/>
                <a:ea typeface="Arial"/>
              </a:rPr>
              <a:t>La deflazione caus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0000"/>
              </a:buClr>
              <a:buFont typeface="BookmanITC Lt BT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ITC Lt BT"/>
                <a:ea typeface="Arial"/>
              </a:rPr>
              <a:t>Danneggiamento delle esportazio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0000"/>
              </a:buClr>
              <a:buFont typeface="BookmanITC Lt BT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ITC Lt BT"/>
                <a:ea typeface="Arial"/>
              </a:rPr>
              <a:t>Salvaguardia dei risparmi dei ceti med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971640" y="1700280"/>
            <a:ext cx="1052280" cy="15271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250920" y="4149720"/>
            <a:ext cx="1817640" cy="25178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6443640" y="4797360"/>
            <a:ext cx="9874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78920" y="404640"/>
            <a:ext cx="828036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lamencoD"/>
              </a:rPr>
              <a:t>Terza fase: 1929 - 1936 “Il dirigismo economico"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Flamenco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lamencoD"/>
              </a:rPr>
              <a:t>Crisi del 192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Flamenco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lamencoD"/>
              </a:rPr>
              <a:t>Intervento massiccio dello Stato nell'econom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Flamenco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lamencoD"/>
              </a:rPr>
              <a:t>nel 1933 creazione dell'IRI e dell’IM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164360" y="907920"/>
            <a:ext cx="1641600" cy="22132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179280" y="3141720"/>
            <a:ext cx="3889440" cy="21430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2340000" y="4076640"/>
            <a:ext cx="6624720" cy="35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lamencoD"/>
                <a:ea typeface="Arial"/>
              </a:rPr>
              <a:t>Complessivamente, si può dire che l’appara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lamencoD"/>
                <a:ea typeface="Arial"/>
              </a:rPr>
              <a:t>Industriale italiano si sviluppò e rafforz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lamencoD"/>
                <a:ea typeface="Arial"/>
              </a:rPr>
              <a:t>durante il ventennio fascista, anche se c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lamencoD"/>
                <a:ea typeface="Arial"/>
              </a:rPr>
              <a:t>grandi squilibri fra i vari settori e le diver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lamencoD"/>
                <a:ea typeface="Arial"/>
              </a:rPr>
              <a:t>regioni del paes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057400" indent="-228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826920" y="260280"/>
            <a:ext cx="7490160" cy="74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FlamencoD"/>
              </a:rPr>
              <a:t>La Tél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Les étapes principales pour la diffusion de la tél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Annés ’50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La diffusion était petite quand RAI à commencé les 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transmission en blanc et noi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Annés ’60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Le boom 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économique a contribué à la diffusion de la 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télé dans tuttes les familles aussi les moins riches, 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donc les premières programmes se sont pris le 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charge d’éduquer le pays enti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1961- création du deuxième chaîne RA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1990- succès des émetteurs privées grâce à la lois 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Crax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50920" y="364500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50920" y="242100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images" descr=""/>
          <p:cNvPicPr/>
          <p:nvPr/>
        </p:nvPicPr>
        <p:blipFill>
          <a:blip r:embed="rId1"/>
          <a:stretch/>
        </p:blipFill>
        <p:spPr>
          <a:xfrm>
            <a:off x="6732720" y="260280"/>
            <a:ext cx="180000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8930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FlamencoD"/>
              </a:rPr>
              <a:t>Si dans le passé la télé avait une fonction éducative, aujourd’hui on ne peut pas dire la même chose... Deux interventions contre les transmissions de la télé moderne 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Harlow Solid Italic"/>
              </a:rPr>
              <a:t>Karl Popper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Les contenus des transmissions peut offrir à la 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société des grands doses de </a:t>
            </a:r>
            <a:r>
              <a:rPr b="0" i="1" lang="fr-FR" sz="2000" spc="-1" strike="noStrike">
                <a:solidFill>
                  <a:srgbClr val="ffffff"/>
                </a:solidFill>
                <a:latin typeface="FlamencoD"/>
              </a:rPr>
              <a:t>violence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Harlow Solid Italic"/>
              </a:rPr>
              <a:t>Pier Paolo Pasolini</a:t>
            </a:r>
            <a:r>
              <a:rPr b="0" lang="fr-FR" sz="2800" spc="-1" strike="noStrike">
                <a:solidFill>
                  <a:srgbClr val="ffffff"/>
                </a:solidFill>
                <a:latin typeface="Harlow Solid Italic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La télé a conduit à une situation de 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massification et homologation dans la 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quelle les changements de la mode et les 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désires de la collectivité sont décidés 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dans le conseils d’administration des 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réseaux télévisif.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03640" y="206064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11640" y="414972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50920" y="2349360"/>
            <a:ext cx="2017440" cy="13636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2843280" y="2781360"/>
            <a:ext cx="388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57400" indent="-228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FlamencoD"/>
              </a:rPr>
              <a:t>Jeunes violents et indifférents</a:t>
            </a:r>
            <a:r>
              <a:rPr b="0" lang="it-IT" sz="2000" spc="-1" strike="noStrike">
                <a:solidFill>
                  <a:srgbClr val="000000"/>
                </a:solidFill>
                <a:latin typeface="Flamenco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164360" y="263700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6443640" y="328464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39640" y="836640"/>
            <a:ext cx="56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5280" y="620640"/>
            <a:ext cx="8280360" cy="66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FlamencoD"/>
              </a:rPr>
              <a:t>Internet: “Il nuovo strumento utilizzato da imprese e privati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FlamencoD"/>
              </a:rPr>
              <a:t>NEW ECONOMIE</a:t>
            </a:r>
            <a:r>
              <a:rPr b="0" lang="it-IT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FlamencoD"/>
              </a:rPr>
              <a:t> economia fondata sulla creazione e sul consolidamento </a:t>
            </a:r>
            <a:r>
              <a:rPr b="0" lang="it-IT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FlamencoD"/>
              </a:rPr>
              <a:t>di relazioni commerciali e finanziarie determinate dalla </a:t>
            </a:r>
            <a:r>
              <a:rPr b="0" lang="it-IT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FlamencoD"/>
              </a:rPr>
              <a:t>comunicazione digitale e dall’elaborazione elettronica delle </a:t>
            </a:r>
            <a:r>
              <a:rPr b="0" lang="it-IT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FlamencoD"/>
              </a:rPr>
              <a:t>informazioni, possibile grazie all’avvento della rete </a:t>
            </a:r>
            <a:r>
              <a:rPr b="0" lang="it-IT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FlamencoD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FlamencoD"/>
              </a:rPr>
              <a:t>telematica Interne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FlamencoD"/>
              </a:rPr>
              <a:t>STUDIO DELLA CONCORRENZA NELLA “RETE DELLE RETI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Flamenco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FlamencoD"/>
                <a:ea typeface="Arial"/>
              </a:rPr>
              <a:t>Identificazione dei concorrenti</a:t>
            </a:r>
            <a:r>
              <a:rPr b="0" lang="it-IT" sz="2000" spc="-1" strike="noStrike">
                <a:solidFill>
                  <a:srgbClr val="ffffff"/>
                </a:solidFill>
                <a:latin typeface="FlamencoD"/>
                <a:ea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FlamencoD"/>
                <a:ea typeface="Arial"/>
              </a:rPr>
              <a:t>ricerca e scelta del leader che offre </a:t>
            </a:r>
            <a:r>
              <a:rPr b="0" lang="it-IT" sz="2000" spc="-1" strike="noStrike">
                <a:solidFill>
                  <a:srgbClr val="ffffff"/>
                </a:solidFill>
                <a:latin typeface="FlamencoD"/>
                <a:ea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FlamencoD"/>
                <a:ea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FlamencoD"/>
                <a:ea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FlamencoD"/>
                <a:ea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FlamencoD"/>
                <a:ea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FlamencoD"/>
                <a:ea typeface="Arial"/>
              </a:rPr>
              <a:t>prodotti e siti innovativ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Flamenco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FlamencoD"/>
                <a:ea typeface="Arial"/>
              </a:rPr>
              <a:t>Analisi dei concorrenti </a:t>
            </a:r>
            <a:r>
              <a:rPr b="0" lang="it-IT" sz="2000" spc="-1" strike="noStrike">
                <a:solidFill>
                  <a:srgbClr val="ffffff"/>
                </a:solidFill>
                <a:latin typeface="FlamencoD"/>
                <a:ea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FlamencoD"/>
                <a:ea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FlamencoD"/>
                <a:ea typeface="Arial"/>
              </a:rPr>
              <a:t>utilizzo dello schema delle 5 forze </a:t>
            </a:r>
            <a:r>
              <a:rPr b="0" lang="it-IT" sz="2000" spc="-1" strike="noStrike">
                <a:solidFill>
                  <a:srgbClr val="ffffff"/>
                </a:solidFill>
                <a:latin typeface="FlamencoD"/>
                <a:ea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FlamencoD"/>
                <a:ea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FlamencoD"/>
                <a:ea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FlamencoD"/>
                <a:ea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FlamencoD"/>
                <a:ea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FlamencoD"/>
                <a:ea typeface="Arial"/>
              </a:rPr>
              <a:t>di Por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Flamenco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FlamencoD"/>
                <a:ea typeface="Arial"/>
              </a:rPr>
              <a:t>Valutazione della fattibilità del progetto, del grado di redditività e raccolta di informazioni per la realizzazione di un progetto di                 e-business vinc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1557360"/>
            <a:ext cx="1800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427640" y="3933720"/>
            <a:ext cx="57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635280" y="472428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7667640" y="5589720"/>
            <a:ext cx="111600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lamencoD"/>
              </a:rPr>
              <a:t>APPLICAZIONE DELLO SCHEMA DELLE 5 FORZ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280836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FlamencoD"/>
              </a:rPr>
              <a:t>Grado di concentrazion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FlamencoD"/>
              </a:rPr>
              <a:t>dell’offert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FlamencoD"/>
              </a:rPr>
              <a:t>Andamento </a:t>
            </a:r>
            <a:r>
              <a:rPr b="0" lang="en-US" sz="1900" spc="-1" strike="noStrike">
                <a:solidFill>
                  <a:srgbClr val="ffffff"/>
                </a:solidFill>
                <a:latin typeface="FlamencoD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FlamencoD"/>
              </a:rPr>
              <a:t>della domand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FlamencoD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FlamencoD"/>
              </a:rPr>
              <a:t>Struttura dei cost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FlamencoD"/>
              </a:rPr>
              <a:t>Barrie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FlamencoD"/>
              </a:rPr>
              <a:t>all’entrat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FlamencoD"/>
              </a:rPr>
              <a:t>Minacce di prodotti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FlamencoD"/>
              </a:rPr>
              <a:t>sostitutiv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403280" y="620640"/>
            <a:ext cx="7489800" cy="71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18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Flamenco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FlamencoD"/>
              </a:rPr>
              <a:t>Come i siti concorrenti hanno ottimizzato le loro pagine per apparire ai primi posti sui motori di ricerca; e cercare di capire dal loro sito la strategia utilizza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718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Flamenco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FlamencoD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FlamencoD"/>
              </a:rPr>
              <a:t>Analisi SWOT, cioè dei propri punti di forza e debolezza e confronto con quelli dei concorrent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718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Flamenco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FlamencoD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FlamencoD"/>
              </a:rPr>
              <a:t>Guardando all’aspetto del sito analizza come questo si rapporta con il navigato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718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Flamenco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FlamencoD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FlamencoD"/>
              </a:rPr>
              <a:t>Se l’obbiettivo è quello di convertire gli utenti in  clienti il sito deve portare gli utenti a compiere percorsi programmati, mirati a fargli compiere azioni come il contratto, l’invio di un’e-mai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718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Flamenco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FlamencoD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FlamencoD"/>
              </a:rPr>
              <a:t>Analisi del target audience onli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718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Flamenco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FlamencoD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FlamencoD"/>
              </a:rPr>
              <a:t>Analisi dell’attuale “ online value proposition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718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Flamenco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FlamencoD"/>
              </a:rPr>
              <a:t>I costi da sostenere riguardano esclusivamente eventuali licenze o costi di pubblicità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718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Flamenco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FlamencoD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FlamencoD"/>
              </a:rPr>
              <a:t>Analisi di visibilità e popolarità dei siti competitor.</a:t>
            </a:r>
            <a:r>
              <a:rPr b="0" lang="it-IT" sz="1800" spc="-1" strike="noStrike">
                <a:solidFill>
                  <a:srgbClr val="ffffff"/>
                </a:solidFill>
                <a:latin typeface="Flamenco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718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Flamenco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718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Flamenco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FlamencoD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FlamencoD"/>
              </a:rPr>
              <a:t>Quali prodotti e servizi vengono offerti via Internet dai concorrenti e confrontarli con quelli che sono offerti dalla tua impres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843280" y="836640"/>
            <a:ext cx="433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843280" y="836640"/>
            <a:ext cx="43344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1835280" y="2276280"/>
            <a:ext cx="144144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35280" y="2421000"/>
            <a:ext cx="144144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835280" y="2421000"/>
            <a:ext cx="144144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835280" y="2421000"/>
            <a:ext cx="1441440" cy="19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547640" y="5373720"/>
            <a:ext cx="165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1280" y="6021360"/>
            <a:ext cx="865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24000" y="4581360"/>
            <a:ext cx="115272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1T16:28:44Z</dcterms:created>
  <dc:creator>omero lanzi</dc:creator>
  <dc:description/>
  <dc:language>en-US</dc:language>
  <cp:lastModifiedBy>omero lanzi</cp:lastModifiedBy>
  <dcterms:modified xsi:type="dcterms:W3CDTF">2007-07-04T16:16:42Z</dcterms:modified>
  <cp:revision>17</cp:revision>
  <dc:subject/>
  <dc:title>I MASS MEDIA</dc:title>
</cp:coreProperties>
</file>