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31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8.gif" ContentType="image/gif"/>
  <Override PartName="/ppt/media/image4.wmf" ContentType="image/x-wmf"/>
  <Override PartName="/ppt/media/image14.wmf" ContentType="image/x-wmf"/>
  <Override PartName="/ppt/media/image9.gif" ContentType="image/gif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3FB-BD8C-4DE3-A33A-26C4DA9E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75F-64A4-4742-846E-06CF11CD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AFD-FE43-4E2D-BBBE-E7861418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109-028D-49E8-9255-59E65E34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8DD5-BC08-4E24-8543-770440BC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AC21-8B87-43B8-A5A1-1628A1E9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2B04-3B16-4AC6-92DA-7E414EA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2A5D-B919-4308-9676-48A3503B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9504-EBF8-4D9D-B1B9-8BC5CCE6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FBDC-91AF-452A-BF31-77D5C194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222F-0132-423B-AA85-961EEFD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AD3-3ABC-4422-8441-2B84843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3182-F9A8-4328-86EC-1411C4E1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208A-2F8C-4FCB-BB9B-FA1269C4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62C7-621D-428D-829C-2BF24F65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9A39-E886-4C00-BBDB-1769B754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AB8E-1F97-43E6-9BBD-5088452A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C42-3229-4F37-AA9E-4CD865F2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EC5-9941-4A17-8A89-4A03636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9B2-8C0F-45F2-A905-80138EC8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7AB-73CA-43B9-B044-B9471A80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8A5-62BD-493D-944D-3B9DC60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17F-123E-4464-A9F2-15ACACC7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B93-8019-4AD5-B00D-0F4429D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5CC6-1022-4668-8002-AF976C91A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9AF9-DF96-494E-8A49-BE4C8B580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slide" Target="slide9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slide" Target="slide10.xm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slide" Target="slide11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7.xml"/><Relationship Id="rId3" Type="http://schemas.openxmlformats.org/officeDocument/2006/relationships/slide" Target="slide15.xml"/><Relationship Id="rId4" Type="http://schemas.openxmlformats.org/officeDocument/2006/relationships/slide" Target="slide2.xml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" Target="slide14.xml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4.wmf"/><Relationship Id="rId6" Type="http://schemas.openxmlformats.org/officeDocument/2006/relationships/slide" Target="slide14.xml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" Target="slide2.xml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" Target="slide14.xml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9.xml"/><Relationship Id="rId4" Type="http://schemas.openxmlformats.org/officeDocument/2006/relationships/slide" Target="slide3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slide" Target="slide23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slide" Target="slide28.xm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slide" Target="slide4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slide" Target="slide6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slide" Target="slide7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" Target="slide8.xml"/><Relationship Id="rId4" Type="http://schemas.openxmlformats.org/officeDocument/2006/relationships/image" Target="../media/image4.wmf"/><Relationship Id="rId5" Type="http://schemas.openxmlformats.org/officeDocument/2006/relationships/slide" Target="slide2.xm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0"/>
            <a:ext cx="8610480" cy="12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0" lang="en-US" sz="140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en-US" sz="14000" spc="-1" strike="noStrike">
                <a:solidFill>
                  <a:srgbClr val="ffffff"/>
                </a:solidFill>
                <a:latin typeface="Monotype Corsiva"/>
              </a:rPr>
              <a:t>   CRISTALLI</a:t>
            </a:r>
            <a:endParaRPr b="0" lang="en-US" sz="1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2286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67880" y="5029200"/>
            <a:ext cx="5789160" cy="155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ca Clau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ina di maturità – anno 2006/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 5^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76720" y="533520"/>
            <a:ext cx="213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l fenomeno della divisione della pu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438280"/>
            <a:ext cx="0" cy="121932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7339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 matematico: evento di rottura di simmetr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236232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mazione di un DENTR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28954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j039635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j034291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72400" y="6248520"/>
            <a:ext cx="466560" cy="449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520120" y="4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1337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causa di alcune configurazioni in n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28195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304920"/>
            <a:ext cx="860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Monotype Corsiva"/>
                <a:ea typeface="Times New Roman"/>
              </a:rPr>
              <a:t>CONDIZIONI ATMOSFERICHE DIVERSE PORTANO ALLA FORMAZIONE DI CRISTALLI DI GHIACCIO DI FORME DIVERSE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Monotype Corsiv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28600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1) LAMINA ESAG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2819520"/>
            <a:ext cx="40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) CRISTALLI DENTRIT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0000" y="342900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3) CRISTALLI A FORMA DI AG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9625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) PRISMI ESAGONALI CA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4572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5) SOTTILI L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181480"/>
            <a:ext cx="39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6) CRISTALLI DENTRIT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" y="57913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7) PRISMI CA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14600"/>
            <a:ext cx="457200" cy="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3080" y="220968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Tra 0° e –3° 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30481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8000" y="281952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 0° e –3° 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657600"/>
            <a:ext cx="457200" cy="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2400" y="3429000"/>
            <a:ext cx="21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Tra –3° e –5°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19112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800600"/>
            <a:ext cx="457200" cy="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41008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2560" y="39625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 –5° e –8°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7280" y="457200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Tra –8° e –12°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1680" y="510552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 –12° e –16°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4480" y="579132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-24°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2" name="j034291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6248520"/>
            <a:ext cx="466560" cy="449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688240" y="15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7318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ff"/>
                </a:solidFill>
                <a:uFillTx/>
                <a:latin typeface="Monotype Corsiva"/>
              </a:rPr>
              <a:t>I CRISTALLI POSSONO ESSER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4600" y="215892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atur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514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07332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rtifici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3434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0292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i dimensioni maggior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876920" y="4952520"/>
            <a:ext cx="45720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541008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ol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5410080"/>
            <a:ext cx="45720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440" y="457200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aggrupp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162920" y="4419720"/>
            <a:ext cx="30456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68200" y="396252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gemin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487692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45720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geo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62920" y="4952880"/>
            <a:ext cx="30456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8560" y="51814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r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6480" y="4038480"/>
            <a:ext cx="31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i dimensioni ridot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j039635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j034291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6248520"/>
            <a:ext cx="457200" cy="441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535960" y="15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4572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ff"/>
                </a:solidFill>
                <a:uFillTx/>
                <a:latin typeface="Monotype Corsiva"/>
              </a:rPr>
              <a:t>COME SI FORMANO I MINERALI E, QUINDI, I CRISTALLI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1752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0200" y="2743200"/>
            <a:ext cx="76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TTRAVERSO PROCESSI DI VARIA NATU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8920" y="3505320"/>
            <a:ext cx="85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Solidificazione diretta di una massa fusa che si raffred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41911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Precipitazione di sostanze disciolte in una soluzione sovrassatura </a:t>
            </a:r>
            <a:r>
              <a:rPr b="0" lang="it-IT" sz="2400" spc="-1" strike="noStrike">
                <a:solidFill>
                  <a:srgbClr val="3333ff"/>
                </a:solidFill>
                <a:latin typeface="Times New Roman"/>
              </a:rPr>
              <a:t>(rosa del deserto – </a:t>
            </a:r>
            <a:r>
              <a:rPr b="0" lang="it-IT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HOT PAD</a:t>
            </a:r>
            <a:r>
              <a:rPr b="0" lang="it-IT" sz="24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6019920"/>
            <a:ext cx="31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eazioni chimi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2578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ocesso di sublimazione di un v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j034291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48720" y="6248520"/>
            <a:ext cx="466560" cy="449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656560" y="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380880"/>
            <a:ext cx="8915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ffffff"/>
                </a:solidFill>
                <a:uFillTx/>
                <a:latin typeface="Monotype Corsiva"/>
              </a:rPr>
              <a:t>LE GROTTE NELLA MINIERA DI NAICA (Chihuahua, Mexico)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1800" y="3276720"/>
            <a:ext cx="40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Grotta dei Cristal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4000" y="3276720"/>
            <a:ext cx="39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Grotta delle Sp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j039635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8" name="j0342919" descr=""/>
          <p:cNvPicPr/>
          <p:nvPr/>
        </p:nvPicPr>
        <p:blipFill>
          <a:blip r:embed="rId6"/>
          <a:stretch/>
        </p:blipFill>
        <p:spPr>
          <a:xfrm>
            <a:off x="7848720" y="6248520"/>
            <a:ext cx="457200" cy="441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656560" y="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naica06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276720" cy="2460600"/>
          </a:xfrm>
          <a:prstGeom prst="rect">
            <a:avLst/>
          </a:prstGeom>
          <a:ln w="0">
            <a:noFill/>
          </a:ln>
        </p:spPr>
      </p:pic>
      <p:pic>
        <p:nvPicPr>
          <p:cNvPr id="241" name="naica07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352680" cy="2587680"/>
          </a:xfrm>
          <a:prstGeom prst="rect">
            <a:avLst/>
          </a:prstGeom>
          <a:ln w="0">
            <a:noFill/>
          </a:ln>
        </p:spPr>
      </p:pic>
      <p:pic>
        <p:nvPicPr>
          <p:cNvPr id="242" name="naica10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082960" cy="2781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45120" y="228600"/>
            <a:ext cx="52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La grotta delle sp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j039635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188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45" name="j0342919" descr=""/>
          <p:cNvPicPr/>
          <p:nvPr/>
        </p:nvPicPr>
        <p:blipFill>
          <a:blip r:embed="rId6"/>
          <a:stretch/>
        </p:blipFill>
        <p:spPr>
          <a:xfrm>
            <a:off x="7772400" y="625464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j038366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010280" y="6248520"/>
            <a:ext cx="609840" cy="447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596080" y="4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naica11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619440" cy="2717640"/>
          </a:xfrm>
          <a:prstGeom prst="rect">
            <a:avLst/>
          </a:prstGeom>
          <a:ln w="0">
            <a:noFill/>
          </a:ln>
        </p:spPr>
      </p:pic>
      <p:pic>
        <p:nvPicPr>
          <p:cNvPr id="249" name="naica16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250" name="naica17" descr=""/>
          <p:cNvPicPr/>
          <p:nvPr/>
        </p:nvPicPr>
        <p:blipFill>
          <a:blip r:embed="rId3"/>
          <a:stretch/>
        </p:blipFill>
        <p:spPr>
          <a:xfrm>
            <a:off x="5257800" y="365760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251" name="naica19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3771720" cy="2832120"/>
          </a:xfrm>
          <a:prstGeom prst="rect">
            <a:avLst/>
          </a:prstGeom>
          <a:ln w="0">
            <a:noFill/>
          </a:ln>
        </p:spPr>
      </p:pic>
      <p:pic>
        <p:nvPicPr>
          <p:cNvPr id="252" name="j0342919" descr=""/>
          <p:cNvPicPr/>
          <p:nvPr/>
        </p:nvPicPr>
        <p:blipFill>
          <a:blip r:embed="rId5"/>
          <a:stretch/>
        </p:blipFill>
        <p:spPr>
          <a:xfrm>
            <a:off x="7924680" y="6324480"/>
            <a:ext cx="390600" cy="376200"/>
          </a:xfrm>
          <a:prstGeom prst="rect">
            <a:avLst/>
          </a:prstGeom>
          <a:ln w="0">
            <a:noFill/>
          </a:ln>
        </p:spPr>
      </p:pic>
      <p:pic>
        <p:nvPicPr>
          <p:cNvPr id="253" name="j038366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15200" y="6324480"/>
            <a:ext cx="461880" cy="339840"/>
          </a:xfrm>
          <a:prstGeom prst="rect">
            <a:avLst/>
          </a:prstGeom>
          <a:ln w="0">
            <a:noFill/>
          </a:ln>
        </p:spPr>
      </p:pic>
      <p:pic>
        <p:nvPicPr>
          <p:cNvPr id="254" name="j0396354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381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8672400" y="-34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1712" descr=""/>
          <p:cNvPicPr/>
          <p:nvPr/>
        </p:nvPicPr>
        <p:blipFill>
          <a:blip r:embed="rId1"/>
          <a:stretch/>
        </p:blipFill>
        <p:spPr>
          <a:xfrm>
            <a:off x="6248520" y="1066680"/>
            <a:ext cx="2084400" cy="2743200"/>
          </a:xfrm>
          <a:prstGeom prst="rect">
            <a:avLst/>
          </a:prstGeom>
          <a:ln w="0">
            <a:noFill/>
          </a:ln>
        </p:spPr>
      </p:pic>
      <p:pic>
        <p:nvPicPr>
          <p:cNvPr id="257" name="crystals_cave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3333600" cy="5181840"/>
          </a:xfrm>
          <a:prstGeom prst="rect">
            <a:avLst/>
          </a:prstGeom>
          <a:ln w="0">
            <a:noFill/>
          </a:ln>
        </p:spPr>
      </p:pic>
      <p:pic>
        <p:nvPicPr>
          <p:cNvPr id="258" name="naica20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1825560" cy="2438280"/>
          </a:xfrm>
          <a:prstGeom prst="rect">
            <a:avLst/>
          </a:prstGeom>
          <a:ln w="0">
            <a:noFill/>
          </a:ln>
        </p:spPr>
      </p:pic>
      <p:pic>
        <p:nvPicPr>
          <p:cNvPr id="259" name="j039635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60" name="j0342919" descr=""/>
          <p:cNvPicPr/>
          <p:nvPr/>
        </p:nvPicPr>
        <p:blipFill>
          <a:blip r:embed="rId6"/>
          <a:stretch/>
        </p:blipFill>
        <p:spPr>
          <a:xfrm>
            <a:off x="7772400" y="6172200"/>
            <a:ext cx="466560" cy="449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00200" y="15228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La grotta dei crista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56560" y="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naica_title_objectives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264" name="naica_tux1.jpg.thumb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3353040" cy="2819520"/>
          </a:xfrm>
          <a:prstGeom prst="rect">
            <a:avLst/>
          </a:prstGeom>
          <a:ln w="0">
            <a:noFill/>
          </a:ln>
        </p:spPr>
      </p:pic>
      <p:pic>
        <p:nvPicPr>
          <p:cNvPr id="265" name="j039635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6" name="j0342919" descr=""/>
          <p:cNvPicPr/>
          <p:nvPr/>
        </p:nvPicPr>
        <p:blipFill>
          <a:blip r:embed="rId5"/>
          <a:stretch/>
        </p:blipFill>
        <p:spPr>
          <a:xfrm>
            <a:off x="838080" y="6324480"/>
            <a:ext cx="381240" cy="366840"/>
          </a:xfrm>
          <a:prstGeom prst="rect">
            <a:avLst/>
          </a:prstGeom>
          <a:ln w="0">
            <a:noFill/>
          </a:ln>
        </p:spPr>
      </p:pic>
      <p:pic>
        <p:nvPicPr>
          <p:cNvPr id="267" name="j038366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371600" y="634824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656560" y="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-84240" y="2494080"/>
            <a:ext cx="9115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500" spc="-1" strike="noStrike" u="sng">
                <a:solidFill>
                  <a:srgbClr val="ff0033"/>
                </a:solidFill>
                <a:uFillTx/>
                <a:latin typeface="Monotype Corsiva"/>
              </a:rPr>
              <a:t>I CRISTALLI LIQUIDI</a:t>
            </a:r>
            <a:endParaRPr b="0" lang="en-US" sz="7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172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71" name="j0342919" descr=""/>
          <p:cNvPicPr/>
          <p:nvPr/>
        </p:nvPicPr>
        <p:blipFill>
          <a:blip r:embed="rId4"/>
          <a:stretch/>
        </p:blipFill>
        <p:spPr>
          <a:xfrm>
            <a:off x="7620120" y="6178680"/>
            <a:ext cx="533160" cy="514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8596080" y="4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3880" y="228600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Fratta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000" y="4876920"/>
            <a:ext cx="380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Cristalli liquid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654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2860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219320"/>
            <a:ext cx="45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 Cristalli (minerali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581280"/>
            <a:ext cx="27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40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Hot</a:t>
            </a:r>
            <a:r>
              <a:rPr b="0" lang="it-IT" sz="40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 p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9144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764920" y="15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91480" y="523800"/>
            <a:ext cx="73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coperti nel 1888 dal botanico Friedrich Reinit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caldamento del BENZOATO DI COLESTER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274320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ristalli liquidi in particolari condizioni sono in grado si organizzarsi in fasi intermedie (MESOFAS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35053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2040" y="350532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sm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Liquid1" descr=""/>
          <p:cNvPicPr/>
          <p:nvPr/>
        </p:nvPicPr>
        <p:blipFill>
          <a:blip r:embed="rId1"/>
          <a:stretch/>
        </p:blipFill>
        <p:spPr>
          <a:xfrm>
            <a:off x="4267080" y="4343400"/>
            <a:ext cx="278784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1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82" name="j0342919" descr=""/>
          <p:cNvPicPr/>
          <p:nvPr/>
        </p:nvPicPr>
        <p:blipFill>
          <a:blip r:embed="rId4"/>
          <a:stretch/>
        </p:blipFill>
        <p:spPr>
          <a:xfrm>
            <a:off x="7620120" y="6172200"/>
            <a:ext cx="533160" cy="514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655120" y="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-153000" y="480960"/>
            <a:ext cx="86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 cristalli liquidi presentan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PROPRIETÀ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2080" y="144792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lo stato sol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1360" y="2209680"/>
            <a:ext cx="30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lo stato li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1720" y="2971800"/>
            <a:ext cx="30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 cristalli liqui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752480"/>
            <a:ext cx="380880" cy="1600200"/>
          </a:xfrm>
          <a:custGeom>
            <a:avLst/>
            <a:gdLst>
              <a:gd name="textAreaLeft" fmla="*/ 0 w 380880"/>
              <a:gd name="textAreaRight" fmla="*/ 13752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1828800"/>
            <a:ext cx="443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amente utilizzati nella costruzione di oggetti quotidia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505320" y="304812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6200" y="43689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om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724280" y="3276720"/>
            <a:ext cx="914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5334120"/>
            <a:ext cx="268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i con schermo a cristalli liqui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32767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0" y="518148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eglie digit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32004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8080" y="373392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j039635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99" name="j0342919" descr=""/>
          <p:cNvPicPr/>
          <p:nvPr/>
        </p:nvPicPr>
        <p:blipFill>
          <a:blip r:embed="rId3"/>
          <a:stretch/>
        </p:blipFill>
        <p:spPr>
          <a:xfrm>
            <a:off x="7848720" y="6248520"/>
            <a:ext cx="466560" cy="449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8655120" y="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38080" y="3808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 u="sng">
                <a:solidFill>
                  <a:srgbClr val="000000"/>
                </a:solidFill>
                <a:uFillTx/>
                <a:latin typeface="Monotype Corsiva"/>
              </a:rPr>
              <a:t>LCD  (Liquid Crystal Display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300px-LCD_layers.svg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486400" y="4648320"/>
            <a:ext cx="236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Polarizzatore verti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Schermo di vetro con maschera delle zone sc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Strato con i cristalli liquid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Strato di vetro con elettrod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Polarizzatore orizzont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Superficie riflettent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2240" y="198108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CIPALI ELEMEN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666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polarizza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34290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stalli liquidi all’interno di ce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8" name="j0342919" descr=""/>
          <p:cNvPicPr/>
          <p:nvPr/>
        </p:nvPicPr>
        <p:blipFill>
          <a:blip r:embed="rId4"/>
          <a:stretch/>
        </p:blipFill>
        <p:spPr>
          <a:xfrm>
            <a:off x="7924680" y="62485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309" name="LG_32LE2R__697134" descr=""/>
          <p:cNvPicPr/>
          <p:nvPr/>
        </p:nvPicPr>
        <p:blipFill>
          <a:blip r:embed="rId5"/>
          <a:stretch/>
        </p:blipFill>
        <p:spPr>
          <a:xfrm>
            <a:off x="3048120" y="457200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0" name="LCD_monitor" descr=""/>
          <p:cNvPicPr/>
          <p:nvPr/>
        </p:nvPicPr>
        <p:blipFill>
          <a:blip r:embed="rId6"/>
          <a:stretch/>
        </p:blipFill>
        <p:spPr>
          <a:xfrm>
            <a:off x="762120" y="4876920"/>
            <a:ext cx="1676160" cy="167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8656560" y="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51640" y="304920"/>
            <a:ext cx="69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FUNZIONAMENTO di un LCD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295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uce può passare attraverso il liquido senza nessuna conseguenza sulla sua dire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19760" y="25146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pparecchio è traspa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5791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371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O “OFF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19" name="j0342919" descr=""/>
          <p:cNvPicPr/>
          <p:nvPr/>
        </p:nvPicPr>
        <p:blipFill>
          <a:blip r:embed="rId4"/>
          <a:stretch/>
        </p:blipFill>
        <p:spPr>
          <a:xfrm>
            <a:off x="7696080" y="6254640"/>
            <a:ext cx="533520" cy="5144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3429000" y="3581280"/>
            <a:ext cx="3352680" cy="2733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8656560" y="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60440" y="83808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O “ON”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838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vato il campo elett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838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ristalli liquidi si allineano al campo elett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292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2666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uce non passa attraverso il secondo polarizza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4724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 schermo risulta 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4267080" cy="3110040"/>
          </a:xfrm>
          <a:prstGeom prst="rect">
            <a:avLst/>
          </a:prstGeom>
          <a:ln w="0">
            <a:noFill/>
          </a:ln>
        </p:spPr>
      </p:pic>
      <p:pic>
        <p:nvPicPr>
          <p:cNvPr id="331" name="j039635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32" name="j034291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91520" y="6172200"/>
            <a:ext cx="542880" cy="523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8656560" y="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99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 u="sng" baseline="8000">
                <a:solidFill>
                  <a:srgbClr val="ff3300"/>
                </a:solidFill>
                <a:uFillTx/>
                <a:latin typeface="Monotype Corsiva"/>
              </a:rPr>
              <a:t>L’ HOT PAD</a:t>
            </a:r>
            <a:br>
              <a:rPr sz="15000"/>
            </a:br>
            <a:endParaRPr b="0" lang="en-US" sz="15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35" name="hot%20pad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6172200" cy="390852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pic>
        <p:nvPicPr>
          <p:cNvPr id="336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37" name="j0342919" descr=""/>
          <p:cNvPicPr/>
          <p:nvPr/>
        </p:nvPicPr>
        <p:blipFill>
          <a:blip r:embed="rId4"/>
          <a:stretch/>
        </p:blipFill>
        <p:spPr>
          <a:xfrm>
            <a:off x="7772400" y="6172200"/>
            <a:ext cx="542880" cy="523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8596080" y="4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52280" y="609480"/>
            <a:ext cx="8991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 u="sng">
                <a:solidFill>
                  <a:srgbClr val="ff3300"/>
                </a:solidFill>
                <a:uFillTx/>
                <a:latin typeface="Monotype Corsiva"/>
              </a:rPr>
              <a:t>ELEMENTI CHE COSTITUISCONO L’HOT PAD: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23623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sta di plastica morb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1440" y="3330720"/>
            <a:ext cx="52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luzione di acetato di so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2160" y="4473720"/>
            <a:ext cx="52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ischetto metallico bomb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095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44" name="j0342919" descr=""/>
          <p:cNvPicPr/>
          <p:nvPr/>
        </p:nvPicPr>
        <p:blipFill>
          <a:blip r:embed="rId4"/>
          <a:stretch/>
        </p:blipFill>
        <p:spPr>
          <a:xfrm>
            <a:off x="7620120" y="6172200"/>
            <a:ext cx="457200" cy="441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656560" y="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453040" y="565200"/>
            <a:ext cx="46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Monotype Corsiva"/>
              </a:rPr>
              <a:t>FUNZIONAMENTO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2209680"/>
            <a:ext cx="25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scatta il dischet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01680" y="2133720"/>
            <a:ext cx="25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azione chi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96080" y="26668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stallizz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3809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3809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olidific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43434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8960" y="5334120"/>
            <a:ext cx="35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viluppo di calore (54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5410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olli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j0342919" descr=""/>
          <p:cNvPicPr/>
          <p:nvPr/>
        </p:nvPicPr>
        <p:blipFill>
          <a:blip r:embed="rId1"/>
          <a:stretch/>
        </p:blipFill>
        <p:spPr>
          <a:xfrm>
            <a:off x="7924680" y="62485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359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8596080" y="4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0880" y="457200"/>
            <a:ext cx="8763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3300"/>
                </a:solidFill>
                <a:uFillTx/>
                <a:latin typeface="Monotype Corsiva"/>
              </a:rPr>
              <a:t>PERCHÉ AVVIENE QUESTO FENOMENO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2133720"/>
            <a:ext cx="55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Per la sovrassatur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28195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4038480"/>
            <a:ext cx="504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cesso analogo è riscontrabile nella formazione di un cristallo in n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5" name="j039635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66" name="j0342919" descr=""/>
          <p:cNvPicPr/>
          <p:nvPr/>
        </p:nvPicPr>
        <p:blipFill>
          <a:blip r:embed="rId3"/>
          <a:stretch/>
        </p:blipFill>
        <p:spPr>
          <a:xfrm>
            <a:off x="7467480" y="6172200"/>
            <a:ext cx="533520" cy="514440"/>
          </a:xfrm>
          <a:prstGeom prst="rect">
            <a:avLst/>
          </a:prstGeom>
          <a:ln w="0">
            <a:noFill/>
          </a:ln>
        </p:spPr>
      </p:pic>
      <p:pic>
        <p:nvPicPr>
          <p:cNvPr id="367" name="j0383668" descr=""/>
          <p:cNvPicPr/>
          <p:nvPr/>
        </p:nvPicPr>
        <p:blipFill>
          <a:blip r:embed="rId4"/>
          <a:stretch/>
        </p:blipFill>
        <p:spPr>
          <a:xfrm>
            <a:off x="6705720" y="6172200"/>
            <a:ext cx="614160" cy="4525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655120" y="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9320" y="1523880"/>
            <a:ext cx="76197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0" spc="-1" strike="noStrike" u="sng">
                <a:solidFill>
                  <a:srgbClr val="ff9900"/>
                </a:solidFill>
                <a:uFillTx/>
                <a:latin typeface="Monotype Corsiva"/>
              </a:rPr>
              <a:t>I CRISTALLI                                                       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276720"/>
            <a:ext cx="7010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 u="sng">
                <a:solidFill>
                  <a:srgbClr val="ff9900"/>
                </a:solidFill>
                <a:uFillTx/>
                <a:latin typeface="Monotype Corsiva"/>
              </a:rPr>
              <a:t>(MINERALI)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j034291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96080" y="6172200"/>
            <a:ext cx="542880" cy="52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686800" y="1522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53352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ff"/>
                </a:solidFill>
                <a:uFillTx/>
                <a:latin typeface="Monotype Corsiva"/>
              </a:rPr>
              <a:t>CRISTA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990720"/>
            <a:ext cx="609480" cy="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6858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dal greco "</a:t>
            </a:r>
            <a:r>
              <a:rPr b="1" lang="it-IT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krystallos</a:t>
            </a:r>
            <a:r>
              <a:rPr b="0" lang="it-IT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", letteralmente acqua gelata, ghiaccio.</a:t>
            </a:r>
            <a:r>
              <a:rPr b="0" lang="it-IT" sz="24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219320"/>
            <a:ext cx="457200" cy="60948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98520" y="175248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Utilizzati fin dal Paleolitico Superiore (30 000anni f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1295280"/>
            <a:ext cx="685800" cy="121932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8520" y="259092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Hanno influenzato costumi sociali, letteratura, poes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971800" y="3200400"/>
            <a:ext cx="838080" cy="68580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200400"/>
            <a:ext cx="685800" cy="83808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0384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Plinio nei suoi scritti dichiara: </a:t>
            </a:r>
            <a:r>
              <a:rPr b="0" i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“Non si riesce a capire facilmente perché .......la levigatezza delle sue facce è così assolutamente perfetta che non la si può eguagliare con nessun mezzo artificiale....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11480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Nell’Apocalisse si afferma: </a:t>
            </a:r>
            <a:r>
              <a:rPr b="0" i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"...un fiume d'acqua viva, limpido come cristallo"</a:t>
            </a:r>
            <a:r>
              <a:rPr b="0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(Apocalisse 22,1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j039635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172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j034291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96080" y="6172200"/>
            <a:ext cx="457200" cy="441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612280" y="15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00200" y="717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Monotype Corsiva"/>
              </a:rPr>
              <a:t>CHE COS’È UN CRISTALL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810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n cristallo è un minerale che presenta una disposizione periodica e ordinata di atomi ai vertici di una struttura reticolare che prende il nome di reticolo cristall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886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6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FORMA GEOMETRICA DEFINITA DOTATA DI PARTICOLARI RELAZIONI DI SIMMET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j039635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j034291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6248520"/>
            <a:ext cx="457200" cy="44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59644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3808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 matematici studiano le configurazioni naturali costruendo forme ideal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1447920"/>
            <a:ext cx="0" cy="533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05740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dealizzano l’AUTOSIMILARITA’ DELLA NATURA, che è APPROSSIMATIVA, in AUTOSIMILARITA’ che è PERFET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35053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360" y="4114800"/>
            <a:ext cx="84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coprire la semplicità che sta alla base delle leggi natur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j039635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j034291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72400" y="6261120"/>
            <a:ext cx="457200" cy="439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67080" y="46483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5334120"/>
            <a:ext cx="19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andelbr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52578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Fractal Geometry of Natur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56386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48720" y="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95480" y="609480"/>
            <a:ext cx="321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ff"/>
                </a:solidFill>
                <a:uFillTx/>
                <a:latin typeface="Monotype Corsiva"/>
              </a:rPr>
              <a:t>FRATTAL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54016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ff"/>
                </a:solidFill>
                <a:latin typeface="Times New Roman"/>
              </a:rPr>
              <a:t>Fractus: rotto, spezzat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047760" y="1600200"/>
            <a:ext cx="609480" cy="68580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1600200"/>
            <a:ext cx="457200" cy="68580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59092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imes New Roman"/>
              </a:rPr>
              <a:t>Astrazione matematica con una caratteristica combinazione di ordine e disord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Koch_snowflake0192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2776680" cy="3127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2" name="j039635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1880" y="6172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j034291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72400" y="6172200"/>
            <a:ext cx="457200" cy="441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688600" y="15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3808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ff"/>
                </a:solidFill>
                <a:uFillTx/>
                <a:latin typeface="Monotype Corsiva"/>
              </a:rPr>
              <a:t>LA CURVA DI VON KO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828800"/>
            <a:ext cx="2057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parte da un segmento C</a:t>
            </a:r>
            <a:r>
              <a:rPr b="0" lang="it-IT" sz="1400" spc="-1" strike="noStrike">
                <a:solidFill>
                  <a:srgbClr val="0000ff"/>
                </a:solidFill>
                <a:latin typeface="Times New Roman"/>
              </a:rPr>
              <a:t>o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livello zero della curv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182880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 si suddivide in tre parti uguali, si costruisce un triangolo equilatero sul segmento centr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2133720"/>
            <a:ext cx="167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 ottiene la curva C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2971800"/>
            <a:ext cx="762120" cy="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971800"/>
            <a:ext cx="838440" cy="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8672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638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58672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257800" y="525744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525780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58672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j039635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j034291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72400" y="6248520"/>
            <a:ext cx="457200" cy="441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59644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04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passare dalla curva C</a:t>
            </a:r>
            <a:r>
              <a:rPr b="0" lang="it-IT" sz="1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(livello n) alla curva successiva cn+1 si ripete il procedimento su tutti i segmenti che costituiscono C</a:t>
            </a:r>
            <a:r>
              <a:rPr b="0" lang="it-IT" sz="16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676520"/>
            <a:ext cx="0" cy="53316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286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curva di Von Koch si ottiene facendo tendere all’infinit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281952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= lim C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→+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Koch_anime" descr=""/>
          <p:cNvPicPr/>
          <p:nvPr/>
        </p:nvPicPr>
        <p:blipFill>
          <a:blip r:embed="rId1"/>
          <a:stretch/>
        </p:blipFill>
        <p:spPr>
          <a:xfrm>
            <a:off x="609480" y="4451400"/>
            <a:ext cx="4800600" cy="1398600"/>
          </a:xfrm>
          <a:prstGeom prst="rect">
            <a:avLst/>
          </a:prstGeom>
          <a:ln w="0">
            <a:noFill/>
          </a:ln>
        </p:spPr>
      </p:pic>
      <p:pic>
        <p:nvPicPr>
          <p:cNvPr id="165" name="Von_Koch_curve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52108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j034291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72400" y="62485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167" name="j039635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1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610480" y="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8:01:15Z</dcterms:created>
  <dc:creator>CLAUDIA</dc:creator>
  <dc:description/>
  <dc:language>en-US</dc:language>
  <cp:lastModifiedBy>CLAUDIA</cp:lastModifiedBy>
  <dcterms:modified xsi:type="dcterms:W3CDTF">2007-07-04T20:43:02Z</dcterms:modified>
  <cp:revision>60</cp:revision>
  <dc:subject/>
  <dc:title>Presentazione di PowerPoint</dc:title>
</cp:coreProperties>
</file>