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20AC-1FF4-402D-A833-6F8AF45A6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4572-5B41-439C-AC46-62E778BA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055E-9D37-4C15-9C84-E1BBEC0C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C3F3-B60E-4782-8163-96C5AC30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00D3-134E-4E64-97DB-DE1BC50B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0D65-9976-4FC1-BC87-98E1A24A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DF5F-6EEA-41FF-A789-DC3A99F1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A381-37B4-42AB-A4D1-D6AF9C37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C09A-2736-4D9A-96E6-8FD009D8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A304-C59F-4791-9041-DE1A3965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BC1B-6844-40C1-AD8E-354549ED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541C-C895-4D44-9D83-DF23BDE9E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B37C-A987-4E80-BA96-97D092222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68360" y="2911680"/>
            <a:ext cx="46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POPO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00"/>
                </a:solidFill>
                <a:latin typeface="Arial"/>
              </a:rPr>
              <a:t>STORIA INCONSAPEV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781000"/>
            <a:ext cx="255600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305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AT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05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Meriti e limiti del realismo antic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05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996600"/>
                </a:solidFill>
                <a:latin typeface="Times New Roman"/>
              </a:rPr>
              <a:t>PETRONIO</a:t>
            </a:r>
            <a:r>
              <a:rPr b="1" lang="it-IT" sz="1200" spc="-1" strike="noStrike">
                <a:solidFill>
                  <a:srgbClr val="996600"/>
                </a:solidFill>
                <a:latin typeface="Wingdings"/>
                <a:ea typeface="Wingdings"/>
              </a:rPr>
              <a:t></a:t>
            </a:r>
            <a:r>
              <a:rPr b="1" lang="it-IT" sz="1200" spc="-1" strike="noStrike">
                <a:solidFill>
                  <a:srgbClr val="996600"/>
                </a:solidFill>
                <a:latin typeface="Times New Roman"/>
              </a:rPr>
              <a:t>Satyricon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05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e il realismo nella cena di Trimalch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655440"/>
            <a:ext cx="2916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305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05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ismo nelle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azioni Giudizia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05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l V sec:uno spaccato dell’Atene del tempo e della gente comune;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305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6600"/>
                </a:solidFill>
                <a:latin typeface="Times New Roman"/>
              </a:rPr>
              <a:t>LISIA</a:t>
            </a:r>
            <a:r>
              <a:rPr b="1" lang="en-US" sz="1200" spc="-1" strike="noStrike">
                <a:solidFill>
                  <a:srgbClr val="9966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’ηθοπιι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3053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64440" y="5444280"/>
            <a:ext cx="298620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GL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996600"/>
                </a:solidFill>
                <a:latin typeface="Times New Roman"/>
              </a:rPr>
              <a:t>ORWELL</a:t>
            </a:r>
            <a:r>
              <a:rPr b="0" lang="it-IT" sz="1200" spc="-1" strike="noStrike">
                <a:solidFill>
                  <a:srgbClr val="996600"/>
                </a:solidFill>
                <a:latin typeface="Wingdings"/>
                <a:ea typeface="Wingdings"/>
              </a:rPr>
              <a:t></a:t>
            </a:r>
            <a:r>
              <a:rPr b="0" lang="en-GB" sz="1200" spc="-1" strike="noStrike">
                <a:solidFill>
                  <a:srgbClr val="996600"/>
                </a:solidFill>
                <a:latin typeface="Times New Roman"/>
              </a:rPr>
              <a:t> Animal farm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: an allegory to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demn what Orwells saw as the stalin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rruptionm of the original socialist ide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252360" y="223200"/>
            <a:ext cx="4000320" cy="20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ITALI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Il popolo nella letteratur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996600"/>
                </a:solidFill>
                <a:latin typeface="Arial"/>
              </a:rPr>
              <a:t>NEOREALISMO: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Dall’affermazione  come corrente spontanea, al realismo    socialista degli anni 50  :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- “Metello” di Pratolini -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Vittorini e la necessità di non asservire la cultura ai dettami del parti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Crisi del neorealism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- Pasolini “Il Pci ai giovani” -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76720" y="404280"/>
            <a:ext cx="3889440" cy="29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STO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Un esempio di </a:t>
            </a:r>
            <a:r>
              <a:rPr b="1" lang="it-IT" sz="1200" spc="-1" strike="noStrike">
                <a:solidFill>
                  <a:srgbClr val="996600"/>
                </a:solidFill>
                <a:latin typeface="Times New Roman"/>
              </a:rPr>
              <a:t>STORIOGRAFIA MODERN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-”Les Annales”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e l’avvicinamento alle scienze soci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996600"/>
                </a:solidFill>
                <a:latin typeface="Times New Roman"/>
              </a:rPr>
              <a:t>RIVOLUZIONE RUSSA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ussia leniniana e rivendicazioni ad oltranza; il governo provvisorio degli operai e dei contadini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Il marxismo-leninism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alla luce dell’esperienza della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rivoluzion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Le contraddizioni del potere bolscevic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(Salvatori)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Hobsbwam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:il fallimento del comunism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Il cristianesimo sociale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:un’alternativa alle ideologie marxiste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l’enciclica </a:t>
            </a:r>
            <a:r>
              <a:rPr b="1" lang="it-IT" sz="1200" spc="-1" strike="noStrike">
                <a:solidFill>
                  <a:srgbClr val="000000"/>
                </a:solidFill>
                <a:latin typeface="Times New Roman"/>
              </a:rPr>
              <a:t>Rerum Novarum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di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Leone X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04000" y="4474440"/>
            <a:ext cx="324000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FILOSO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Mutato interesse verso il popolo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-l’impegno dei “privilegiati” al servizio del popolo</a:t>
            </a:r>
            <a:r>
              <a:rPr b="0" lang="it-IT" sz="1200" spc="-1" strike="noStrike">
                <a:solidFill>
                  <a:srgbClr val="996600"/>
                </a:solidFill>
                <a:latin typeface="Times New Roman"/>
              </a:rPr>
              <a:t>:</a:t>
            </a:r>
            <a:r>
              <a:rPr b="1" lang="it-IT" sz="1200" spc="-1" strike="noStrike">
                <a:solidFill>
                  <a:srgbClr val="996600"/>
                </a:solidFill>
                <a:latin typeface="Times New Roman"/>
              </a:rPr>
              <a:t>populism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-Differenze tra </a:t>
            </a:r>
            <a:r>
              <a:rPr b="1" lang="it-IT" sz="1200" spc="-1" strike="noStrike">
                <a:solidFill>
                  <a:srgbClr val="996600"/>
                </a:solidFill>
                <a:latin typeface="Times New Roman"/>
              </a:rPr>
              <a:t>l’anarchismo bakuniano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e il marxismo nella concezione di sta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996600"/>
                </a:solidFill>
                <a:latin typeface="Times New Roman"/>
              </a:rPr>
              <a:t>-MARXISMO</a:t>
            </a:r>
            <a:r>
              <a:rPr b="0" lang="it-IT" sz="1200" spc="-1" strike="noStrike">
                <a:solidFill>
                  <a:srgbClr val="9966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marx e la funzione storica della massa del proletariato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6200000">
            <a:off x="6371280" y="3429360"/>
            <a:ext cx="1368360" cy="792000"/>
          </a:xfrm>
          <a:custGeom>
            <a:avLst/>
            <a:gdLst>
              <a:gd name="textAreaLeft" fmla="*/ 0 w 1368360"/>
              <a:gd name="textAreaRight" fmla="*/ 1368720 w 1368360"/>
              <a:gd name="textAreaTop" fmla="*/ 0 h 792000"/>
              <a:gd name="textAreaBottom" fmla="*/ 792360 h 7920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4166" y="5824"/>
                </a:lnTo>
                <a:lnTo>
                  <a:pt x="11634" y="5824"/>
                </a:lnTo>
                <a:lnTo>
                  <a:pt x="11634" y="9966"/>
                </a:lnTo>
                <a:lnTo>
                  <a:pt x="15776" y="9966"/>
                </a:lnTo>
                <a:lnTo>
                  <a:pt x="15776" y="7434"/>
                </a:lnTo>
                <a:lnTo>
                  <a:pt x="21600" y="10800"/>
                </a:lnTo>
                <a:lnTo>
                  <a:pt x="15776" y="14166"/>
                </a:lnTo>
                <a:lnTo>
                  <a:pt x="15776" y="11634"/>
                </a:lnTo>
                <a:lnTo>
                  <a:pt x="5824" y="11634"/>
                </a:lnTo>
                <a:lnTo>
                  <a:pt x="5824" y="14166"/>
                </a:lnTo>
                <a:lnTo>
                  <a:pt x="0" y="10800"/>
                </a:lnTo>
                <a:lnTo>
                  <a:pt x="5824" y="7434"/>
                </a:lnTo>
                <a:lnTo>
                  <a:pt x="5824" y="9966"/>
                </a:lnTo>
                <a:lnTo>
                  <a:pt x="9966" y="9966"/>
                </a:lnTo>
                <a:lnTo>
                  <a:pt x="9966" y="5824"/>
                </a:lnTo>
                <a:lnTo>
                  <a:pt x="7434" y="582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00720" y="1844640"/>
            <a:ext cx="574560" cy="649440"/>
          </a:xfrm>
          <a:custGeom>
            <a:avLst/>
            <a:gdLst>
              <a:gd name="textAreaLeft" fmla="*/ 0 w 574560"/>
              <a:gd name="textAreaRight" fmla="*/ 574920 w 57456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418920" y="1844640"/>
            <a:ext cx="647640" cy="649440"/>
          </a:xfrm>
          <a:custGeom>
            <a:avLst/>
            <a:gdLst>
              <a:gd name="textAreaLeft" fmla="*/ -360 w 647640"/>
              <a:gd name="textAreaRight" fmla="*/ 647640 w 64764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5219640" y="4221000"/>
            <a:ext cx="574560" cy="649440"/>
          </a:xfrm>
          <a:custGeom>
            <a:avLst/>
            <a:gdLst>
              <a:gd name="textAreaLeft" fmla="*/ 0 w 574560"/>
              <a:gd name="textAreaRight" fmla="*/ 574920 w 574560"/>
              <a:gd name="textAreaTop" fmla="*/ 360 h 649440"/>
              <a:gd name="textAreaBottom" fmla="*/ 650160 h 649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 flipV="1">
            <a:off x="3131280" y="4149720"/>
            <a:ext cx="574920" cy="649440"/>
          </a:xfrm>
          <a:custGeom>
            <a:avLst/>
            <a:gdLst>
              <a:gd name="textAreaLeft" fmla="*/ -360 w 574920"/>
              <a:gd name="textAreaRight" fmla="*/ 574920 w 574920"/>
              <a:gd name="textAreaTop" fmla="*/ 360 h 649440"/>
              <a:gd name="textAreaBottom" fmla="*/ 650160 h 649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3675240" y="4470480"/>
            <a:ext cx="1365120" cy="434880"/>
          </a:xfrm>
          <a:custGeom>
            <a:avLst/>
            <a:gdLst>
              <a:gd name="textAreaLeft" fmla="*/ 213120 w 1365120"/>
              <a:gd name="textAreaRight" fmla="*/ 1194480 w 1365120"/>
              <a:gd name="textAreaTop" fmla="*/ 108720 h 434880"/>
              <a:gd name="textAreaBottom" fmla="*/ 326160 h 434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2268360" y="3068640"/>
            <a:ext cx="789120" cy="216000"/>
          </a:xfrm>
          <a:custGeom>
            <a:avLst/>
            <a:gdLst>
              <a:gd name="textAreaLeft" fmla="*/ 123120 w 789120"/>
              <a:gd name="textAreaRight" fmla="*/ 690480 w 78912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2:32:34Z</dcterms:created>
  <dc:creator>Luca</dc:creator>
  <dc:description/>
  <dc:language>en-US</dc:language>
  <cp:lastModifiedBy>inps</cp:lastModifiedBy>
  <dcterms:modified xsi:type="dcterms:W3CDTF">2007-07-02T05:52:04Z</dcterms:modified>
  <cp:revision>10</cp:revision>
  <dc:subject/>
  <dc:title>Diapositiva 1</dc:title>
</cp:coreProperties>
</file>