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E520-B167-4320-8FB4-8473FA1A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0CA-DC59-41FD-AB2A-F32394D8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954-3FBB-4E31-A929-0F97C2C5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DC4-1FB9-4A61-9EBE-4499423F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4C15C-BA2C-4D73-902A-6F5311B7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393E7-88B5-4D97-9356-80511862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EE275-1B1C-4091-9A44-9516781B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0EF69-53E8-4DB6-B47E-FD07BF19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1743E-734F-4A4D-99DA-59957403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C42E7-886E-45BF-A37F-AE331275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5BE66-E810-48A1-A570-084D5A99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E14-602E-4703-AD55-E948E214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C2972-2498-4A52-8F5A-97187302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B83CD-107E-488E-8B73-6DB39344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A64A18-8F50-4550-A058-D1FA1AFA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98F8F-1141-4280-944F-D1EA606A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B3D08-D5AD-4E6E-A4E4-9CDBDD85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93F-F015-4CCD-A26F-9DC1D57B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116-8E27-4625-8BA9-08B8BF7A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50E1-C0C4-44A2-8AE4-FF6B5807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875-6ED7-4D1C-8C3F-21417A70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E7C4-2B23-4529-A578-48C0A404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03A-0125-4E51-ADAB-C672F0DB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9172-55DC-4C06-8EED-08FCC206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0435-BB50-4F5D-B508-E36B554114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FD57-30BC-44DD-9664-F524F1848A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987640" y="2133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sogno e il destin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9323000">
            <a:off x="3339720" y="1028520"/>
            <a:ext cx="144360" cy="1081080"/>
          </a:xfrm>
          <a:prstGeom prst="upArrow">
            <a:avLst>
              <a:gd name="adj1" fmla="val 50000"/>
              <a:gd name="adj2" fmla="val 187219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275800">
            <a:off x="4938480" y="1028520"/>
            <a:ext cx="142920" cy="1081080"/>
          </a:xfrm>
          <a:prstGeom prst="upArrow">
            <a:avLst>
              <a:gd name="adj1" fmla="val 50000"/>
              <a:gd name="adj2" fmla="val 189106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836640"/>
            <a:ext cx="40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sogno e la religi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ollin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765000"/>
            <a:ext cx="36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sogno nella concezione classic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Virgil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23840" y="0"/>
            <a:ext cx="7077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g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forma di superamento dei limiti um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4206200">
            <a:off x="3097080" y="2311200"/>
            <a:ext cx="118800" cy="1344600"/>
          </a:xfrm>
          <a:prstGeom prst="upArrow">
            <a:avLst>
              <a:gd name="adj1" fmla="val 50000"/>
              <a:gd name="adj2" fmla="val 282955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23040" y="19162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sogno nel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bb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72360" y="19890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sogno nel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cezione mediev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920" y="3213000"/>
            <a:ext cx="201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sogno nel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e Dantes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3680" y="4221000"/>
            <a:ext cx="38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eud e l’interpretazione dei sog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7092720" y="3716280"/>
            <a:ext cx="142920" cy="504720"/>
          </a:xfrm>
          <a:prstGeom prst="upArrow">
            <a:avLst>
              <a:gd name="adj1" fmla="val 50000"/>
              <a:gd name="adj2" fmla="val 88287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581360"/>
            <a:ext cx="69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a perdita della capacità di sognare con il progresso scientific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a 2° rivoluzione industri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Mont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5761440" y="1735920"/>
            <a:ext cx="142920" cy="1081080"/>
          </a:xfrm>
          <a:prstGeom prst="upArrow">
            <a:avLst>
              <a:gd name="adj1" fmla="val 50000"/>
              <a:gd name="adj2" fmla="val 189106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2304360" y="1735560"/>
            <a:ext cx="142920" cy="1081080"/>
          </a:xfrm>
          <a:prstGeom prst="upArrow">
            <a:avLst>
              <a:gd name="adj1" fmla="val 50000"/>
              <a:gd name="adj2" fmla="val 189106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7429800">
            <a:off x="5168160" y="2327760"/>
            <a:ext cx="117360" cy="1309680"/>
          </a:xfrm>
          <a:prstGeom prst="upArrow">
            <a:avLst>
              <a:gd name="adj1" fmla="val 50000"/>
              <a:gd name="adj2" fmla="val 278988"/>
            </a:avLst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1200" y="2997360"/>
            <a:ext cx="20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l sogno nel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ltura popol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7640" y="213372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2133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2133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87640" y="2492280"/>
            <a:ext cx="223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12400" y="639612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rchedi Rosario 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8760" y="6585120"/>
            <a:ext cx="16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08:58:27Z</dcterms:created>
  <dc:creator>giustina</dc:creator>
  <dc:description/>
  <dc:language>en-US</dc:language>
  <cp:lastModifiedBy>giustina</cp:lastModifiedBy>
  <dcterms:modified xsi:type="dcterms:W3CDTF">2008-07-05T10:22:54Z</dcterms:modified>
  <cp:revision>9</cp:revision>
  <dc:subject/>
  <dc:title>      Il Sogno:forma di superamento dei limiti umani</dc:title>
</cp:coreProperties>
</file>