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93A-6304-47DE-8B33-A6C95760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F08-B734-46E5-A14C-24AF241E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C0C-B64B-48CB-9EFB-13E257F3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07F-1E6A-4156-8678-9C3CBE6E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53F-F748-425A-B7B8-3867C6AA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AD1-C6A7-4D8E-9F14-936D886B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EC7-C7E7-4817-B10D-CACA3FB3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D42-5A4A-4066-A798-475A4DF6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342-6B9A-439C-9986-57C33993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840-2FDD-4ACA-9E87-50156E68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E7E-B3E0-4C37-BF7F-94918F63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14A-C55A-428E-90FD-59724DEA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66FD-6F28-4C1F-B414-0B026C050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3.png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8.xml"/><Relationship Id="rId7" Type="http://schemas.openxmlformats.org/officeDocument/2006/relationships/slide" Target="slide16.xml"/><Relationship Id="rId8" Type="http://schemas.openxmlformats.org/officeDocument/2006/relationships/slide" Target="slide10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5229360"/>
            <a:ext cx="720108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...notte...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1268280"/>
            <a:ext cx="4680000" cy="155628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Liceo scientifico “A. Einstein” a.s. 2007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260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Federica Ceco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1159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T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620640"/>
            <a:ext cx="2664000" cy="20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ssa e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stituite per lo più da Idrogeno ed E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mettono energia sotto forma di radiazioni elettromagne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115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ASTERO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620640"/>
            <a:ext cx="2665440" cy="20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iccolissimi cor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ono in grande concentrazione soprattutto nello spazio fra Marte e Gi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213000"/>
            <a:ext cx="266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Due ipotesi sulle origin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. Esplosione di un unico Pian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. Frammentazione di pochi Pianetini con un nucleo di ferro o nichel e un mantello roccio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1159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COM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620640"/>
            <a:ext cx="2663640" cy="20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iccola m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stituiti da ghiaccio e polve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Visibili quando si avvicinano al 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3213000"/>
            <a:ext cx="25192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rovengono da una zona sferica, localizzata ai confini estremi del Sistema Sol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e Comete sono messe in movimento dall’attrazione gravitazionale esercitata dalle Stelle vicine al S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2637000"/>
            <a:ext cx="0" cy="50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7640" y="2637000"/>
            <a:ext cx="0" cy="50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2637000"/>
            <a:ext cx="0" cy="50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00" y="3213000"/>
            <a:ext cx="287964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i formano a partire da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NEBULOSE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di polveri e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ndens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olla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PROTOST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iscald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TELLA DELLA SEQUENZA PRINCIP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5950080"/>
            <a:ext cx="273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573408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573408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5219640" y="602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ETE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33360"/>
            <a:ext cx="10810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66920" y="2781360"/>
            <a:ext cx="0" cy="50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537372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TELLE CA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26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ETE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413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ntrano nell’Atmosfera Cel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2349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 causa dell’att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335772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SI INCENDIANO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, formando una striscia lumi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84360" y="765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ammenti di Comete o Astero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4941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Vengono chia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6920" y="1844640"/>
            <a:ext cx="0" cy="503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4427640" y="2276640"/>
            <a:ext cx="4319640" cy="362016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Book Antiqua"/>
              </a:rPr>
              <a:t>Le </a:t>
            </a:r>
            <a:r>
              <a:rPr b="0" i="1" lang="it-IT" sz="2200" spc="-1" strike="noStrike">
                <a:solidFill>
                  <a:srgbClr val="ffffff"/>
                </a:solidFill>
                <a:latin typeface="Book Antiqua"/>
              </a:rPr>
              <a:t>Perseidi</a:t>
            </a:r>
            <a:r>
              <a:rPr b="0" i="1" lang="it-IT" sz="2200" spc="-1" strike="noStrike">
                <a:solidFill>
                  <a:srgbClr val="ffffff"/>
                </a:solidFill>
                <a:latin typeface="Book Antiqua"/>
              </a:rPr>
              <a:t> sono uno sciame meteorico che l'orbita terrestre attraversa durante il periodo estiv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ffffff"/>
                </a:solidFill>
                <a:latin typeface="Book Antiqua"/>
              </a:rPr>
              <a:t>Esse sono popolarmente note come "Lacrime di San Lorenzo"  in quanto, anticamente, il momento di maggior visibilità era collocato intorno al </a:t>
            </a:r>
            <a:r>
              <a:rPr b="0" i="1" lang="it-IT" sz="2200" spc="-1" strike="noStrike">
                <a:solidFill>
                  <a:srgbClr val="ffffff"/>
                </a:solidFill>
                <a:latin typeface="Book Antiqua"/>
              </a:rPr>
              <a:t>10 agosto</a:t>
            </a:r>
            <a:r>
              <a:rPr b="0" i="1" lang="it-IT" sz="2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9280" y="6093000"/>
            <a:ext cx="3240360" cy="7333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Book Antiqua"/>
              </a:rPr>
              <a:t>Anno 69, ottobre: battaglia tra esercito flaviano ed esercito vitelli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3280" y="2276640"/>
            <a:ext cx="396072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Book Antiqua"/>
              </a:rPr>
              <a:t>I soldati si rimescolano nell’oscurità, così come cap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Book Antiqua"/>
              </a:rPr>
              <a:t>Milites mixti per tenebras ut fors tulerat. [21 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Book Antiqua"/>
              </a:rPr>
              <a:t>Essi sono vogliosi di bottino con il minor dispendio possibile di risorse; la notte è complice: l’ardimento richiesto è uguale, ma c’è maggior libertà di rap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Book Antiqua"/>
              </a:rPr>
              <a:t>Idem audaciae per tenebras inrumpentibus et maiorem rapiendi licentiam. [19 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11640" y="5300640"/>
            <a:ext cx="403236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Book Antiqua"/>
              </a:rPr>
              <a:t>La battaglia dura tutta la notte: alterna, incerta, atroce, rovinosa ora agli uni ora agli alt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Book Antiqua"/>
              </a:rPr>
              <a:t>Tota nocte varium anceps atrox, his, rursus illis exitiable. [22 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125360"/>
            <a:ext cx="35989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3366"/>
                </a:solidFill>
                <a:latin typeface="Book Antiqua"/>
              </a:rPr>
              <a:t>Calavano le ombre della sera, quando giunse il grosso dell’esercito flavi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Book Antiqua"/>
              </a:rPr>
              <a:t>Inumbrante vespera universum Flaviani exercitus robur advenit. [19 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50920" y="5300640"/>
            <a:ext cx="30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50000">
                      <a:srgbClr val="003366"/>
                    </a:gs>
                    <a:gs pos="100000">
                      <a:srgbClr val="99ccff"/>
                    </a:gs>
                  </a:gsLst>
                  <a:lin ang="13500000"/>
                </a:gradFill>
                <a:latin typeface="Monotype Corsiva"/>
              </a:rPr>
              <a:t>LIBER III</a:t>
            </a:r>
            <a:endParaRPr b="1" lang="en-US" sz="1800" spc="1" strike="noStrike">
              <a:ln w="12600">
                <a:solidFill>
                  <a:srgbClr val="bbe0e3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50000">
                    <a:srgbClr val="003366"/>
                  </a:gs>
                  <a:gs pos="100000">
                    <a:srgbClr val="99ccff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 rot="2557200">
            <a:off x="755280" y="2636640"/>
            <a:ext cx="6804000" cy="2447640"/>
          </a:xfrm>
          <a:custGeom>
            <a:avLst/>
            <a:gdLst>
              <a:gd name="textAreaLeft" fmla="*/ 1063080 w 6804000"/>
              <a:gd name="textAreaRight" fmla="*/ 5953680 w 6804000"/>
              <a:gd name="textAreaTop" fmla="*/ 612000 h 2447640"/>
              <a:gd name="textAreaBottom" fmla="*/ 1836000 h 24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15920"/>
            <a:ext cx="8785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IL TACITO NOTTURNO: Le Historia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32000" y="333360"/>
            <a:ext cx="3384360" cy="1739880"/>
          </a:xfrm>
          <a:prstGeom prst="rect">
            <a:avLst/>
          </a:prstGeom>
          <a:noFill/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l BUIO diventa il luogo in cui ogni evento può accadere: la gerarchia dei valori guerrieri, militari e strategici, così ben percepibile alla luce del giorno, viene sovvertita dal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2349360"/>
            <a:ext cx="34560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3366"/>
                </a:solidFill>
                <a:latin typeface="Book Antiqua"/>
              </a:rPr>
              <a:t>“</a:t>
            </a:r>
            <a:r>
              <a:rPr b="0" i="1" lang="it-IT" sz="1600" spc="-1" strike="noStrike">
                <a:solidFill>
                  <a:srgbClr val="003366"/>
                </a:solidFill>
                <a:latin typeface="Book Antiqua"/>
              </a:rPr>
              <a:t>Nihil prodesse virtus, fors cuncta turbare et ignavorum saepe telis fortissimi cadere.” </a:t>
            </a:r>
            <a:r>
              <a:rPr b="0" i="1" lang="it-IT" sz="1000" spc="-1" strike="noStrike">
                <a:solidFill>
                  <a:srgbClr val="003366"/>
                </a:solidFill>
                <a:latin typeface="Book Antiqua"/>
              </a:rPr>
              <a:t>[IV, 29 2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Book Antiqua"/>
              </a:rPr>
              <a:t>“</a:t>
            </a:r>
            <a:r>
              <a:rPr b="0" lang="it-IT" sz="1600" spc="-1" strike="noStrike">
                <a:solidFill>
                  <a:srgbClr val="003366"/>
                </a:solidFill>
                <a:latin typeface="Book Antiqua"/>
              </a:rPr>
              <a:t>A nulla giovava il valore personale: nella caotica confusione spesso i forti cadevano sotto i colpi dei vili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32360" y="765000"/>
            <a:ext cx="3960720" cy="520920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t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è il luogo del caso, del rimescolamento dei destini um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t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è il luogo del mistero, in cui tutto e nulla può accadere, tutto e nulla può essere giustific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t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è talora il luogo della rivelazione o della soluzione degli eventi, lo spazio del sovvert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t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è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tafor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stero esis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vio ricorrente (essere e voler essere) davanti al quale la vita pone di continuo l’u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agilità della condizione u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4581360"/>
            <a:ext cx="3384360" cy="1727280"/>
          </a:xfrm>
          <a:prstGeom prst="rect">
            <a:avLst/>
          </a:prstGeom>
          <a:noFill/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l BUIO suggerisce l’idea di una politica degener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l dibattito si è trasformato in zuffa, rissa, battaglia, gu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108000" y="907920"/>
            <a:ext cx="1224000" cy="532944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932400 h 5329440"/>
              <a:gd name="textAreaBottom" fmla="*/ 3863880 h 532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3366">
                  <a:alpha val="13333"/>
                </a:srgbClr>
              </a:gs>
              <a:gs pos="100000">
                <a:srgbClr val="7490ab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3905280" cy="3240000"/>
          </a:xfrm>
          <a:prstGeom prst="rect">
            <a:avLst/>
          </a:prstGeom>
          <a:ln w="76320">
            <a:solidFill>
              <a:srgbClr val="00274e"/>
            </a:solidFill>
            <a:miter/>
          </a:ln>
        </p:spPr>
      </p:pic>
      <p:sp>
        <p:nvSpPr>
          <p:cNvPr id="201" name=""/>
          <p:cNvSpPr txBox="1"/>
          <p:nvPr/>
        </p:nvSpPr>
        <p:spPr>
          <a:xfrm>
            <a:off x="468360" y="404640"/>
            <a:ext cx="820908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720">
                  <a:solidFill>
                    <a:srgbClr val="ffffff"/>
                  </a:solidFill>
                  <a:miter/>
                </a:ln>
                <a:solidFill>
                  <a:srgbClr val="00274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 SPOSA DEL VENTO</a:t>
            </a:r>
            <a:endParaRPr b="0" lang="en-US" sz="1800" spc="1" strike="noStrike">
              <a:ln w="720">
                <a:solidFill>
                  <a:srgbClr val="ffffff"/>
                </a:solidFill>
                <a:miter/>
              </a:ln>
              <a:solidFill>
                <a:srgbClr val="00274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56000" y="2205000"/>
            <a:ext cx="439272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1746"/>
                </a:solidFill>
                <a:latin typeface="Book Antiqua"/>
                <a:ea typeface="Times New Roman"/>
              </a:rPr>
              <a:t>Als Kokoschka das Bild malte, war der Dichter Georg Trakl fast täglich bei ihm und hat das Gemälde in seinem Gedicht </a:t>
            </a:r>
            <a:r>
              <a:rPr b="1" lang="de-DE" sz="1500" spc="-1" strike="noStrike">
                <a:solidFill>
                  <a:srgbClr val="001746"/>
                </a:solidFill>
                <a:latin typeface="Book Antiqua"/>
                <a:ea typeface="Times New Roman"/>
              </a:rPr>
              <a:t>„Die Nacht"</a:t>
            </a:r>
            <a:r>
              <a:rPr b="1" lang="de-DE" sz="1500" spc="-1" strike="noStrike">
                <a:solidFill>
                  <a:srgbClr val="001746"/>
                </a:solidFill>
                <a:latin typeface="Book Antiqua"/>
                <a:ea typeface="Times New Roman"/>
              </a:rPr>
              <a:t> besunge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500" spc="-1" strike="noStrike">
                <a:solidFill>
                  <a:srgbClr val="001746"/>
                </a:solidFill>
                <a:latin typeface="Monotype Corsiva"/>
                <a:ea typeface="Times New Roman"/>
              </a:rPr>
              <a:t>„</a:t>
            </a:r>
            <a:r>
              <a:rPr b="1" i="1" lang="de-DE" sz="1500" spc="-1" strike="noStrike">
                <a:solidFill>
                  <a:srgbClr val="001746"/>
                </a:solidFill>
                <a:latin typeface="Monotype Corsiva"/>
                <a:ea typeface="Times New Roman"/>
              </a:rPr>
              <a:t>Golden lodern die Feuer der Völker rings. Über schwärzliche Klippen stürzt todestrunken die erglühende Windsbraut, die blaue Woge des Gletschers und es dröhnt gewaltig die Glocke im Tal: Flammen, Flüche und die dunklen Spiele der Wollust stürmt den Himmel ein versteinertes Haupt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1746"/>
                </a:solidFill>
                <a:latin typeface="Book Antiqua"/>
                <a:ea typeface="Times New Roman"/>
              </a:rPr>
              <a:t>Noch zu Almas siebzigstem Geburtstag im August 1949 schrieb Oskar Kokoschka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500" spc="-1" strike="noStrike">
                <a:solidFill>
                  <a:srgbClr val="001746"/>
                </a:solidFill>
                <a:latin typeface="Book Antiqua"/>
                <a:ea typeface="Times New Roman"/>
              </a:rPr>
              <a:t>„</a:t>
            </a:r>
            <a:r>
              <a:rPr b="1" i="1" lang="de-DE" sz="1500" spc="-1" strike="noStrike">
                <a:solidFill>
                  <a:srgbClr val="001746"/>
                </a:solidFill>
                <a:latin typeface="Book Antiqua"/>
                <a:ea typeface="Times New Roman"/>
              </a:rPr>
              <a:t>In meiner Windsbraut sind wir auf ewig vereint!“</a:t>
            </a:r>
            <a:r>
              <a:rPr b="1" lang="it-IT" sz="1500" spc="-1" strike="noStrike">
                <a:solidFill>
                  <a:srgbClr val="001746"/>
                </a:solidFill>
                <a:latin typeface="Book Antiqu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427640" y="1699920"/>
            <a:ext cx="4176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 Antiqua"/>
              </a:rPr>
              <a:t>Camminavo lungo la strada con due amici, quando il sole tramontò: il cielo si tinse all’improvviso di rosso sangue. Mi fermai, mi appoggiai stanco morto a un recinto. Sul fiordo neroazzurro e sulla città c’erano sangue e lingue di fuoco; i miei amici continuavano a camminare e io tremavo ancora di paura, e sentivo che un grande urlo infinito pervadeva la na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dward M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744720" cy="4681800"/>
          </a:xfrm>
          <a:prstGeom prst="rect">
            <a:avLst/>
          </a:prstGeom>
          <a:ln w="152280">
            <a:solidFill>
              <a:srgbClr val="800000"/>
            </a:solidFill>
            <a:miter/>
          </a:ln>
        </p:spPr>
      </p:pic>
      <p:sp>
        <p:nvSpPr>
          <p:cNvPr id="205" name=""/>
          <p:cNvSpPr txBox="1"/>
          <p:nvPr/>
        </p:nvSpPr>
        <p:spPr>
          <a:xfrm>
            <a:off x="216000" y="260280"/>
            <a:ext cx="882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cb63"/>
                    </a:gs>
                    <a:gs pos="50000">
                      <a:srgbClr val="b80000"/>
                    </a:gs>
                    <a:gs pos="100000">
                      <a:srgbClr val="ffcb63"/>
                    </a:gs>
                  </a:gsLst>
                  <a:lin ang="13500000"/>
                </a:gradFill>
                <a:latin typeface="Monotype Corsiva"/>
              </a:rPr>
              <a:t>IL CALARE DELLE TENEBRE</a:t>
            </a:r>
            <a:endParaRPr b="1" lang="en-US" sz="1800" spc="1" strike="noStrike">
              <a:ln w="12600">
                <a:solidFill>
                  <a:srgbClr val="bbe0e3"/>
                </a:solidFill>
                <a:miter/>
              </a:ln>
              <a:gradFill rotWithShape="0">
                <a:gsLst>
                  <a:gs pos="0">
                    <a:srgbClr val="ffcb63"/>
                  </a:gs>
                  <a:gs pos="50000">
                    <a:srgbClr val="b80000"/>
                  </a:gs>
                  <a:gs pos="100000">
                    <a:srgbClr val="ffcb63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5435640" y="579132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IL GELSOMINO NOTTU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136440"/>
            <a:ext cx="3673440" cy="67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E s'aprono i fiori notturni, 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nell'ora che penso a' miei cari.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Sono apparse in mezzo ai viburni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le farfalle crepuscolar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Da un pezzo si tacquero i gridi: 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là sola una casa bisbiglia.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Sotto l'ali dormono i nidi,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come gli occhi sotto le ciglia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Dai calici aperti si esala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l'odore di fragole rosse. 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Splende un lume là nella sala.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Nasce l'erba sopra le fosse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Un'ape tardiva sussurra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trovando già prese le celle.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La Chioccetta per l'aia azzurra 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va col suo pigolio di stelle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Per tutta la notte s'esala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l'odore che passa col vento.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Passa il lume su per la scala;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brilla al primo piano: s'è spento..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È l'alba: si chiudono i petali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un poco gualciti; si cova,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dentro l'urna molle e segreta,</a:t>
            </a:r>
            <a:br>
              <a:rPr sz="1500"/>
            </a:br>
            <a:r>
              <a:rPr b="1" lang="it-IT" sz="1500" spc="-1" strike="noStrike">
                <a:solidFill>
                  <a:srgbClr val="ffffff"/>
                </a:solidFill>
                <a:latin typeface="Book Antiqua"/>
              </a:rPr>
              <a:t>   non so che felicità nuov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00000" y="5229360"/>
            <a:ext cx="720108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...notte...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1268280"/>
            <a:ext cx="4680000" cy="155628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Liceo scientifico “A. Einstein” a.s. 2007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71640" y="260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Federica Ceco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19400" y="437400"/>
            <a:ext cx="2895480" cy="825120"/>
          </a:xfrm>
          <a:prstGeom prst="rect">
            <a:avLst/>
          </a:prstGeom>
          <a:solidFill>
            <a:srgbClr val="000000">
              <a:alpha val="98000"/>
            </a:srgbClr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NOT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80800" y="1786680"/>
            <a:ext cx="9671040" cy="5205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l mondo parallelo si svela con il calare delle tene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2637000"/>
            <a:ext cx="4608360" cy="947160"/>
          </a:xfrm>
          <a:prstGeom prst="rect">
            <a:avLst/>
          </a:prstGeom>
          <a:solidFill>
            <a:srgbClr val="ff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La FUGA DAL REALE diviene poss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123640" y="3645000"/>
            <a:ext cx="2303640" cy="1296720"/>
          </a:xfrm>
          <a:prstGeom prst="line">
            <a:avLst/>
          </a:prstGeom>
          <a:ln w="6336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3645000"/>
            <a:ext cx="2447640" cy="1296720"/>
          </a:xfrm>
          <a:prstGeom prst="line">
            <a:avLst/>
          </a:prstGeom>
          <a:ln w="6336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5084640"/>
            <a:ext cx="2535480" cy="64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Risoluzione delle criticità diu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4906080"/>
            <a:ext cx="2519640" cy="8240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Negazione delle criticità diurne: paura e solitu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5661000"/>
            <a:ext cx="8496000" cy="91692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lla NOTTE Amore e Morte, Eros e Thanatos, si fondono in una mistica unione, che dissolve l’io individuale nell’infinito e gli dà il senso di una suprema e profonda compenetrazione con il tut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0"/>
            <a:ext cx="27241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44313"/>
                      </a:srgbClr>
                    </a:gs>
                    <a:gs pos="100000">
                      <a:srgbClr val="000099">
                        <a:alpha val="44313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FREUD</a:t>
            </a:r>
            <a:endParaRPr b="1" lang="en-US" sz="66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000099">
                      <a:alpha val="44313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29280" y="115920"/>
            <a:ext cx="4914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44313"/>
                      </a:srgbClr>
                    </a:gs>
                    <a:gs pos="100000">
                      <a:srgbClr val="000099">
                        <a:alpha val="44313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Al di là del Principio del Piacere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000099">
                      <a:alpha val="44313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7813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ROS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A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781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HANATOS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M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2846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ULSIONE che tende allo scarico delle tensioni e al massimo piac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328464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ULSIONE che tende a tornare ad uno stato organico, in cui cessano le tensioni e la sofferen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1052640"/>
            <a:ext cx="5183280" cy="1151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mento della Cecità, dell’IRRAZIONALE e delle PULSIONI INCONTR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979280" y="2205000"/>
            <a:ext cx="2663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205000"/>
            <a:ext cx="252108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4508640"/>
            <a:ext cx="4105440" cy="94644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ook Antiqua"/>
              </a:rPr>
              <a:t>Nell’Inconscio, luogo delle Pulsioni, non vigono le leggi della coscienza e della logica, e neppure il principio di non-contraddizione: le pulsioni istintive opposte convivono senza annullars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4788000" y="350028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92280"/>
            <a:ext cx="2159280" cy="129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692280"/>
            <a:ext cx="2087640" cy="129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15920"/>
            <a:ext cx="22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LA NO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989000"/>
            <a:ext cx="4033800" cy="6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RISOLVE LE CRITICITA’ DIU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373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E STELLE CA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1989000"/>
            <a:ext cx="403236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GA LE CRITICITA’ DIURNE paura e solitu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2781360"/>
            <a:ext cx="36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44313"/>
                      </a:srgbClr>
                    </a:gs>
                    <a:gs pos="100000">
                      <a:srgbClr val="000099">
                        <a:alpha val="44313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NOVALIS: Hymne an die Nacht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000099">
                      <a:alpha val="44313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906560" y="5084640"/>
            <a:ext cx="360360" cy="2876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24360" y="2781360"/>
            <a:ext cx="226728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44313"/>
                      </a:srgbClr>
                    </a:gs>
                    <a:gs pos="100000">
                      <a:srgbClr val="000099">
                        <a:alpha val="44313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ACITO: Historia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000099">
                      <a:alpha val="44313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rot="19720800">
            <a:off x="2410920" y="1052280"/>
            <a:ext cx="1514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os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907400">
            <a:off x="5076720" y="1052640"/>
            <a:ext cx="1514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g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5508720" y="292572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5508720" y="414972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682560" y="472608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92572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4645080" y="4797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755640" y="544500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1280" y="3500280"/>
            <a:ext cx="313380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44313"/>
                      </a:srgbClr>
                    </a:gs>
                    <a:gs pos="100000">
                      <a:srgbClr val="000099">
                        <a:alpha val="44313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COLERIDGE: The Rime of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000099">
                      <a:alpha val="44313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1640" y="3933720"/>
            <a:ext cx="24955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44313"/>
                      </a:srgbClr>
                    </a:gs>
                    <a:gs pos="100000">
                      <a:srgbClr val="000099">
                        <a:alpha val="44313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he Ancient Mariner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000099">
                      <a:alpha val="44313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82" name="">
            <a:hlinkClick r:id="rId9" action="ppaction://hlinksldjump"/>
          </p:cNvPr>
          <p:cNvSpPr/>
          <p:nvPr/>
        </p:nvSpPr>
        <p:spPr>
          <a:xfrm>
            <a:off x="39528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98560" y="4581360"/>
            <a:ext cx="2409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44313"/>
                      </a:srgbClr>
                    </a:gs>
                    <a:gs pos="100000">
                      <a:srgbClr val="000099">
                        <a:alpha val="44313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ASCOLI: X Agosto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000099">
                      <a:alpha val="44313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5440" y="3357720"/>
            <a:ext cx="37148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44313"/>
                      </a:srgbClr>
                    </a:gs>
                    <a:gs pos="100000">
                      <a:srgbClr val="000099">
                        <a:alpha val="44313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KOKOSCHKA: La Sposa del Vento</a:t>
            </a:r>
            <a:endParaRPr b="0" lang="en-US" sz="16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000099">
                      <a:alpha val="44313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796000" y="4005360"/>
            <a:ext cx="20383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44313"/>
                      </a:srgbClr>
                    </a:gs>
                    <a:gs pos="100000">
                      <a:srgbClr val="000099">
                        <a:alpha val="44313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MUNCH: Il Grido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000099">
                      <a:alpha val="44313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32360" y="4653000"/>
            <a:ext cx="388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44313"/>
                      </a:srgbClr>
                    </a:gs>
                    <a:gs pos="100000">
                      <a:srgbClr val="000099">
                        <a:alpha val="44313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ASCOLI: Il Gelsomino Notturno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44313"/>
                    </a:srgbClr>
                  </a:gs>
                  <a:gs pos="100000">
                    <a:srgbClr val="000099">
                      <a:alpha val="44313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75640" y="1700280"/>
            <a:ext cx="0" cy="50328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79640" y="1700280"/>
            <a:ext cx="0" cy="50328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341360"/>
            <a:ext cx="2736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Book Antiqua"/>
              </a:rPr>
              <a:t>TAGESL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06920" y="1341360"/>
            <a:ext cx="2737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Book Antiqua"/>
              </a:rPr>
              <a:t>DUNKEL DER N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560" y="2205000"/>
            <a:ext cx="3024360" cy="660600"/>
          </a:xfrm>
          <a:prstGeom prst="rect">
            <a:avLst/>
          </a:prstGeom>
          <a:noFill/>
          <a:ln cap="rnd" w="1908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ook Antiqua"/>
              </a:rPr>
              <a:t>Das rationale Verhältnis der Menschen mit der W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3068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Book Antiqua"/>
              </a:rPr>
              <a:t>Dieses Verhältnis führt </a:t>
            </a:r>
            <a:r>
              <a:rPr b="0" i="1" lang="de-DE" sz="1800" spc="-1" strike="noStrike">
                <a:solidFill>
                  <a:srgbClr val="5fafff"/>
                </a:solidFill>
                <a:latin typeface="Book Antiqua"/>
              </a:rPr>
              <a:t>nicht</a:t>
            </a:r>
            <a:r>
              <a:rPr b="0" i="1" lang="de-DE" sz="1800" spc="-1" strike="noStrike">
                <a:solidFill>
                  <a:srgbClr val="000000"/>
                </a:solidFill>
                <a:latin typeface="Book Antiqua"/>
              </a:rPr>
              <a:t> zu einer wahren Bekannt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3933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ook Antiqua"/>
              </a:rPr>
              <a:t>Das Tageslicht enthüllt nur den </a:t>
            </a:r>
            <a:r>
              <a:rPr b="0" lang="de-DE" sz="1800" spc="-1" strike="noStrike">
                <a:solidFill>
                  <a:srgbClr val="5fafff"/>
                </a:solidFill>
                <a:latin typeface="Book Antiqua"/>
              </a:rPr>
              <a:t>Anschein</a:t>
            </a:r>
            <a:r>
              <a:rPr b="0" lang="de-DE" sz="1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ook Antiqua"/>
              </a:rPr>
              <a:t>alle Sachen verwandeln sich ständ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205000"/>
            <a:ext cx="3024360" cy="647640"/>
          </a:xfrm>
          <a:prstGeom prst="rect">
            <a:avLst/>
          </a:prstGeom>
          <a:noFill/>
          <a:ln cap="rnd" w="1908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ook Antiqua"/>
              </a:rPr>
              <a:t>Irrational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6720" y="3860640"/>
            <a:ext cx="3673440" cy="1191240"/>
          </a:xfrm>
          <a:prstGeom prst="rect">
            <a:avLst/>
          </a:prstGeom>
          <a:noFill/>
          <a:ln w="63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ook Antiqua"/>
              </a:rPr>
              <a:t>Das Dunkel der Nacht bringt den Menschen mit einer Welt die geheimnisvoll, heilig und unsichtbar ist, in Konta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32000" y="1890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99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Hymne an die Nacht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92360" y="981000"/>
            <a:ext cx="1819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99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von NOVALIS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177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5fafff"/>
                </a:solidFill>
                <a:latin typeface="Book Antiqua"/>
              </a:rPr>
              <a:t>symbolis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068640"/>
            <a:ext cx="32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Book Antiqua"/>
              </a:rPr>
              <a:t>Dieses Verhältnis führt zu einer wahren Bekannt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300640"/>
            <a:ext cx="3888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Wie ein König der irdischen Natur ruft es jede Kraft zu zahllosen Verwandlungen, knüpft und löst unendliche Bündnisse, hängt sein himmlisches Bild jedem irdischen Wesen um. - Seine Gegenwart allein offenbart die Wunderherrlichkeit der Reiche der Welt.</a:t>
            </a:r>
            <a:r>
              <a:rPr b="0" lang="it-IT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5373720"/>
            <a:ext cx="3743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Was hältst du unter deinem Mantel, das mir unsichtbar kräftig an die Seele geht? (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Dunkel und unaussprechlich fühlen wir uns bewe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547640" y="333360"/>
            <a:ext cx="9050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SU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580000" y="333360"/>
            <a:ext cx="12574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99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MO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12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1125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IRRA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773360"/>
            <a:ext cx="251928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Negative Events</a:t>
            </a:r>
            <a:r>
              <a:rPr b="0" i="1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2924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eason is neglected by Romantic auth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1773360"/>
            <a:ext cx="2592720" cy="3682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Positiv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2924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d6ff"/>
                </a:solidFill>
                <a:latin typeface="Book Antiqua"/>
              </a:rPr>
              <a:t>IMAG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133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ymbol of a stern divine justice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3645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Coleridge emphasises the supernatural, the mysterious and the dream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5084640"/>
            <a:ext cx="79912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99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The Rime of the Ancient Mariner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03640" y="5950080"/>
            <a:ext cx="22096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by COLERIDGE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1557360"/>
            <a:ext cx="503280" cy="1366920"/>
          </a:xfrm>
          <a:prstGeom prst="downArrow">
            <a:avLst>
              <a:gd name="adj1" fmla="val 50000"/>
              <a:gd name="adj2" fmla="val 67901"/>
            </a:avLst>
          </a:prstGeom>
          <a:solidFill>
            <a:srgbClr val="ffcc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1557360"/>
            <a:ext cx="503280" cy="1366920"/>
          </a:xfrm>
          <a:prstGeom prst="downArrow">
            <a:avLst>
              <a:gd name="adj1" fmla="val 50000"/>
              <a:gd name="adj2" fmla="val 67901"/>
            </a:avLst>
          </a:prstGeom>
          <a:solidFill>
            <a:srgbClr val="99cc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H="1">
            <a:off x="5580000" y="1557360"/>
            <a:ext cx="1152720" cy="0"/>
          </a:xfrm>
          <a:prstGeom prst="line">
            <a:avLst/>
          </a:prstGeom>
          <a:ln w="1908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72360" y="620640"/>
            <a:ext cx="0" cy="36036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692280"/>
            <a:ext cx="0" cy="28872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5400000">
            <a:off x="3507840" y="2763720"/>
            <a:ext cx="1512720" cy="53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atin typeface="Monotype Corsiva"/>
              </a:rPr>
              <a:t>MOON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atin typeface="Monotype Corsiva"/>
              <a:ea typeface="Monotype Corsiva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189000"/>
            <a:ext cx="302436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ment of passage between YESTERDAY and TOMOR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56000" y="189000"/>
            <a:ext cx="1324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7a7a7"/>
                    </a:gs>
                    <a:gs pos="100000">
                      <a:srgbClr val="add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NIGHT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7a7a7"/>
                  </a:gs>
                  <a:gs pos="100000">
                    <a:srgbClr val="add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2" name=""/>
          <p:cNvSpPr/>
          <p:nvPr/>
        </p:nvSpPr>
        <p:spPr>
          <a:xfrm>
            <a:off x="6300720" y="1197000"/>
            <a:ext cx="230508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hey seem to be contemporary, therefore they are both UNRE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981000"/>
            <a:ext cx="144144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981000"/>
            <a:ext cx="0" cy="21600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1197000"/>
            <a:ext cx="16556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During the Night, man is able to find a bal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500280"/>
            <a:ext cx="10080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F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3500280"/>
            <a:ext cx="10080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Solit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724280"/>
            <a:ext cx="2664000" cy="137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The Ancient Mariner feels a sense of disgust thinking about his killing of the Albatross: he compares himself to the slimy creatures in the s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765000"/>
            <a:ext cx="20876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The Nightmare Life-in-Death comes: every mariner d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628640"/>
            <a:ext cx="23036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Four times fifty living m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(And I heard nor sigh nor gro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With heavy tump, a lifeless lum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Monotype Corsiva"/>
                <a:ea typeface="宋体"/>
              </a:rPr>
              <a:t>They dropped down one b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Monotype Corsiva"/>
                <a:ea typeface="宋体"/>
              </a:rPr>
              <a:t> 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Monotype Corsiva"/>
                <a:ea typeface="宋体"/>
              </a:rPr>
              <a:t>The souls did from their bodies fly</a:t>
            </a: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They flied to bliss or wo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And every soul it passed me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Like the whizz of my cross-bow.</a:t>
            </a:r>
            <a:r>
              <a:rPr b="1" lang="it-IT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860640"/>
            <a:ext cx="237636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Monotype Corsiva"/>
                <a:ea typeface="宋体"/>
              </a:rPr>
              <a:t>Alone, alone, all, all alo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Monotype Corsiva"/>
                <a:ea typeface="宋体"/>
              </a:rPr>
              <a:t>Alone on a wide, wide sea</a:t>
            </a: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And never a saint took pity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My </a:t>
            </a:r>
            <a:r>
              <a:rPr b="1" lang="en-GB" sz="1200" spc="-1" strike="noStrike">
                <a:solidFill>
                  <a:srgbClr val="ff9900"/>
                </a:solidFill>
                <a:latin typeface="Monotype Corsiva"/>
                <a:ea typeface="宋体"/>
              </a:rPr>
              <a:t>soul in agony</a:t>
            </a: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The many men, so beauti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And they all dead did l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And a thousand </a:t>
            </a:r>
            <a:r>
              <a:rPr b="1" lang="en-GB" sz="1200" spc="-1" strike="noStrike">
                <a:solidFill>
                  <a:srgbClr val="ff9900"/>
                </a:solidFill>
                <a:latin typeface="Monotype Corsiva"/>
                <a:ea typeface="宋体"/>
              </a:rPr>
              <a:t>thousand slimy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00"/>
                </a:solidFill>
                <a:latin typeface="Monotype Corsiva"/>
                <a:ea typeface="宋体"/>
              </a:rPr>
              <a:t>Lived on; and so did I</a:t>
            </a: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205000"/>
            <a:ext cx="33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Book Antiqua"/>
              </a:rPr>
              <a:t>THE MOON RISES UP IN THE SKY WITH A STAR OR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2781360"/>
            <a:ext cx="331308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In the silvery moonlight the slimy creatures become beautiful water snakes to the mariner’s ey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789360"/>
            <a:ext cx="266544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Within the shadow of the shi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I watched their </a:t>
            </a:r>
            <a:r>
              <a:rPr b="1" lang="en-GB" sz="1200" spc="-1" strike="noStrike">
                <a:solidFill>
                  <a:srgbClr val="99ccff"/>
                </a:solidFill>
                <a:latin typeface="Monotype Corsiva"/>
                <a:ea typeface="宋体"/>
              </a:rPr>
              <a:t>rich attire</a:t>
            </a: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Monotype Corsiva"/>
                <a:ea typeface="宋体"/>
              </a:rPr>
              <a:t>Blue glossy green</a:t>
            </a: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, and </a:t>
            </a:r>
            <a:r>
              <a:rPr b="1" lang="en-GB" sz="1200" spc="-1" strike="noStrike">
                <a:solidFill>
                  <a:srgbClr val="99ccff"/>
                </a:solidFill>
                <a:latin typeface="Monotype Corsiva"/>
                <a:ea typeface="宋体"/>
              </a:rPr>
              <a:t>velvet black</a:t>
            </a: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They coiled and swam; and every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Was </a:t>
            </a:r>
            <a:r>
              <a:rPr b="1" lang="en-GB" sz="1200" spc="-1" strike="noStrike">
                <a:solidFill>
                  <a:srgbClr val="99ccff"/>
                </a:solidFill>
                <a:latin typeface="Monotype Corsiva"/>
                <a:ea typeface="宋体"/>
              </a:rPr>
              <a:t>a flash of golden fire</a:t>
            </a: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O </a:t>
            </a:r>
            <a:r>
              <a:rPr b="1" lang="en-GB" sz="1200" spc="-1" strike="noStrike">
                <a:solidFill>
                  <a:srgbClr val="99ccff"/>
                </a:solidFill>
                <a:latin typeface="Monotype Corsiva"/>
                <a:ea typeface="宋体"/>
              </a:rPr>
              <a:t>happy living things</a:t>
            </a: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! No ton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Their </a:t>
            </a:r>
            <a:r>
              <a:rPr b="1" lang="en-GB" sz="1200" spc="-1" strike="noStrike">
                <a:solidFill>
                  <a:srgbClr val="99ccff"/>
                </a:solidFill>
                <a:latin typeface="Monotype Corsiva"/>
                <a:ea typeface="宋体"/>
              </a:rPr>
              <a:t>beauty</a:t>
            </a: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 might decl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A spring of love gushed from my hea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And I blessed them una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Sure my kind saint took pity on 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Monotype Corsiva"/>
                <a:ea typeface="宋体"/>
              </a:rPr>
              <a:t>And I blessed them una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6093000"/>
            <a:ext cx="49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THE ANCIENT MARINER BECOMES ABLE TO APPRECIATE THE BEAUTY OF NATURE 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87280" y="115920"/>
            <a:ext cx="771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DAY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randomBa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9280" y="2349360"/>
            <a:ext cx="8785440" cy="3816360"/>
          </a:xfrm>
          <a:prstGeom prst="rect">
            <a:avLst/>
          </a:prstGeom>
          <a:solidFill>
            <a:srgbClr val="00005e">
              <a:alpha val="10000"/>
            </a:srgbClr>
          </a:solidFill>
          <a:ln w="7632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92280"/>
            <a:ext cx="4968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San Lorenzo, io lo so perché t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di stelle per l'aria tranqu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arde e cade, perché sì gran pi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nel concavo cielo sfav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Ritornava una rondine al tet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l'uccisero: cadde tra spin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ella aveva nel becco un inset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la cena de’ suoi rondini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Ora è là, come in croce, che te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quel verme a quel cielo lontan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e il suo nido è nell'ombra, che atten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153e"/>
                </a:solidFill>
                <a:latin typeface="Book Antiqua"/>
              </a:rPr>
              <a:t>che pigola sempre più pi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2492280"/>
            <a:ext cx="403236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Anche un uomo tornava al suo ni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l'uccisero: disse: Perdon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e restò negli aperti occhi un gri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portava due bambole in don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Ora là, nella casa romi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lo aspettano, aspettano in va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egli immobile, attonito, add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le bambole al cielo lont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E tu, Cielo, dall'alto dei mon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sereni, infinito, immorta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oh! d'un pianto di stelle lo inon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53e"/>
                </a:solidFill>
                <a:latin typeface="Book Antiqua"/>
              </a:rPr>
              <a:t>quest'atomo opaco del Ma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11280" y="765000"/>
            <a:ext cx="41436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5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X Agosto</a:t>
            </a:r>
            <a:endParaRPr b="0" lang="en-US" sz="66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5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92360" y="2349360"/>
            <a:ext cx="0" cy="144720"/>
          </a:xfrm>
          <a:prstGeom prst="line">
            <a:avLst/>
          </a:prstGeom>
          <a:ln w="38160">
            <a:solidFill>
              <a:srgbClr val="0026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4076640"/>
            <a:ext cx="0" cy="719280"/>
          </a:xfrm>
          <a:prstGeom prst="line">
            <a:avLst/>
          </a:prstGeom>
          <a:ln w="38160">
            <a:solidFill>
              <a:srgbClr val="0026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1197000"/>
            <a:ext cx="0" cy="792000"/>
          </a:xfrm>
          <a:prstGeom prst="line">
            <a:avLst/>
          </a:prstGeom>
          <a:ln w="38160">
            <a:solidFill>
              <a:srgbClr val="0026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1197000"/>
            <a:ext cx="0" cy="792000"/>
          </a:xfrm>
          <a:prstGeom prst="line">
            <a:avLst/>
          </a:prstGeom>
          <a:ln w="38160">
            <a:solidFill>
              <a:srgbClr val="0026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69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672"/>
                </a:solidFill>
                <a:uFillTx/>
                <a:latin typeface="Book Antiqua"/>
              </a:rPr>
              <a:t>CONTRA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549360"/>
            <a:ext cx="2232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6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2"/>
                </a:solidFill>
                <a:latin typeface="Book Antiqua"/>
              </a:rPr>
              <a:t>Vicende dolorose della 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549360"/>
            <a:ext cx="23749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6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2"/>
                </a:solidFill>
                <a:latin typeface="Book Antiqua"/>
              </a:rPr>
              <a:t>Forza equilibratrice della 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989000"/>
            <a:ext cx="107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7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2"/>
                </a:solidFill>
                <a:latin typeface="Book Antiqua"/>
              </a:rPr>
              <a:t>M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989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2"/>
                </a:solidFill>
                <a:latin typeface="Book Antiqua"/>
              </a:rPr>
              <a:t>Stelle cadenti: lacrime del cielo, partecipe al dol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88920" y="272088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2"/>
                </a:solidFill>
                <a:latin typeface="Book Antiqua"/>
              </a:rPr>
              <a:t>Ron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920" y="27208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2"/>
                </a:solidFill>
                <a:latin typeface="Book Antiqua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2494080"/>
            <a:ext cx="1439640" cy="0"/>
          </a:xfrm>
          <a:prstGeom prst="line">
            <a:avLst/>
          </a:prstGeom>
          <a:ln w="38160">
            <a:solidFill>
              <a:srgbClr val="0026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494080"/>
            <a:ext cx="0" cy="287280"/>
          </a:xfrm>
          <a:prstGeom prst="line">
            <a:avLst/>
          </a:prstGeom>
          <a:ln w="38160">
            <a:solidFill>
              <a:srgbClr val="0026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1280" y="2494080"/>
            <a:ext cx="0" cy="287280"/>
          </a:xfrm>
          <a:prstGeom prst="line">
            <a:avLst/>
          </a:prstGeom>
          <a:ln w="38160">
            <a:solidFill>
              <a:srgbClr val="0026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93080" y="4076640"/>
            <a:ext cx="0" cy="792360"/>
          </a:xfrm>
          <a:prstGeom prst="line">
            <a:avLst/>
          </a:prstGeom>
          <a:ln w="38160">
            <a:solidFill>
              <a:srgbClr val="0026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3429000"/>
            <a:ext cx="1224000" cy="642600"/>
          </a:xfrm>
          <a:prstGeom prst="rect">
            <a:avLst/>
          </a:prstGeom>
          <a:solidFill>
            <a:srgbClr val="00005e">
              <a:alpha val="10000"/>
            </a:srgbClr>
          </a:solidFill>
          <a:ln cap="rnd" w="25560">
            <a:solidFill>
              <a:srgbClr val="0026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72"/>
                </a:solidFill>
                <a:latin typeface="Book Antiqua"/>
              </a:rPr>
              <a:t>NOTTE Ci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4869000"/>
            <a:ext cx="2232000" cy="1191960"/>
          </a:xfrm>
          <a:prstGeom prst="rect">
            <a:avLst/>
          </a:prstGeom>
          <a:solidFill>
            <a:srgbClr val="00005e">
              <a:alpha val="10000"/>
            </a:srgbClr>
          </a:solidFill>
          <a:ln w="7632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2"/>
                </a:solidFill>
                <a:latin typeface="Book Antiqua"/>
              </a:rPr>
              <a:t>RIFU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2"/>
                </a:solidFill>
                <a:latin typeface="Book Antiqua"/>
              </a:rPr>
              <a:t>CONS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2"/>
                </a:solidFill>
                <a:latin typeface="Book Antiqua"/>
              </a:rPr>
              <a:t>CONF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3429000"/>
            <a:ext cx="1368360" cy="642600"/>
          </a:xfrm>
          <a:prstGeom prst="rect">
            <a:avLst/>
          </a:prstGeom>
          <a:solidFill>
            <a:srgbClr val="00005e">
              <a:alpha val="10000"/>
            </a:srgbClr>
          </a:solidFill>
          <a:ln cap="rnd" w="25560">
            <a:solidFill>
              <a:srgbClr val="0026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72"/>
                </a:solidFill>
                <a:latin typeface="Book Antiqua"/>
              </a:rPr>
              <a:t>GIORNO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797360"/>
            <a:ext cx="2232000" cy="1224000"/>
          </a:xfrm>
          <a:prstGeom prst="rect">
            <a:avLst/>
          </a:prstGeom>
          <a:solidFill>
            <a:srgbClr val="00005e">
              <a:alpha val="10000"/>
            </a:srgbClr>
          </a:solidFill>
          <a:ln w="76320">
            <a:solidFill>
              <a:srgbClr val="0000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2"/>
                </a:solidFill>
                <a:latin typeface="Book Antiqua"/>
              </a:rPr>
              <a:t>ATOMO OPACO DEL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11019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8:38:21Z</dcterms:created>
  <dc:creator>fede</dc:creator>
  <dc:description/>
  <dc:language>en-US</dc:language>
  <cp:lastModifiedBy>fede</cp:lastModifiedBy>
  <dcterms:modified xsi:type="dcterms:W3CDTF">2008-06-28T07:26:11Z</dcterms:modified>
  <cp:revision>325</cp:revision>
  <dc:subject/>
  <dc:title>Diapositiva 1</dc:title>
</cp:coreProperties>
</file>